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82B-46E1-414D-ADC5-E2C7A600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198-186A-4BF8-BD3A-217C2AF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979-4590-4773-AF65-C251A3F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E93-02DC-478E-8E23-EA14F1E0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E70-D71D-46C9-A1EB-442EA5C0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669-9EA8-4187-A302-B1ACDA8B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539-8F6C-4450-8B5F-6FD6FE2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86E-F84C-4DB2-9C99-8713A27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682-D7BB-4385-99B8-8FA673D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722-8915-40A9-AA3D-C0A9B89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1BF-4D83-46D8-A655-81DAC78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C53-1D8B-4E43-A35B-89FF019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7C5D-D031-48D6-BCC3-32835DAF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цінка потреби населення України в допомозі з припинення кур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40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І.Андрєє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Охорони Здоров’я, Національний університет Києво-Могилянська академія, Andreeva@ukma.kiev.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роблена оцінка дійшла таких результа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цілому щоденними курцями є 13-15 млн. жителів України, з них залежними курцями є, за різними даними, від 8 до 13 мільйонів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требу в припиненні куріння заявляють 8,5-10,3 млн. При цьому вважають, що потребують допомоги, 3,1-4,4 млн. людей. Більш конкретно допомогою лікаря, іншого фахівця або медикаментами готові скористатися 0,5-1,7 млн.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сновки щодо розвитку служб припинення курі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а оцінка дозволяє рекомендувати планування поетапного нарощування послуг з припинення курі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початкових етапах програми, мабуть, достатньо запустити служби, які б були готові надавати допомогу 0,5-1,0 млн. людей на рік, і це приблизно відповідає кількості жителів України, які зменшують споживання сигар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е необхідне поступове розширення цієї допомоги до 2-5 мільйонів людей на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учасна ситу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потребу у допомозі лікаря або іншого фахівця для припинення куріння заявляє більше 1 мільйона курців України, проте протягом 2006 року лише трохи більше 10 тисяч курців отримало таку допо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оцінкам ВООЗ, для розвинених країн, в тому числі України, куріння тютюну є найважливішим фактором втрати років здорового житт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тифікована Україною Рамкова конвенція ВООЗ з боротьби проти тютюну та прийняті в Україні закони передбачають створення умов для отримання курцями кваліфікованої допомоги у припиненні кур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Серед чоловіків зростає частка тих, хто хоче припинити курити і вже мав спроби припинити курі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передбачає розвиток відповідних служ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му метою цій роботи була оцінка потреби населення України в допомозі по припиненню кур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а базувалася на результатах опитування населення України про споживання тютюну 2005 ро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спондентів опитували про статус куріння та його інтенсивність, бажання кинути курити, методи припинення куріння, яким респондент віддає перевагу тощ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такі, хто потребує допомоги у припиненні куріння розглядалися тільки щоденні курці зі значним рівнем тютюнової залеж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а позитивних відповідей з перерахованих у Таблиці питань, окрім першого, оцінювалася серед щоденних курців, далі проводився перерахунок на вибірку опитування в цілому, окремо для чоловіків і для жі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кожної оцінюваної частки розраховувався довірчий інтерв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азники, за якими робились оці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денні кур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менше 10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10 і більше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лять першу сигарету упродовж першої години після проки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отіли б відмовитися від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ажають, що потребують допомоги в припиненні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лік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фахівця з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ють про НЗТ і хотіли б використ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ираються використовувати медикаментозні препарати для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лі, ґрунтуючись на результатах перепису населення 2001 року, проводився перерахунок на населення України 15 років і старше, з урахуванням довірчих інтервал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и, отримані окремо для чоловіків і для жінок, потім підсумовувалися і зараз наведені у таблиці в тисячах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1:45:17Z</dcterms:created>
  <dc:creator>Tatiana Andreeva</dc:creator>
  <dc:description/>
  <dc:language>en-US</dc:language>
  <cp:lastModifiedBy>Tatiana Andreeva</cp:lastModifiedBy>
  <dcterms:modified xsi:type="dcterms:W3CDTF">2008-04-07T08:24:39Z</dcterms:modified>
  <cp:revision>4</cp:revision>
  <dc:subject/>
  <dc:title>Оцінка потреби населення України в допомозі з припинення куріння</dc:title>
</cp:coreProperties>
</file>