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4D3-3D9F-42B1-AACD-259919B2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DE8-E04E-4954-B45F-1D874DE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95D4-F43E-45A3-859F-D1A40A86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52B-833E-4325-99C6-39D2361E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F84-2127-4DD4-B4F8-12583A7F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219-A2EB-4F3F-816E-24575BB6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78D-F3A4-44D6-8C07-0E4D931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441-1820-458E-8760-17117A89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493-267A-4430-B1E3-F517820C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4CB-33AD-450F-B73C-A38C4F8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99C-F4E2-4051-A181-E0BFFE9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8A3-A7D0-4430-9C10-35133D8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82A8-4626-4600-B5D3-ACCF4408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цінка потреби населення України в допомозі з припинення кур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40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І.Андрєє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Охорони Здоров’я, Національний університет Києво-Могилянська академія, Andreeva@ukma.kiev.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роблена оцінка дійшла таких результа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цілому щоденними курцями є 13-15 млн. жителів України, з них залежними курцями є, за різними даними, від 8 до 13 мільйонів люд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требу в припиненні куріння заявляють 8,5-10,3 млн. При цьому вважають, що потребують допомоги, 3,1-4,4 млн. людей. Більш конкретно допомогою лікаря, іншого фахівця або медикаментами готові скористатися 0,5-1,7 млн.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сновки щодо розвитку служб припинення курі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ведена оцінка дозволяє рекомендувати планування поетапного нарощування послуг з припинення курі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 початкових етапах програми, мабуть, достатньо запустити служби, які б були готові надавати допомогу 0,5-1,0 млн. людей на рік, і це приблизно відповідає кількості жителів України, які зменшують споживання сигар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е необхідне поступове розширення цієї допомоги до 2-5 мільйонів людей на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учасна ситу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потребу у допомозі лікаря або іншого фахівця для припинення куріння заявляє більше 1 мільйона курців України, проте протягом 2006 року лише трохи більше 10 тисяч курців отримало таку допо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гідно оцінкам ВООЗ, для розвинених країн, в тому числі України, куріння тютюну є найважливішим фактором втрати років здорового житт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атифікована Україною Рамкова конвенція ВООЗ з боротьби проти тютюну та прийняті в Україні закони передбачають створення умов для отримання курцями кваліфікованої допомоги у припиненні курі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Серед чоловіків зростає частка тих, хто хоче припинити курити і вже мав спроби припинити курінн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Це передбачає розвиток відповідних служ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му метою цій роботи була оцінка потреби населення України в допомозі по припиненню кур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а базувалася на результатах опитування населення України про споживання тютюну 2005 ро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спондентів опитували про статус куріння та його інтенсивність, бажання кинути курити, методи припинення куріння, яким респондент віддає перевагу тощ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такі, хто потребує допомоги у припиненні куріння розглядалися тільки щоденні курці зі значним рівнем тютюнової залеж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а позитивних відповідей з перерахованих у Таблиці питань, окрім першого, оцінювалася серед щоденних курців, далі проводився перерахунок на вибірку опитування в цілому, окремо для чоловіків і для жін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кожної оцінюваної частки розраховувався довірчий інтерв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азники, за якими робились оці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денні кур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менше 10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урюють 10 і більше сигарет на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алять першу сигарету упродовж першої години після прокин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отіли б відмовитися від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ажають, що потребують допомоги в припиненні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лік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раховують на консультацію фахівця з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ють про НЗТ і хотіли б використовув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ираються використовувати медикаментозні препарати для припинення курі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лі, ґрунтуючись на результатах перепису населення 2001 року, проводився перерахунок на населення України 15 років і старше, з урахуванням довірчих інтервал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інки, отримані окремо для чоловіків і для жінок, потім підсумовувалися і зараз наведені у таблиці в тисячах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1:45:17Z</dcterms:created>
  <dc:creator>Tatiana Andreeva</dc:creator>
  <dc:description/>
  <dc:language>en-US</dc:language>
  <cp:lastModifiedBy>Tatiana Andreeva</cp:lastModifiedBy>
  <dcterms:modified xsi:type="dcterms:W3CDTF">2008-04-07T08:24:39Z</dcterms:modified>
  <cp:revision>4</cp:revision>
  <dc:subject/>
  <dc:title>Оцінка потреби населення України в допомозі з припинення куріння</dc:title>
</cp:coreProperties>
</file>