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A72-4989-4979-9FE4-E78D16DE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010-D743-47B2-AF9F-D6EC853B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7CF-2E48-4D02-8415-711A829B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14A-AC58-4429-A0B4-FBF8C16F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193-CCB1-4472-A2B6-2139F2E8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79B-8CA6-4BD8-B555-C5242F5B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843-5314-4597-8C3E-4D1D97F0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5D2-43E2-4794-A309-5AAEAC22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E28-DAF4-4BF6-A7E1-5A580249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7AD-0C61-4145-AECA-8E3FFFD2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4BD-DE83-40E5-82CE-152C07C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0EC-31F8-4E1E-BC04-B82388D1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3339-D157-4A5D-8552-B4FF856F8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цінка потреби населення України в допомозі з припинення кур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40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І.Андрєє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Охорони Здоров’я, Національний університет Києво-Могилянська академія, Andreeva@ukma.kiev.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роблена оцінка дійшла таких результа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цілому щоденними курцями є 13-15 млн. жителів України, з них залежними курцями є, за різними даними, від 8 до 13 мільйонів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требу в припиненні куріння заявляють 8,5-10,3 млн. При цьому вважають, що потребують допомоги, 3,1-4,4 млн. людей. Більш конкретно допомогою лікаря, іншого фахівця або медикаментами готові скористатися 0,5-1,7 млн.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исновки щодо розвитку служб припинення курі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а оцінка дозволяє рекомендувати планування поетапного нарощування послуг з припинення курі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початкових етапах програми, мабуть, достатньо запустити служби, які б були готові надавати допомогу 0,5-1,0 млн. людей на рік, і це приблизно відповідає кількості жителів України, які зменшують споживання сигар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те необхідне поступове розширення цієї допомоги до 2-5 мільйонів людей на рі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учасна ситуац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потребу у допомозі лікаря або іншого фахівця для припинення куріння заявляє більше 1 мільйона курців України, проте протягом 2006 року лише трохи більше 10 тисяч курців отримало таку допом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оцінкам ВООЗ, для розвинених країн, в тому числі України, куріння тютюну є найважливішим фактором втрати років здорового житт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атифікована Україною Рамкова конвенція ВООЗ з боротьби проти тютюну та прийняті в Україні закони передбачають створення умов для отримання курцями кваліфікованої допомоги у припиненні курі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Серед чоловіків зростає частка тих, хто хоче припинити курити і вже мав спроби припинити курінн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е передбачає розвиток відповідних служ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му метою цій роботи була оцінка потреби населення України в допомозі по припиненню кур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інка базувалася на результатах опитування населення України про споживання тютюну 2005 ро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спондентів опитували про статус куріння та його інтенсивність, бажання кинути курити, методи припинення куріння, яким респондент віддає перевагу тощ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такі, хто потребує допомоги у припиненні куріння розглядалися тільки щоденні курці зі значним рівнем тютюнової залеж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астка позитивних відповідей з перерахованих у Таблиці питань, окрім першого, оцінювалася серед щоденних курців, далі проводився перерахунок на вибірку опитування в цілому, окремо для чоловіків і для жін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кожної оцінюваної частки розраховувався довірчий інтерв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казники, за якими робились оці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Щоденні кур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урюють менше 10 сигарет на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урюють 10 і більше сигарет на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алять першу сигарету упродовж першої години після прокин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отіли б відмовитися від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важають, що потребують допомоги в припиненні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аховують на консультацію лік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аховують на консультацію фахівця з припинення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ють про НЗТ і хотіли б використов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ираються використовувати медикаментозні препарати для припинення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лі, ґрунтуючись на результатах перепису населення 2001 року, проводився перерахунок на населення України 15 років і старше, з урахуванням довірчих інтервал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інки, отримані окремо для чоловіків і для жінок, потім підсумовувалися і зараз наведені у таблиці в тисячах чоло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21:45:17Z</dcterms:created>
  <dc:creator>Tatiana Andreeva</dc:creator>
  <dc:description/>
  <dc:language>en-US</dc:language>
  <cp:lastModifiedBy>Tatiana Andreeva</cp:lastModifiedBy>
  <dcterms:modified xsi:type="dcterms:W3CDTF">2008-04-07T08:24:39Z</dcterms:modified>
  <cp:revision>4</cp:revision>
  <dc:subject/>
  <dc:title>Оцінка потреби населення України в допомозі з припинення куріння</dc:title>
</cp:coreProperties>
</file>