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A4B-A6A5-4834-B4C4-2902358D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ACA-DDE8-4A48-804D-C3D3A4C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6FE0-FFF8-483B-8C03-7A6CE962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C04-1050-448C-9A7A-787AB5E6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2CE-F273-4038-9812-E80F63EA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641-9FD8-4D84-A59E-A64BC36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0DA-2D86-478C-BC25-5F038FCB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C89-2A90-4637-AF73-30F55BE6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8D2-BDAB-4670-9741-12564CAE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1FD-A4E7-401C-9485-889DDC1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73D-6458-40BA-87AD-7C20999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532-9DB8-4B75-B477-1B98C846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F0B-873D-40BF-868F-2724428FCB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D306-C376-40CD-A603-DB99F1950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a.donntu.edu.ua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806292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ПЛИВ РЕОПЗИТАРІЮ ВІДКРИТОГО ДОСТУПУ НА ПІДВИЩЕННЯ РЕЙТИНГУ ВН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349000"/>
            <a:ext cx="661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оропаєв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кторія Яків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цент, к.т.н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ординатор проек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bUkr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9" descr="donntu.jpg"/>
          <p:cNvPicPr/>
          <p:nvPr/>
        </p:nvPicPr>
        <p:blipFill>
          <a:blip r:embed="rId1"/>
          <a:stretch/>
        </p:blipFill>
        <p:spPr>
          <a:xfrm>
            <a:off x="285840" y="4859280"/>
            <a:ext cx="8429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C60-CA35-4B19-8A0E-DB0F289E54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A912-BA03-4A06-A414-9DB88A32B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3 Функції E-arhivе  DonNTU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вчальна, спрямована на сприяння навчальному процесу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укова, спрямована на сприяння науково-дослідницькому процесу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відково-інформаційна, спрямована на задоволення інформаційних запитів з різних галузей знан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повнення бібліотечного фонду оригінальними електронними документами та електронними копіями друкованих видань та їх збереженн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2A20-CD73-4DF3-9093-19EBFD8D55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2A9-7330-4FC5-BFA5-F1206F368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4 Структура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руктура E-arhivе  DonNTU відповідає організаційній структурі університету та передбачає створення розділів для інститутів або факультетів, підрозділів для кафедр та тематичних колекцій для відповідних творі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наукові видання та праці ДонНТУ розміщуються у відповідних розділ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CF5-35EB-4593-B0F0-7EA736C114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0EEE-6F0F-40E4-8D29-6816188BF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3. Управління E-arhivе  DonNTU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1  Загальне управління E-arhivе  DonNTU здійснює Координаційна рада з роботи над університетським репозитарієм, до якої входять Перший проректор, Проректор з наукової роботи, директор НТБ, координатор проекту ELibUkr,  завідувач відділу інформаційних технологій та комп’ютерного забезпечення НТБ, адміністратор E‑arhivе  Don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2  Адміністрування, організаційну та технічну підтримку функціонування E-arhivе  DonNTU здійснює Науково-технічна бібліотека ДонНТ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2F2D-4A3A-49FC-A8B1-39E107547F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99AD-F984-477D-A661-7D7E35046B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3 Адміністрування та організаційну підтримку функціонування фондів E-arhivе  DonNTU здійснюють координатори відповідних підрозділів (інститутів, факультетів) ДонНТУ та відповідальні секретарі наукових збі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4 Контролюючі функції щодо організації роботи по наповненню архіву виконують уповноважені посадові особи (п.4.4.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1C5A-CF7A-4AF5-AD04-556290BD3F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124-E91A-412D-B71E-B09E56628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4. Принципи наповнення та функціонування E-arhiv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DonNTU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овнюється науковими, науково-методичними, навчальними та інформаційно-рекламними творами, при створенні яких використовувалися ресурс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онНТ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дрові, матеріально-технічні, фінансові, нормативно-дозвільні, іміджеві тощо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E322-8D4E-45A2-AC71-A80617C9B4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601A-A16E-48FE-AE5C-9EDD265D8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окрема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в’язковому порядк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озміщуютьс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E-arhivе DonNTU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и, які рекомендовані до видання Вченою радою університету та / або видані при повному або частковому фінансуванн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видавництві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онНТУ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о в інших видавництв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цьому автори заздалегідь повинні повідомляти видавців про політику відкритого доступу, яку підтримує університет, у тому числі і щодо розміщення творів у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E-arhivе DonNT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раховувати вищезазначене при укладанні договорів із видавництв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94D-1F8C-4391-A5BD-6C82BDA5ED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EAD-7731-477F-B78F-D835FFE8EB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разі існування договорів із видавцями, що унеможливлюють розміщення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E-arhivе  DonNT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ного твору, архівується препринт твору або його описова частина (бібліографія, анотація), а також (при відсутності заборони з боку видавця) перша сторінка твору з посиланням на ресурс зберігання матеріал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бот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гістранті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і студентів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розміщають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 рекомендац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кового керівника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A9B0-F716-4607-AF94-0BAD8AAD01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F1AA-009D-4C3E-B1B6-118936104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3 Твори, які розміщуються у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E-arhivе  DonNTU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поділяються на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1  твори, що самостійно архівуються авторами після надання ними згоди на розміщення твору на умовах авторського дого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3.2  твори, що архівуються координаторами відповідних підрозділів (інститутів, факультетів) ДонНТУ за відповідним дорученням автора, яке передбачає, у тому числі, його згоду з умовами авторського договору та передачу ним координатору електронної копії тво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FD7-0809-4148-A9F5-1C9F931810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50FA-B0F4-4B48-8D57-BDA471D488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3 матеріали збірників конференцій, що проводяться в університеті, та наукових праць ДонНТУ, що архівуються секретарями організаційних комітетів конференцій та відповідальними секретарями наукових збір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92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3.4 видання авторів ДонНТУ минулих років, які скануються та архівуються співробітниками НТ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3E6F-CA67-4245-9EEE-D50E8B66DD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CB36-D9BE-4631-B357-DE443B52F8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1 Здійснювати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контроль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розміщення творів усіх типів, зазначених у п. 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чений секретар ДонНТУ контролює архівування та само архівування на етапі затвердження списку наукових публікацій автора за останні 5 років, у формі якого передбачається посилання на місце розміщення твору в E-arhivе  DonNTU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діл аспірантури та докторантури контролює самоархівування авторефератів і дисертацій авторами, які захистили дисертації у спеціалізованих вчених радах ДонНТУ або інших організаці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екани контролюють розміщення навчально-методичних матеріалів на етапі перевірки готовності кафедр до навчального ро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A3F1-9D85-49EC-92EB-25B1393350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15AE-2569-47B2-98F6-FBBB508D6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лектронний архів ДонНТУ –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archive Don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ea.donntu.edu.u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Фонди – структурні підрозділи, “Наукові видання”, “Наукові праці” Дон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ідфонди, колекції – за рішенням факультету (інститут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CC20-84DC-45EB-A61B-16FC6A1357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DF41-AFF8-4EA4-A1F8-9F6A676FD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4.2 При визначенні щорічного рейтингу структурних підрозділів ДонНТУ та індивідуального рейтингу співробітників враховувати кількість розміщених творів у E‑arhivе Don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4A9-1969-4F63-AEA0-9AEC52216C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F768-B1D4-45C3-9F4A-1BB1F599C3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5 Процедура архівування в E-arhivе DonNTU здійснюється шляхом поетапного заповнення полів, які містять основний набір даних про твір (метаданих)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тор, назва, анотація, ключові слова: для наукових публікацій – російською, українською та англійською мовами, для решти – мовою оригінал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ля творів, що були опубліковані раніше: рік видання,  видавництво, класифікатор, бібліографічний опи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A8B-E0F1-45ED-ADCB-231A5C2563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1DE-2DD8-48AE-B313-01AE8AC6C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точна ситу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більше 400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Більшість – самоархівування,  бібліотекарі здійснюють методично-консультативну підтрим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15 4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18 7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0CA6-122C-40F7-86F0-7C0A98899B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1ED7-A8B1-46E1-9833-4A08620DA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50920" y="1401840"/>
          <a:ext cx="835344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01840"/>
                    <a:ext cx="835344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ередній час перебування на сай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2 р. – 2 хвил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чаток 2013 р. – більше 10 хв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ередня кількість переглядів збільшилась з  37 до 8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947E-3F69-46C9-ACBC-485EB5AEC8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5717-B7C4-40D9-B8BC-60F83559D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489-2952-421C-93AD-311E510B3B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9BD-D4E4-4A6E-9E64-FE7CF76EB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 потрібні нам рейтинг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j0299171"/>
          <p:cNvPicPr/>
          <p:nvPr/>
        </p:nvPicPr>
        <p:blipFill>
          <a:blip r:embed="rId1"/>
          <a:stretch/>
        </p:blipFill>
        <p:spPr>
          <a:xfrm>
            <a:off x="0" y="3716280"/>
            <a:ext cx="183204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j0090070"/>
          <p:cNvPicPr/>
          <p:nvPr/>
        </p:nvPicPr>
        <p:blipFill>
          <a:blip r:embed="rId2"/>
          <a:stretch/>
        </p:blipFill>
        <p:spPr>
          <a:xfrm>
            <a:off x="1908000" y="2205000"/>
            <a:ext cx="1854360" cy="230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0233018"/>
          <p:cNvPicPr/>
          <p:nvPr/>
        </p:nvPicPr>
        <p:blipFill>
          <a:blip r:embed="rId3"/>
          <a:stretch/>
        </p:blipFill>
        <p:spPr>
          <a:xfrm>
            <a:off x="3851280" y="1125360"/>
            <a:ext cx="2262240" cy="230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210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60F1-4E82-44AB-896E-FB19ED9BC3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811C-1791-4BD6-8E91-6228CDF16F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країнські рейтинги виш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69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ЕСКО «ТОП-200» Україна «трансформирует к условиям Украины идеи … международных рейтингов» - ДонНТУ на 16 місці (2012), 17 (2011, 2010,2009), 15 (2008,200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ВНЗ України «Компас» «отражает оценку ВУЗов выпускниками и работодателями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НТУ на 6 місці у 2012 р.,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1, 2010, 3 – 2009, 5 – 2007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йтинг присутності  у Scop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олідований рейтинг освітнього порталу «Освіта» по матеріалах ЮНЕСКО "Топ-200 Україна", "Компас"   і 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бометрі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 ("На наш погляд, цей єдиний рейтинг, складений на основі трьох, яким довіряють на українському освітньому ринку, відображає ситуацію у сфері української вищої освіти"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EC74-B6D8-48D1-84EC-2AC14F0FC8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8B54-4D73-467D-9D1C-6707CB640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0" t="0" r="25585" b="41880"/>
          <a:stretch/>
        </p:blipFill>
        <p:spPr>
          <a:xfrm>
            <a:off x="0" y="836640"/>
            <a:ext cx="9072720" cy="56689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ЮНЕСКО топ 200 Украї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50B-0609-4729-A6A7-B056BBAEE8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0181-46EB-4078-82E5-E165522ED6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Компас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9362" r="0" b="8546"/>
          <a:stretch/>
        </p:blipFill>
        <p:spPr>
          <a:xfrm>
            <a:off x="0" y="765000"/>
            <a:ext cx="9013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2A37-57AE-46DF-86F2-C81C377B71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E8C-C3D4-431D-89AD-5FD484074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C8D2-CBAB-4F3F-973B-8F55A7F421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30A3-B568-43A2-95DA-D695CCAD4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чаткова стати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Колекцій (діючих) – 47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2 – самоархівування, решта - бібліотекар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Назв – 5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вторів – 6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E1E1-FD5D-4EE8-8651-075C84FE95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B06-590E-4B3F-BB84-E06E42185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солідований рейтинг «Освіта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иївськи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Київський національний університет ім. Тараса Шевчен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Національний університет "Києво-Могилянська академія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ціональний університет "Львівська політехніка"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Харковській політехнічний інститу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Київський національний економічний університет ім. Гетьма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Донецький національний технічни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Дніпропетровський національний університет ім. Гонча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Донецький національ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Львівський національний університет ім. Франк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Національний авіацій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Одеський національний університет ім. Мечнико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Харківський національний університет ім. Каразі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Харківський національний університет радіоелектроні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. Восточноукраінській національний університет ім. Дал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6. Національний університет біоресурсів і природокористуванн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7. Одеський національний політехнічний університ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8. Тернопільський національний технічний університет ім. Пулю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9. Національний аерокосмічний університет ім. Жуковськ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. Чернівецький національний університет ім. Федькови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B59E-D65F-4F06-AE5A-119F91F775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43C-558F-4E66-8D06-B5302BC05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00000" y="404640"/>
          <a:ext cx="7345440" cy="5954760"/>
        </p:xfrm>
        <a:graphic>
          <a:graphicData uri="http://schemas.openxmlformats.org/drawingml/2006/table">
            <a:tbl>
              <a:tblPr/>
              <a:tblGrid>
                <a:gridCol w="3382920"/>
                <a:gridCol w="792360"/>
                <a:gridCol w="892080"/>
                <a:gridCol w="777960"/>
                <a:gridCol w="763560"/>
                <a:gridCol w="736560"/>
              </a:tblGrid>
              <a:tr h="3574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солидированный рейтинг вузов Украины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вание ВУ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ста 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.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ЮНЕС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мп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ебометрик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У "Киї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університет ім. Т. Шевч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Києво-Могилянська академія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іональний університет "Львівська політехні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ТУ "Харківський політехнічний інститу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ївський національний економічний університет ім. В.Гетьм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Донецький національний технічний уні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0080"/>
                          </a:solidFill>
                          <a:latin typeface="Arial Cyr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A6D-7770-4EB6-8791-CC2AD16B3C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3D95-E5AA-4ADF-9D12-803C82C26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вітові рейтинги університет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адемічний (Шанхайськ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йтинг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QS з 2010 р. розділився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Q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йм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son Reuter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F84-FB1D-45E0-B39A-24CE1E6FBD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1269-87D2-4AF0-8B73-9D8E66C2D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ку впливає на рейтинг присутність ВНЗ у Інтерн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ебометрикс – напряму: оцінюється Інтернет - присутні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ешти – опосередковано: для роста цитованості результати НДР слід системно подавати на офіційних сайтах (зокрема, в інституціональному репозитарії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ишів Україны Вебометрик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єдиний доступний міжнародний рейт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A822-70F1-4978-9C2E-7DECDBD990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86D4-C3FF-4E6B-B96F-B085AB188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ика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Webo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35234" t="38185" r="14558" b="41880"/>
          <a:stretch/>
        </p:blipFill>
        <p:spPr>
          <a:xfrm>
            <a:off x="755640" y="2421000"/>
            <a:ext cx="78138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64B1-D4E0-4ED3-B33C-54BDD4A74F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8BC0-F004-47FE-94ED-320ECDABC7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0C5-38FF-4B04-808B-DA4CFCE24F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9A92-6507-4644-BC6C-91BEA0D7E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ropayeva@donntu.edu.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FD73-952C-4E27-A3AE-AB3F4E947E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87A5-B842-4FC7-B111-F76BB4FA9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облеми і перспек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охочення авторів до самоархівації – 3.02.2011 – семінар для науковців ДонН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твердження положення про ЕА на Вченій раді ДонНТУ (ради факультетів розглянули проект положенн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онтроль авторства та якості – шлях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бмежене коло ел.адрес для депозито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еханізм рецензуванн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DC38-5A4A-4D64-9763-D8423F56F83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5AE-5159-495E-B44C-540102D46D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аз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 </a:t>
            </a:r>
            <a:r>
              <a:rPr b="0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розвиток електронного архіву університе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сім дослідникам, викладачам ДонНТУ обов’язково розміщати (шляхом самоархівування) свої наукові, дослідницькі, навчальні та методичні матеріали в університетському електронному архіві. Статті, що мають період «ембарго», виставляти після закінчення цього періо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жний підрозділ, зареєстрований для участі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(інститут, факультет, кафедра та ін.) зобов’язаний призначити координатора, який має контактувати з бібліотекою для підтримки  архів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повідальність за організацію роботи по наповненню архіву на факультетах покласти на заступників деканів з наукової робо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ординатору по роботі з підрозділами від бібліотеки розповсюдити положення пр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hi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 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NTU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і методику самоархівування, організувати консультативну допомогу авторам та координаторам підрозділ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ACE-05DA-4A17-BF60-20006FD5280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07C6-0454-4126-BCDE-C6021FDA82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. Загальні положення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1  Дане Положення визначає основні поняття, завдання, принципи наповнення, функціонування і управління Електронним архівом ДонНТУ. До Положення у мотивованих випадках за наказом ректора або за рішенням Вченої ради ДонНТУ можуть вноситися відповідні змі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2  Електронний архів ДонНТУ (далі – E-arhivе  DonNTU) – це університетський репозитарій, що накопичує, систематизує, зберігає та забезпечує довготривалий відкритий доступ до творів шляхом їх архівування та самоархівування і має доменне ім’я </a:t>
            </a:r>
            <a:r>
              <a:rPr b="0" lang="uk-U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a.donntu.edu.ua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D49F-B8BE-4C65-B3D1-93F99E5975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0B1B-9558-4C9F-A3FC-496D408F7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.3 Функціонування E-arhivе  DonNTU здійснюється відповідно д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ложення про E-arhivе  DonNTU та наказу по ДонНТУ №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49-1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від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Calibri"/>
              </a:rPr>
              <a:t>08.06  2011 р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бібліотеки і бібліотечну справу" (№ 32/95-ВР від 27.01.1995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авторське право і суміжні права" (№ 3792-12 від 23.12.1993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Національну програму інформатизації" (№ 74/98-ВР від 04.02.1998) та Закон України "Про Основні засади розвитку інформаційного суспільства в Україні на 2007 - 2015 роки" (№ 537-V від 09.01.2007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електронні документи та електронний документообіг" від 22.05.2003 № 85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акону України "Про захист інформації в автоматизованих системах"(№ 80/94-ВР від 05.07.199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F07-DAD3-471E-8AE5-B7D0F8A88D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7B78-30EB-4539-BA4B-37CC6B2B4E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 Призначення, мета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завдання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ункції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 та структура E-arhivе  DonN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1 Призначення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E-arhivе  DonNTU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Шляхом створення, збереження та надання вільного доступу до наукової інформації,  дослідженням та навчально-методичним матеріалам ДонНТУ сприяти розвитку науки і освіти  в Україні та світ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ECD-2306-41F8-8D13-753EB48166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Воропаєва В.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A7B-05C1-4297-9CF7-0080F6647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.2 Завдання E-arhivе  DonNTU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безпечити місце і спосіб централізованого і довготривалого зберігання в електронному вигляді повних текстів твор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рияти зростанню популярності університету шляхом представлення його наукової продукції у глобальній мережі. Збільшити цитованість наукових публікацій працівників ДонНТУ шляхом забезпечення вільного доступу до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творити надійну і доступну систему обліку публікацій факультетів і окремих працівникі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7:46:00Z</dcterms:created>
  <dc:creator>Customer</dc:creator>
  <dc:description/>
  <dc:language>en-US</dc:language>
  <cp:lastModifiedBy>Марина</cp:lastModifiedBy>
  <dcterms:modified xsi:type="dcterms:W3CDTF">2013-01-30T07:12:22Z</dcterms:modified>
  <cp:revision>541</cp:revision>
  <dc:subject/>
  <dc:title>Слайд 1</dc:title>
</cp:coreProperties>
</file>