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A71-3DB9-4ACD-9F20-AFEA8D15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56F-9ABD-4672-9829-BE66832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969-27CB-4940-9277-90A0E714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FDB-3A96-441D-BBB1-55073C83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5FE-5300-4311-9953-9578BA1B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52F-3524-476F-9D96-1493491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2B1-0C0E-41BC-85B7-B447CB4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E28-6609-4534-A42D-316045C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76B-A1F2-49A6-A704-C5E501A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8FB-3532-48DF-8D83-6EEF04C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164-2AAD-4C2E-A359-E84E340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4C4-7A1A-4E05-A2D4-43254AE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D52-6C4F-41EF-836D-5E4B4D5709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59C-BC62-419B-BA85-EFB8B33D8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ПЛИВ РЕОПЗИТАРІЮ ВІДКРИТОГО ДОСТУПУ НА ПІДВИЩЕННЯ РЕЙТИНГУ ВН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661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ропаєв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кторія Які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цент, к.т.н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ординатор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9" descr="donntu.jpg"/>
          <p:cNvPicPr/>
          <p:nvPr/>
        </p:nvPicPr>
        <p:blipFill>
          <a:blip r:embed="rId1"/>
          <a:stretch/>
        </p:blipFill>
        <p:spPr>
          <a:xfrm>
            <a:off x="285840" y="4859280"/>
            <a:ext cx="8429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9F84-A885-4D15-9768-1402C5F756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BDB1-73F0-41E5-9E60-2908695EA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3 Функції E-arhivе  DonNTU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вчальна, спрямована на сприяння навчальному процес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укова, спрямована на сприяння науково-дослідницькому процесу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відково-інформаційна, спрямована на задоволення інформаційних запитів з різних галузей знан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повнення бібліотечного фонду оригінальними електронними документами та електронними копіями друкованих видань та їх збереже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62F-A2D5-4354-B368-AB0C36F8B7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62B6-1A79-4B64-ACF6-C5ECF0CC9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4 Структур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руктура E-arhivе  DonNTU відповідає організаційній структурі університету та передбачає створення розділів для інститутів або факультетів, підрозділів для кафедр та тематичних колекцій для відповідних твор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укові видання та праці ДонНТУ розміщуються у відповідних розділ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A06A-C006-43B5-941E-8FAF8A0579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81B-AD1D-47E7-9550-0C13E3EC5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3. Управління E-arhivе  DonNTU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1  Загальне управління E-arhivе  DonNTU здійснює Координаційна рада з роботи над університетським репозитарієм, до якої входять Перший проректор, Проректор з наукової роботи, директор НТБ, координатор проекту ELibUkr,  завідувач відділу інформаційних технологій та комп’ютерного забезпечення НТБ, адміністратор E‑arhivе  Don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2  Адміністрування, організаційну та технічну підтримку функціонування E-arhivе  DonNTU здійснює Науково-технічна бібліотека ДонНТ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4840-EE16-4B96-8F3C-69CD29E365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768-E00A-460D-9D79-2D9A0D429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3 Адміністрування та організаційну підтримку функціонування фондів E-arhivе  DonNTU здійснюють координатори відповідних підрозділів (інститутів, факультетів) ДонНТУ та відповідальні секретарі наукових збі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4 Контролюючі функції щодо організації роботи по наповненню архіву виконують уповноважені посадові особи (п.4.4.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3059-82E8-4543-B815-58CFE0D719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1D6-0CCA-4444-B628-9E1C775F5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4. Принципи наповнення та функціонування E-arhiv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DonNTU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овнюється науковими, науково-методичними, навчальними та інформаційно-рекламними творами, при створенні яких використовувалися ресурс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нНТ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дрові, матеріально-технічні, фінансові, нормативно-дозвільні, іміджеві тощ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11C-B8F4-4C80-AB8D-61035B1B97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FC5-7FAD-416C-B1C3-0146F9C6D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крема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в’язковому порядк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озміщуютьс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E-arhivе DonNT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и, які рекомендовані до видання Вченою радою університету та / або видані при повному або частковому фінансуванн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видавництв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о в інших видавництв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цьому автори заздалегідь повинні повідомляти видавців про політику відкритого доступу, яку підтримує університет, у тому числі і щодо розміщення творів у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E-arhivе DonNT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раховувати вищезазначене при укладанні договорів із видавницт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066-D29B-4E4B-A7E7-644CCD30C0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687-343D-4E8C-A86D-6387A4F64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разі існування договорів із видавцями, що унеможливлюють розміщення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E-arhivе  DonNT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ного твору, архівується препринт твору або його описова частина (бібліографія, анотація), а також (при відсутності заборони з боку видавця) перша сторінка твору з посиланням на ресурс зберігання матеріал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о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гістранті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і студент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міщаю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 рекомендац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кового керівник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D752-0421-4E78-BCDF-5C2A87C8D1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890F-C6A9-45E4-A84F-5E84B63BB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3 Твори, які розміщуються у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поділяються н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1  твори, що самостійно архівуються авторами після надання ними згоди на розміщення твору на умовах авторського дого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2  твори, що архівуються координаторами відповідних підрозділів (інститутів, факультетів) ДонНТУ за відповідним дорученням автора, яке передбачає, у тому числі, його згоду з умовами авторського договору та передачу ним координатору електронної копії т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054-466E-4BB2-8231-FE6F17631B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8BE-0C15-4E9B-B12C-44285516B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3 матеріали збірників конференцій, що проводяться в університеті, та наукових праць ДонНТУ, що архівуються секретарями організаційних комітетів конференцій та відповідальними секретарями наукових збір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4 видання авторів ДонНТУ минулих років, які скануються та архівуються співробітниками НТ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7D5C-AF1C-47A0-B890-87446FF7D0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049-87B9-44B6-8E37-68833BFA7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1 Здійснювати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онтроль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розміщення творів усіх типів, зазначених у п. 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чений секретар ДонНТУ контролює архівування та само архівування на етапі затвердження списку наукових публікацій автора за останні 5 років, у формі якого передбачається посилання на місце розміщення твору в E-arhivе  DonNT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діл аспірантури та докторантури контролює самоархівування авторефератів і дисертацій авторами, які захистили дисертації у спеціалізованих вчених радах ДонНТУ або інших організа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кани контролюють розміщення навчально-методичних матеріалів на етапі перевірки готовності кафедр до навчального ро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C1BB-D997-4D09-A251-25D27D0337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6D35-00C5-4E1F-9269-36C24B58A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лектронний архів ДонНТУ –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archive Don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a.donntu.edu.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нди – структурні підрозділи, “Наукові видання”, “Наукові праці”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фонди, колекції – за рішенням факультету (інститут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01E7-150D-4212-A4DD-686698BBE0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781-CC2B-4F55-AB0E-DD174EFC2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2 При визначенні щорічного рейтингу структурних підрозділів ДонНТУ та індивідуального рейтингу співробітників враховувати кількість розміщених творів у E‑arhivе Don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7FF-5BE8-45F8-8C3E-89F01C4700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575-F66B-4571-908F-F93981564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5 Процедура архівування в E-arhivе DonNTU здійснюється шляхом поетапного заповнення полів, які містять основний набір даних про твір (метаданих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тор, назва, анотація, ключові слова: для наукових публікацій – російською, українською та англійською мовами, для решти – мовою оригін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ля творів, що були опубліковані раніше: рік видання,  видавництво, класифікатор, бібліографічний опи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4C0-A361-4A79-AEB0-C3C7D66F45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F0A-6A2A-449E-93E6-887B0D7C9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точна ситу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більше 400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Більшість – самоархівування,  бібліотекарі здійснюють методично-консультативну підтрим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15 4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18 7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DE80-BD76-4DD7-AE70-29D681C974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6BA-E303-4AF1-912E-20F979047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50920" y="1401840"/>
          <a:ext cx="835344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01840"/>
                    <a:ext cx="835344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ередній час перебування на сай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2 р. – 2 хвил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3 р. – більше 10 хв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ередня кількість переглядів збільшилась з  37 до 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F315-169E-426C-BB1D-B37851C62F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094D-11BD-4778-B1B9-806917100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862-83E4-4FDF-B850-BC389C2E32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B34F-4046-4A86-A5C6-4C112CC42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 потрібні нам рейтинг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j0299171"/>
          <p:cNvPicPr/>
          <p:nvPr/>
        </p:nvPicPr>
        <p:blipFill>
          <a:blip r:embed="rId1"/>
          <a:stretch/>
        </p:blipFill>
        <p:spPr>
          <a:xfrm>
            <a:off x="0" y="3716280"/>
            <a:ext cx="183204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j0090070"/>
          <p:cNvPicPr/>
          <p:nvPr/>
        </p:nvPicPr>
        <p:blipFill>
          <a:blip r:embed="rId2"/>
          <a:stretch/>
        </p:blipFill>
        <p:spPr>
          <a:xfrm>
            <a:off x="1908000" y="2205000"/>
            <a:ext cx="1854360" cy="230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233018"/>
          <p:cNvPicPr/>
          <p:nvPr/>
        </p:nvPicPr>
        <p:blipFill>
          <a:blip r:embed="rId3"/>
          <a:stretch/>
        </p:blipFill>
        <p:spPr>
          <a:xfrm>
            <a:off x="3851280" y="112536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210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B6F-CC07-40AC-8316-299862E01D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41B-FA70-4696-AFA5-411912BE5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раїнські рейтинги виш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69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ЕСКО «ТОП-200» Україна «трансформирует к условиям Украины идеи … международных рейтингов» - ДонНТУ на 16 місці (2012), 17 (2011, 2010,2009), 15 (2008,200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ВНЗ України «Компас» «отражает оценку ВУЗов выпускниками и работодателям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НТУ на 6 місці у 2012 р.,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1, 2010, 3 – 2009, 5 – 2007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присутності  у Scop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олідований рейтинг освітнього порталу «Освіта» по матеріалах ЮНЕСКО "Топ-200 Україна", "Компас"   і 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бометрі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("На наш погляд, цей єдиний рейтинг, складений на основі трьох, яким довіряють на українському освітньому ринку, відображає ситуацію у сфері української вищої освіти"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29F1-7CAC-4DF0-9204-1E2F6A8146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83F-81D6-4999-8E3A-3DE9ADAE3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25585" b="41880"/>
          <a:stretch/>
        </p:blipFill>
        <p:spPr>
          <a:xfrm>
            <a:off x="0" y="836640"/>
            <a:ext cx="9072720" cy="5668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ЮНЕСКО топ 200 Украї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AD4-953B-4141-898F-52F6815D55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CA8-20BE-4868-81C9-DE5C492D2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Компас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9362" r="0" b="8546"/>
          <a:stretch/>
        </p:blipFill>
        <p:spPr>
          <a:xfrm>
            <a:off x="0" y="765000"/>
            <a:ext cx="9013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DA0-2028-40F4-B814-C4CFA7D0378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970-B379-4ADD-8AA5-DD1EED19C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C70-6978-4D79-8E70-70762DD9F1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A3F-AAD9-41D0-BD48-AD58FF35D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чаткова стат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47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 – самоархівування, решта - бібліотекар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5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6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CBD1-8D77-4453-9229-ACBB6C38D5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DA6-4662-4783-B274-3A1B3DF5E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солідований рейтинг «Освіта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иївськи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иївський національний університет ім. Тараса Шевчен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ціональний університет "Києво-Могилянська академія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ціональний університет "Львівська політехніка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Харковські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ївський національний економічний університет ім. Гетьма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нецький національний технічни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Дніпропетровський національний університет ім. Гонча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Донецький національ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Львівський національний університет ім. Фран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Національний авіацій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Одеський національний університет ім. Мечнико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Харківський національний університет ім. Каразі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Харківський національний університет радіоелектроні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Восточноукраінській національний університет ім. Да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Національний університет біоресурсів і природокористуванн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7. Одеський національний політехніч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Тернопільський національний технічний університет ім. Пулю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Національний аерокосмічний університет ім. Жуковськ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. Чернівецький національний університет ім. Федькови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0DFA-91F0-4DA4-B6F6-B0E5397CCE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527-AE1F-4AC9-952A-84CC17EF7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404640"/>
          <a:ext cx="7345440" cy="5954760"/>
        </p:xfrm>
        <a:graphic>
          <a:graphicData uri="http://schemas.openxmlformats.org/drawingml/2006/table">
            <a:tbl>
              <a:tblPr/>
              <a:tblGrid>
                <a:gridCol w="3382920"/>
                <a:gridCol w="792360"/>
                <a:gridCol w="892080"/>
                <a:gridCol w="777960"/>
                <a:gridCol w="763560"/>
                <a:gridCol w="736560"/>
              </a:tblGrid>
              <a:tr h="3574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солидированный рейтинг вузов Украины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вание ВУ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а 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.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ЮНЕС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мп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ебометрик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У "Киї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університет ім. Т. Шевч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Києво-Могилянська академі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Львівська політехні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 "Харкі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економічний університет ім. В.Геть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Донецький національний технічни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AE0-B2D7-476F-828F-1E551C8815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148-2CF6-4610-9067-D28EE9411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вітові рейтинги університет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адемічний (Шанхайсь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йтин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QS з 2010 р. розділився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Reuter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1D7-7AB0-48C2-8980-86F8E52B8F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193-A908-4AFE-8CA6-90C0F888F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ку впливає на рейтинг присутність ВНЗ у Інтерн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ебометрикс – напряму: оцінюється Інтернет - присутні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ешти – опосередковано: для роста цитованості результати НДР слід системно подавати на офіційних сайтах (зокрема, в інституціональному репозитарії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ишів Україны Вебометрик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єдиний доступний міжнародний рей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9BC-6BAD-4EF2-A5C6-3A21D38098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860-6316-40E1-9B58-3302F6310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ик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35234" t="38185" r="14558" b="41880"/>
          <a:stretch/>
        </p:blipFill>
        <p:spPr>
          <a:xfrm>
            <a:off x="755640" y="2421000"/>
            <a:ext cx="7813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E0E-3B64-479B-B059-580BAD0EDB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F054-8F1B-4254-8986-CDF15582C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090F-E5B7-4BC4-878F-D76FF4AC94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69D-ED45-4A73-84E6-BDCFFBFC1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opayeva@donntu.edu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326-C1D6-4FAA-AFDC-7BA7AC32E7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D72-DD0D-4F3F-BA7D-9A225130A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блеми і перспек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охочення авторів до самоархівації – 3.02.2011 – семінар для науковців ДонН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вердження положення про ЕА на Вченій раді ДонНТУ (ради факультетів розглянули проект поло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нтроль авторства та якості – шлях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бмежене коло ел.адрес для депозито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еханізм рецензува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F0A-18E1-418D-A420-DE73178619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803-B306-4D29-B826-2397101B2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аз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розвиток електронного архіву універс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сім дослідникам, викладачам ДонНТУ обов’язково розміщати (шляхом самоархівування) свої наукові, дослідницькі, навчальні та методичні матеріали в університетському електронному архіві. Статті, що мають період «ембарго», виставляти після закінчення цього пері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жний підрозділ, зареєстрований для участі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інститут, факультет, кафедра та ін.) зобов’язаний призначити координатора, який має контактувати з бібліотекою для підтримки  архі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повідальність за організацію роботи по наповненню архіву на факультетах покласти на заступників деканів з наукової робо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ординатору по роботі з підрозділами від бібліотеки розповсюдити положення п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 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методику самоархівування, організувати консультативну допомогу авторам та координаторам підрозділ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7A67-C8EC-4450-851E-FB83EF38E29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7E2-4042-4A88-A196-67D28A3FA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. Загальні положення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1  Дане Положення визначає основні поняття, завдання, принципи наповнення, функціонування і управління Електронним архівом ДонНТУ. До Положення у мотивованих випадках за наказом ректора або за рішенням Вченої ради ДонНТУ можуть вноситися відповідні змі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2  Електронний архів ДонНТУ (далі – E-arhivе  DonNTU) – це університетський репозитарій, що накопичує, систематизує, зберігає та забезпечує довготривалий відкритий доступ до творів шляхом їх архівування та самоархівування і має доменне ім’я </a:t>
            </a:r>
            <a:r>
              <a:rPr b="0" lang="uk-U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a.donntu.edu.ua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7566-001F-4FD5-A6BF-15B583A0F3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871-AFBA-43E2-9BE5-85BFAE7CE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3 Функціонування E-arhivе  DonNTU здійснюється відповідно д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ложення про E-arhivе  DonNTU та наказу по ДонНТУ №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ід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бібліотеки і бібліотечну справу" (№ 32/95-ВР від 27.01.1995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авторське право і суміжні права" (№ 3792-12 від 23.12.1993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Національну програму інформатизації" (№ 74/98-ВР від 04.02.1998) та Закон України "Про Основні засади розвитку інформаційного суспільства в Україні на 2007 - 2015 роки" (№ 537-V від 09.01.2007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електронні документи та електронний документообіг" від 22.05.2003 № 85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захист інформації в автоматизованих системах"(№ 80/94-ВР від 05.07.199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A212-8FA3-442A-8D7D-862CE577AD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800-15DA-41F6-8850-4CFA202C7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Призначення, мета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завдання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ункції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та структура E-arhivе  DonN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1 Призначе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E-arhivе  DonNTU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Шляхом створення, збереження та надання вільного доступу до наукової інформації,  дослідженням та навчально-методичним матеріалам ДонНТУ сприяти розвитку науки і освіти  в Україні та світ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D31A-176D-428A-80CB-3B4923DB18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B47-2A52-4C0A-A70A-024E6CA48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2 Завдання E-arhivе  DonN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безпечити місце і спосіб централізованого і довготривалого зберігання в електронному вигляді повних текстів твор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рияти зростанню популярності університету шляхом представлення його наукової продукції у глобальній мережі. Збільшити цитованість наукових публікацій працівників ДонНТУ шляхом забезпечення вільного доступу до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творити надійну і доступну систему обліку публікацій факультетів і окремих праців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7:46:00Z</dcterms:created>
  <dc:creator>Customer</dc:creator>
  <dc:description/>
  <dc:language>en-US</dc:language>
  <cp:lastModifiedBy>Марина</cp:lastModifiedBy>
  <dcterms:modified xsi:type="dcterms:W3CDTF">2013-01-30T07:12:22Z</dcterms:modified>
  <cp:revision>541</cp:revision>
  <dc:subject/>
  <dc:title>Слайд 1</dc:title>
</cp:coreProperties>
</file>