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8A6E-6852-4E16-AEE1-F5AEF45D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0D1-9075-4FED-BF64-59AEE89A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185-C6A4-430E-869F-3F4C844E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A746-2681-4EDE-9C4B-1AD6FD13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BFF2-2CCD-43A0-B80B-ACFC36FF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AF1F-67F0-4F69-B017-143911E4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A1F3-6E9B-4DA3-906E-1574C0E6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15A7-C291-49C4-999E-885BDC90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B409-84E9-4187-9D89-4E7A8B87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D7D1-2F80-4555-B9E2-34979ACD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D257-933B-47D2-84B1-727FB96A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3321-0AF3-4C7A-B48C-DFF18BDD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320A-C3C9-4354-89D2-AF1D9D33572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DE05-7BA2-4EF0-93CD-3CB554C9BD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a.donntu.edu.ua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a.donntu.edu.ua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806292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ВПЛИВ РЕОПЗИТАРІЮ ВІДКРИТОГО ДОСТУПУ НА ПІДВИЩЕННЯ РЕЙТИНГУ ВН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2349000"/>
            <a:ext cx="6616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оропаєва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ікторія Яків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оцент, к.т.н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ординатор проект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ibUkr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 Дон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9" descr="donntu.jpg"/>
          <p:cNvPicPr/>
          <p:nvPr/>
        </p:nvPicPr>
        <p:blipFill>
          <a:blip r:embed="rId1"/>
          <a:stretch/>
        </p:blipFill>
        <p:spPr>
          <a:xfrm>
            <a:off x="285840" y="4859280"/>
            <a:ext cx="84294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BB09-AA6E-4B9C-B1EA-2138526261E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AA38-1E45-4449-AC66-DA5B8C03B3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2.3 Функції E-arhivе  DonNTU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навчальна, спрямована на сприяння навчальному процесу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наукова, спрямована на сприяння науково-дослідницькому процесу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овідково-інформаційна, спрямована на задоволення інформаційних запитів з різних галузей знан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оповнення бібліотечного фонду оригінальними електронними документами та електронними копіями друкованих видань та їх збереженн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A944-DAD5-412E-AF5D-11136063B3C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560C-6C9F-4A74-87E9-F8109DFED7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2.4 Структура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E-arhivе  DonNTU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труктура E-arhivе  DonNTU відповідає організаційній структурі університету та передбачає створення розділів для інститутів або факультетів, підрозділів для кафедр та тематичних колекцій для відповідних творів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аукові видання та праці ДонНТУ розміщуються у відповідних розділ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787D-A5FD-4B8B-8ACD-C3BAD067825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7803-32AD-4743-BA00-382C3729BC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3. Управління E-arhivе  DonNTU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3.1  Загальне управління E-arhivе  DonNTU здійснює Координаційна рада з роботи над університетським репозитарієм, до якої входять Перший проректор, Проректор з наукової роботи, директор НТБ, координатор проекту ELibUkr,  завідувач відділу інформаційних технологій та комп’ютерного забезпечення НТБ, адміністратор E‑arhivе  DonN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3.2  Адміністрування, організаційну та технічну підтримку функціонування E-arhivе  DonNTU здійснює Науково-технічна бібліотека ДонНТ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DF98-9D59-4C21-B94F-3C0BBEE2675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BB80-A4EC-48B7-8E72-1AAA9354F7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.3 Адміністрування та організаційну підтримку функціонування фондів E-arhivе  DonNTU здійснюють координатори відповідних підрозділів (інститутів, факультетів) ДонНТУ та відповідальні секретарі наукових збір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.4 Контролюючі функції щодо організації роботи по наповненню архіву виконують уповноважені посадові особи (п.4.4.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EC51-48BC-446C-9A28-0853653E768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83A2-455B-416A-B90F-0DA7B3205D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4. Принципи наповнення та функціонування E-arhivе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DonNTU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E-arhivе  DonNT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повнюється науковими, науково-методичними, навчальними та інформаційно-рекламними творами, при створенні яких використовувалися ресурси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онНТ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кадрові, матеріально-технічні, фінансові, нормативно-дозвільні, іміджеві тощо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42C2-9DFC-4A38-B5DB-2F52C01C621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7391-0AAB-43E5-83FE-3A01248D6B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окрема в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ов’язковому порядк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розміщуються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 E-arhivе DonNTU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вори, які рекомендовані до видання Вченою радою університету та / або видані при повному або частковому фінансуванні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онНТУ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видавництві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онНТУ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бо в інших видавництва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цьому автори заздалегідь повинні повідомляти видавців про політику відкритого доступу, яку підтримує університет, у тому числі і щодо розміщення творів у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E-arhivе DonNT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раховувати вищезазначене при укладанні договорів із видавництв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70BE-F08C-4631-830F-3A7E6DC136F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E547-5E51-43AF-A200-036B72AE5A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разі існування договорів із видавцями, що унеможливлюють розміщення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 E-arhivе  DonNTU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ного твору, архівується препринт твору або його описова частина (бібліографія, анотація), а також (при відсутності заборони з боку видавця) перша сторінка твору з посиланням на ресурс зберігання матеріал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боти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агістрантів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і студентів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озміщають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а рекомендаці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є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укового керівник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C35C-7452-4A14-B8E7-BB2956E8677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22D1-E13B-4873-A126-D8E3CCAEF5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.3 Твори, які розміщуються у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E-arhivе  DonNTU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поділяються на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92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4.3.1  твори, що самостійно архівуються авторами після надання ними згоди на розміщення твору на умовах авторського договор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92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4.3.2  твори, що архівуються координаторами відповідних підрозділів (інститутів, факультетів) ДонНТУ за відповідним дорученням автора, яке передбачає, у тому числі, його згоду з умовами авторського договору та передачу ним координатору електронної копії твор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0F87-2842-425C-B6B8-51B4B488CE2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FD8D-E3C7-4CD0-93A7-95780AF618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92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3.3 матеріали збірників конференцій, що проводяться в університеті, та наукових праць ДонНТУ, що архівуються секретарями організаційних комітетів конференцій та відповідальними секретарями наукових збіро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92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3.4 видання авторів ДонНТУ минулих років, які скануються та архівуються співробітниками НТ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E9CC-A7C3-416D-A098-07632A20073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4E95-744D-494C-BF42-E1314D5E55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4.1 Здійснювати 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контроль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розміщення творів усіх типів, зазначених у п. 4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чений секретар ДонНТУ контролює архівування та само архівування на етапі затвердження списку наукових публікацій автора за останні 5 років, у формі якого передбачається посилання на місце розміщення твору в E-arhivе  DonNTU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ідділ аспірантури та докторантури контролює самоархівування авторефератів і дисертацій авторами, які захистили дисертації у спеціалізованих вчених радах ДонНТУ або інших організаці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екани контролюють розміщення навчально-методичних матеріалів на етапі перевірки готовності кафедр до навчального ро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CB79-21B1-4E4E-A634-92C3CE7B57E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1EAC-4E2C-48EE-8BEB-926269421F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Електронний архів ДонНТУ –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archive DonNT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ea.donntu.edu.u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Фонди – структурні підрозділи, “Наукові видання”, “Наукові праці” Дон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ідфонди, колекції – за рішенням факультету (інститут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B520-E53D-47BD-9A33-54AC7AB4896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CBEB-A455-47C9-95C8-15A7F47E83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4.2 При визначенні щорічного рейтингу структурних підрозділів ДонНТУ та індивідуального рейтингу співробітників враховувати кількість розміщених творів у E‑arhivе DonN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BDAE-1353-48CC-8604-38F9E82A61F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810B-BDD3-4B13-8E9D-B03F799C0F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5 Процедура архівування в E-arhivе DonNTU здійснюється шляхом поетапного заповнення полів, які містять основний набір даних про твір (метаданих)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автор, назва, анотація, ключові слова: для наукових публікацій – російською, українською та англійською мовами, для решти – мовою оригінал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ля творів, що були опубліковані раніше: рік видання,  видавництво, класифікатор, бібліографічний опис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1089-AEF4-4993-B36C-AC9A12B8EA8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4602-B809-47A8-8770-A9252E6E4E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оточна ситуаці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Колекцій (діючих) – більше 400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Більшість – самоархівування,  бібліотекарі здійснюють методично-консультативну підтрим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Назв – 15 42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Авторів – 18 7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C942-7E7F-4581-A5ED-FCC1C9C5F5F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34FA-339B-44F2-BE46-138E1B16BE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250920" y="1401840"/>
          <a:ext cx="8353440" cy="249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01840"/>
                    <a:ext cx="835344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Середній час перебування на сайт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очаток 2012 р. – 2 хвили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очаток 2013 р. – більше 10 хвил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Середня кількість переглядів збільшилась з  37 до 8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18D1-08E5-44D3-887E-0E972D7E08E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FC4D-EE1B-4C0B-9B93-F7788F26B3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577F-2936-4B8D-AC78-C9E178455A4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6D61-633A-4415-AB58-D4CF9D8015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и потрібні нам рейтинг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j0299171"/>
          <p:cNvPicPr/>
          <p:nvPr/>
        </p:nvPicPr>
        <p:blipFill>
          <a:blip r:embed="rId1"/>
          <a:stretch/>
        </p:blipFill>
        <p:spPr>
          <a:xfrm>
            <a:off x="0" y="3716280"/>
            <a:ext cx="1832040" cy="216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j0090070"/>
          <p:cNvPicPr/>
          <p:nvPr/>
        </p:nvPicPr>
        <p:blipFill>
          <a:blip r:embed="rId2"/>
          <a:stretch/>
        </p:blipFill>
        <p:spPr>
          <a:xfrm>
            <a:off x="1908000" y="2205000"/>
            <a:ext cx="1854360" cy="230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j0233018"/>
          <p:cNvPicPr/>
          <p:nvPr/>
        </p:nvPicPr>
        <p:blipFill>
          <a:blip r:embed="rId3"/>
          <a:stretch/>
        </p:blipFill>
        <p:spPr>
          <a:xfrm>
            <a:off x="3851280" y="1125360"/>
            <a:ext cx="2262240" cy="2303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3210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2B60-5F58-47DA-BEC9-DBAB9BEBB6B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FC01-1C86-4A66-BC22-0008ECF240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країнські рейтинги виші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5694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ЮНЕСКО «ТОП-200» Україна «трансформирует к условиям Украины идеи … международных рейтингов» - ДонНТУ на 16 місці (2012), 17 (2011, 2010,2009), 15 (2008,200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йтинг ВНЗ України «Компас» «отражает оценку ВУЗов выпускниками и работодателями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нНТУ на 6 місці у 2012 р., 5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011, 2010, 3 – 2009, 5 – 2007-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йтинг присутності  у Scop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солідований рейтинг освітнього порталу «Освіта» по матеріалах ЮНЕСКО "Топ-200 Україна", "Компас"   і "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бометрік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 ("На наш погляд, цей єдиний рейтинг, складений на основі трьох, яким довіряють на українському освітньому ринку, відображає ситуацію у сфері української вищої освіти"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C91C-E45C-4D20-B2EA-C045E493D79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F138-4A05-440C-B24E-C01E420176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rcRect l="0" t="0" r="25585" b="41880"/>
          <a:stretch/>
        </p:blipFill>
        <p:spPr>
          <a:xfrm>
            <a:off x="0" y="836640"/>
            <a:ext cx="9072720" cy="56689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ЮНЕСКО топ 200 Украї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6FCF-9B16-4304-8C26-87017A20514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5C17-BD0A-460A-B321-8638483909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Компас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rcRect l="0" t="9362" r="0" b="8546"/>
          <a:stretch/>
        </p:blipFill>
        <p:spPr>
          <a:xfrm>
            <a:off x="0" y="765000"/>
            <a:ext cx="90136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2714-B502-44D6-947B-3386AF13D8B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0D58-4E94-4285-8F95-DEF82FDD74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A57E-837E-4066-852D-9B28B0B3F13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1BFF-3FF2-4833-B102-6A90D564B9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очаткова стати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Колекцій (діючих) – 47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2 – самоархівування, решта - бібліотекар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Назв – 56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Авторів – 61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4AEB-287D-4347-879D-05F5F357B3E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1676-9256-4023-B2E3-71EBD2623C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нсолідований рейтинг «Освіта»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Київський політехнічний інститу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Київський національний університет ім. Тараса Шевчен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Національний університет "Києво-Могилянська академія"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Національний університет "Львівська політехніка"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Харковській політехнічний інститу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Київський національний економічний університет ім. Гетьма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Донецький національний технічни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ніверсит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Дніпропетровський національний університет ім. Гончар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Донецький національний університ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 Львівський національний університет ім. Франк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1. Національний авіаційний університ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2. Одеський національний університет ім. Мечников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3. Харківський національний університет ім. Каразі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. Харківський національний університет радіоелектроні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5. Восточноукраінській національний університет ім. Дал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6. Національний університет біоресурсів і природокористуванн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7. Одеський національний політехнічний університ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8. Тернопільський національний технічний університет ім. Пулю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9. Національний аерокосмічний університет ім. Жуковськог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. Чернівецький національний університет ім. Федькови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25FD-7250-4953-BDF8-E0C50362943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72E7-C414-4AF7-A6C9-0B9AC7ED5C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900000" y="404640"/>
          <a:ext cx="7345440" cy="5954760"/>
        </p:xfrm>
        <a:graphic>
          <a:graphicData uri="http://schemas.openxmlformats.org/drawingml/2006/table">
            <a:tbl>
              <a:tblPr/>
              <a:tblGrid>
                <a:gridCol w="3382920"/>
                <a:gridCol w="792360"/>
                <a:gridCol w="892080"/>
                <a:gridCol w="777960"/>
                <a:gridCol w="763560"/>
                <a:gridCol w="736560"/>
              </a:tblGrid>
              <a:tr h="3574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нсолидированный рейтинг вузов Украины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вание ВУ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ес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еста 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.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ЮНЕСК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мп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ебометрик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ТУУ "Київський політехнічний інститут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ївський національний університет ім. Т. Шевч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іональний університет "Києво-Могилянська академія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іональний університет "Львівська політехніка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ТУ "Харківський політехнічний інститут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ївський національний економічний університет ім. В.Гетьм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80"/>
                          </a:solidFill>
                          <a:latin typeface="Arial Cyr"/>
                        </a:rPr>
                        <a:t>Донецький національний технічний універси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80"/>
                          </a:solidFill>
                          <a:latin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80"/>
                          </a:solidFill>
                          <a:latin typeface="Arial Cyr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80"/>
                          </a:solidFill>
                          <a:latin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80"/>
                          </a:solidFill>
                          <a:latin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80"/>
                          </a:solidFill>
                          <a:latin typeface="Arial Cyr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73CC-CB48-4B26-9C08-7BDBEBE0556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1C3A-57CE-48E8-9DA7-C01580DC74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вітові рейтинги університеті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адемічний (Шанхайськи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йтинг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йм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QS з 2010 р. розділився 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Q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йм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mson Reuter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ebometr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5122-086A-44CD-965A-17EA5A0D11E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C694-8E61-4F1D-AF3F-B2957F2997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ку впливає на рейтинг присутність ВНЗ у Інтерне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Вебометрикс – напряму: оцінюється Інтернет - присутні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ешти – опосередковано: для роста цитованості результати НДР слід системно подавати на офіційних сайтах (зокрема, в інституціональному репозитарії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вишів Україны Вебометрик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єдиний доступний міжнародний рейт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00C0-0375-4DE6-A25F-F8A1EAD90B6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47D7-C42C-401B-9430-35A9D01C33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ика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Webomet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rcRect l="35234" t="38185" r="14558" b="41880"/>
          <a:stretch/>
        </p:blipFill>
        <p:spPr>
          <a:xfrm>
            <a:off x="755640" y="2421000"/>
            <a:ext cx="78138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BDD4-3E70-437B-A2D7-9808C0CCF49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C53E-E0FC-4816-B8F6-49BFD57F74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6159-B3D2-44D4-9644-D06CF865B41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84BD-6C95-4968-9EA5-5BE6BF80DF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якую за уваг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ropayeva@donntu.edu.u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6A6B-7E7B-4D4A-AA67-2B0F0118712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4C65-F768-47F7-A995-D772C17E67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роблеми і перспекти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охочення авторів до самоархівації – 3.02.2011 – семінар для науковців ДонНТ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твердження положення про ЕА на Вченій раді ДонНТУ (ради факультетів розглянули проект положенн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онтроль авторства та якості – шлях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обмежене коло ел.адрес для депозиторі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механізм рецензуванн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07D2-7AD7-452A-9A77-D8A819EF91D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B9A8-7461-4CF1-B015-5ECEFC4AC8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каз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49-1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ід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08.06  2011 р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ро розвиток електронного архіву університе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Усім дослідникам, викладачам ДонНТУ обов’язково розміщати (шляхом самоархівування) свої наукові, дослідницькі, навчальні та методичні матеріали в університетському електронному архіві. Статті, що мають період «ембарго», виставляти після закінчення цього період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ожний підрозділ, зареєстрований для участі 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hiv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NTU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(інститут, факультет, кафедра та ін.) зобов’язаний призначити координатора, який має контактувати з бібліотекою для підтримки  архі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ідповідальність за організацію роботи по наповненню архіву на факультетах покласти на заступників деканів з наукової робо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оординатору по роботі з підрозділами від бібліотеки розповсюдити положення пр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hi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 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NTU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і методику самоархівування, організувати консультативну допомогу авторам та координаторам підрозділ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60E0-46FC-4F72-A192-D88CAFFE1D7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3039-525B-4F72-A6D5-6BC3AFBEDA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1. Загальні положення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.1  Дане Положення визначає основні поняття, завдання, принципи наповнення, функціонування і управління Електронним архівом ДонНТУ. До Положення у мотивованих випадках за наказом ректора або за рішенням Вченої ради ДонНТУ можуть вноситися відповідні змі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.2  Електронний архів ДонНТУ (далі – E-arhivе  DonNTU) – це університетський репозитарій, що накопичує, систематизує, зберігає та забезпечує довготривалий відкритий доступ до творів шляхом їх архівування та самоархівування і має доменне ім’я </a:t>
            </a:r>
            <a:r>
              <a:rPr b="0" lang="uk-UA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a.donntu.edu.ua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9916-D32A-4072-8923-D95F6CB64F3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DFA0-2766-4006-B38F-AC1C0413A5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1.3 Функціонування E-arhivе  DonNTU здійснюється відповідно до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оложення про E-arhivе  DonNTU та наказу по ДонНТУ №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49-12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від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08.06  2011 р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акону України "Про бібліотеки і бібліотечну справу" (№ 32/95-ВР від 27.01.1995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акону України "Про авторське право і суміжні права" (№ 3792-12 від 23.12.1993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акону України "Про Національну програму інформатизації" (№ 74/98-ВР від 04.02.1998) та Закон України "Про Основні засади розвитку інформаційного суспільства в Україні на 2007 - 2015 роки" (№ 537-V від 09.01.2007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акону України "Про електронні документи та електронний документообіг" від 22.05.2003 № 85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акону України "Про захист інформації в автоматизованих системах"(№ 80/94-ВР від 05.07.1994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345F-DC3A-4A63-88D5-00D9C85D2CA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79B9-874C-4FC4-B3BA-C7480D60CC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. Призначення, мета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завдання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ункції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та структура E-arhivе  DonNT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2.1 Призначення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E-arhivе  DonNTU.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Шляхом створення, збереження та надання вільного доступу до наукової інформації,  дослідженням та навчально-методичним матеріалам ДонНТУ сприяти розвитку науки і освіти  в Україні та світ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F2A8-D5A9-4D0D-908A-114F08AE0B8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35F9-19C9-4355-A2B4-A413956C93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2.2 Завдання E-arhivе  DonNTU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Забезпечити місце і спосіб централізованого і довготривалого зберігання в електронному вигляді повних текстів творі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Сприяти зростанню популярності університету шляхом представлення його наукової продукції у глобальній мережі. Збільшити цитованість наукових публікацій працівників ДонНТУ шляхом забезпечення вільного доступу до н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Створити надійну і доступну систему обліку публікацій факультетів і окремих працівникі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07:46:00Z</dcterms:created>
  <dc:creator>Customer</dc:creator>
  <dc:description/>
  <dc:language>en-US</dc:language>
  <cp:lastModifiedBy>Марина</cp:lastModifiedBy>
  <dcterms:modified xsi:type="dcterms:W3CDTF">2013-01-30T07:12:22Z</dcterms:modified>
  <cp:revision>541</cp:revision>
  <dc:subject/>
  <dc:title>Слайд 1</dc:title>
</cp:coreProperties>
</file>