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F8A-354C-458D-9EED-F5014866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93C-8E11-4D33-AEEB-4BA32EA2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D68-B8D8-49BE-B22B-5AC04909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E12-2404-4A72-B1F3-CBD57955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A97-3447-4444-A7D7-0EB589F6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966-4EA1-47E1-ADB2-DF01785E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A34-B2F5-4778-97A8-14809AC7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EBC-19D0-434B-B719-A1E9073B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7F8-4461-4974-8B71-8FAF6272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EEC-CE01-4806-9958-CFD7D22E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D45-6145-484F-83AF-DF9E5B5F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BE0-8AAD-4CCF-85F8-659142C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092B-F416-403C-8CE5-859A688D734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osvita.org.ua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33"/>
                </a:solidFill>
                <a:latin typeface="Times New Roman"/>
              </a:rPr>
              <a:t>Можливості використання дистанційного навчання для підвищення кваліфікації бібліотекарі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Національна академія керівних кадрів культури і мистецтв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Інститут післядипломної освіти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Відділ дистанційного навчання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Управління бібліотекою та нові послуги для користувачі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2090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«Адвокаційна діяльність бібліотек: захист та лобіювання інтересів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424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Інноваційні зміни в бібліотеці на основі проектного, кадрового менеджменту та ініціативної діяльності бібліоте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97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Нова бібліотечна послуга: використання інформаційних технологій та Інтернету в бібліотеці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33"/>
                </a:solidFill>
                <a:latin typeface="Times New Roman"/>
              </a:rPr>
              <a:t>Додатково сайт дистанційного навчання містить 4 відео лекці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Відео лекція "Український хоровий спів" (для студентів та слухачів НАКККіМ). Лектор - Народна артистка України, Заслужений діяч мистецтв, професор Бенч О.Г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Бібліотека року - 2010. Наукова бібліотека ДВНЗ «Українська академія банківської справи Національного банку України» (Сумська обл.)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Відео лекція "Система садово-паркової композиції", професор Жирнов А.Д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Всеукраїнський семінар практикум з українського гончарства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33"/>
                </a:solidFill>
                <a:latin typeface="Times New Roman"/>
              </a:rPr>
              <a:t>Структура курс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2"/>
          <a:stretch/>
        </p:blipFill>
        <p:spPr>
          <a:xfrm>
            <a:off x="685800" y="836640"/>
            <a:ext cx="80629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813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35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1" name="Rectangl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Відділ дистанційного навчання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Відділ дистанційного навчання створено 01.09.2007 року за ініціативою керівництва Академії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64c"/>
                </a:solidFill>
                <a:latin typeface="Times New Roman"/>
              </a:rPr>
              <a:t>В своїй роботі працівники відділу керуються розробленими та затвердженими нормативними документами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Положенням про дистанційне навчання в НАКККіМ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264c"/>
                </a:solidFill>
                <a:latin typeface="Times New Roman"/>
              </a:rPr>
              <a:t>Положенням про використання технологій дистанційного навчання в НАКККіМ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Положенням про відділ дистанційного навчання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64c"/>
                </a:solidFill>
                <a:latin typeface="Times New Roman"/>
              </a:rPr>
              <a:t>а також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Методичними рекомендаціями «Створення навчально-методичних матеріалів для дистанційних курсів в НАКККіМ»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Rectangl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11280" y="406440"/>
            <a:ext cx="8208720" cy="6191280"/>
            <a:chOff x="611280" y="406440"/>
            <a:chExt cx="8208720" cy="6191280"/>
          </a:xfrm>
        </p:grpSpPr>
        <p:pic>
          <p:nvPicPr>
            <p:cNvPr id="96" name="Rectangle 3" descr=""/>
            <p:cNvPicPr/>
            <p:nvPr/>
          </p:nvPicPr>
          <p:blipFill>
            <a:blip r:embed="rId2"/>
            <a:stretch/>
          </p:blipFill>
          <p:spPr>
            <a:xfrm>
              <a:off x="611280" y="406440"/>
              <a:ext cx="8208720" cy="61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611280" y="406440"/>
              <a:ext cx="8208720" cy="6191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Times New Roman"/>
              </a:rPr>
              <a:t>Зручна навігаці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842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8134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</a:rPr>
              <a:t>Електронний деканат: журнал оціно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1280" y="836640"/>
            <a:ext cx="8064360" cy="5616720"/>
            <a:chOff x="611280" y="836640"/>
            <a:chExt cx="8064360" cy="5616720"/>
          </a:xfrm>
        </p:grpSpPr>
        <p:pic>
          <p:nvPicPr>
            <p:cNvPr id="104" name="Rectangle 3" descr=""/>
            <p:cNvPicPr/>
            <p:nvPr/>
          </p:nvPicPr>
          <p:blipFill>
            <a:blip r:embed="rId2"/>
            <a:stretch/>
          </p:blipFill>
          <p:spPr>
            <a:xfrm>
              <a:off x="611280" y="836640"/>
              <a:ext cx="806436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611280" y="836640"/>
              <a:ext cx="8064360" cy="5616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Інститут післядипломної освіт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64c"/>
                </a:solidFill>
                <a:latin typeface="Times New Roman"/>
              </a:rPr>
              <a:t>Інститут післядипломної освіти здійснює підвищення кваліфікації державних службовців, керівників і спеціалістів державних підприємств, установ і організацій галузі культури за держзамовленням відповідно до Календарного плану, затвердженого наказом Міністерства культури України, а саме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Державних службовців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 підприємств, головних економістів, головних бухгалтерів закладів культури, що перебувають у сфері управління МК України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Працівників закладів клубного типу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, провідних фахівців музеїв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 аматорських колективів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, викладачів початкових спеціалізованих мистецьких навчальних закладів та навчальних закладів І- ІІ рівнів акредитації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64c"/>
                </a:solidFill>
                <a:latin typeface="Times New Roman"/>
              </a:rPr>
              <a:t>Інші (директори, працівники театрів, концертних установ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64c"/>
                </a:solidFill>
                <a:latin typeface="Times New Roman"/>
              </a:rPr>
              <a:t>Керівники, провідні фахівці бібліотек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Times New Roman"/>
              </a:rPr>
              <a:t>Всі звіти діяльності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68360" y="692280"/>
            <a:ext cx="8351640" cy="5832360"/>
            <a:chOff x="468360" y="692280"/>
            <a:chExt cx="8351640" cy="583236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68360" y="692280"/>
              <a:ext cx="83516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468360" y="692280"/>
              <a:ext cx="8351640" cy="583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33"/>
                </a:solidFill>
                <a:latin typeface="Times New Roman"/>
              </a:rPr>
              <a:t>Звіт про навчання кожного студент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692280"/>
            <a:ext cx="8134200" cy="5689440"/>
            <a:chOff x="685800" y="692280"/>
            <a:chExt cx="8134200" cy="5689440"/>
          </a:xfrm>
        </p:grpSpPr>
        <p:pic>
          <p:nvPicPr>
            <p:cNvPr id="115" name="Rectangle 3" descr=""/>
            <p:cNvPicPr/>
            <p:nvPr/>
          </p:nvPicPr>
          <p:blipFill>
            <a:blip r:embed="rId2"/>
            <a:stretch/>
          </p:blipFill>
          <p:spPr>
            <a:xfrm>
              <a:off x="685800" y="692280"/>
              <a:ext cx="8134200" cy="56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 txBox="1"/>
            <p:nvPr/>
          </p:nvSpPr>
          <p:spPr>
            <a:xfrm>
              <a:off x="685800" y="692280"/>
              <a:ext cx="8134200" cy="56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</a:rPr>
              <a:t>Відеопосібни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Rectangle 3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Rectangle 3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353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Дякую за увагу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33"/>
                </a:solidFill>
                <a:latin typeface="Times New Roman"/>
              </a:rPr>
              <a:t>Дистанційне навчання в НАКККі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Середовище дистанційного навчання НАКККіМ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www.e-osvita.org.u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64c"/>
                </a:solidFill>
                <a:latin typeface="Times New Roman"/>
              </a:rPr>
              <a:t>створено на базі платформи «Moodle»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</a:rPr>
              <a:t>Головна сторінка сайт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</a:rPr>
              <a:t>Стара версія сайт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539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Сайт дистанційного навчання містить: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539640" indent="-539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264c"/>
                </a:solidFill>
                <a:latin typeface="Times New Roman"/>
              </a:rPr>
              <a:t>8 курсів для підвищення кваліфікації слухачів ІПО , з них 5 – для бібліотечних працівникі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539640" indent="-539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64c"/>
                </a:solidFill>
                <a:latin typeface="Times New Roman"/>
              </a:rPr>
              <a:t>16 курсів для студенті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95280" y="333360"/>
            <a:ext cx="8424720" cy="6191280"/>
            <a:chOff x="395280" y="333360"/>
            <a:chExt cx="8424720" cy="6191280"/>
          </a:xfrm>
        </p:grpSpPr>
        <p:pic>
          <p:nvPicPr>
            <p:cNvPr id="60" name="Rectangle 3" descr=""/>
            <p:cNvPicPr/>
            <p:nvPr/>
          </p:nvPicPr>
          <p:blipFill>
            <a:blip r:embed="rId2"/>
            <a:stretch/>
          </p:blipFill>
          <p:spPr>
            <a:xfrm>
              <a:off x="395280" y="333360"/>
              <a:ext cx="8424720" cy="61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395280" y="333360"/>
              <a:ext cx="8424720" cy="619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«Електронне урядування та доступ до інформації у бібліотеках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685800" y="1125360"/>
            <a:ext cx="77724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3:17:56Z</dcterms:created>
  <dc:creator>Olya</dc:creator>
  <dc:description/>
  <dc:language>en-US</dc:language>
  <cp:lastModifiedBy>nakkkim</cp:lastModifiedBy>
  <dcterms:modified xsi:type="dcterms:W3CDTF">2013-01-30T12:43:11Z</dcterms:modified>
  <cp:revision>22</cp:revision>
  <dc:subject/>
  <dc:title>Надання інформаційних та інших послуг громадянам та юридичним особам з використанням електронної інформаційної системи "Електронний Уряд“</dc:title>
</cp:coreProperties>
</file>