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C41-B03F-4D94-A239-BFBAA27E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8927-EEB7-43B9-8A63-7093932F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44B-7407-4CA1-958C-103D7C0B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D4B-862C-452E-B2E8-3FC39D8D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A8A2-EA3F-4E2D-916B-F93E9DCB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9FEE-BAB3-4893-9DB4-3CC45474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8D6A-4B11-4D25-B241-CE8C1D4A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6954-3920-4849-A48C-58265D8A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5F1E-78FD-4AC5-B69D-0FFE0469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5044-1E71-452F-943E-6011F02C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7704-FE34-4B90-8AB2-8425FCF8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8E2-3933-45AD-A119-C46D844C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21D0-3E93-4D9B-850B-EDE84065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3020-DFFC-418C-92B7-36712EA7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F982-A0D1-4677-B7D4-92C0E090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1D59-5DDD-4CD9-8A43-6D4AADB0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7B92-9D08-4C3B-B8F4-63F6B54B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05BF7-170A-4336-9587-25D527FD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EB03-F744-4664-BA5A-D433E4D2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F966C-0268-4C9E-A0E7-37B9254F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30FA-2371-4DF1-8983-CD0533E4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CB4DF-C854-435B-A4A6-04A05C52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880-C856-4137-8019-CABD62BA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A4A7-3B15-4B64-A034-3C6E27A1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68642-CF2B-405F-98D3-5C1E99F6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D0871-5780-43D0-A40B-986DD0F9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40DAA-E9D1-4177-99F7-0FF0A38D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699D7-9A04-4B15-80E5-CE46AA37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170FE-20F4-45D0-9462-08C1899E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5CA4A-F441-4188-BE52-05583816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E9DB0-2907-470B-B50C-898D6D4F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6D1F5-6C69-4815-82A1-F869226F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44109-4001-4BD2-BF4C-DAB33847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85A-A42D-4EA8-BA8E-3EED31A0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5370D-5600-41CD-A11A-859D2636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1CD2D-F720-4EB9-90EC-4E8CB637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82BF1-2814-4D49-87D8-A996E038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684B-A887-4AAA-AE6C-71B8441E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B2ACF-BE2B-4048-9604-031B905F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AED70-2AA8-451C-A385-A05FDDB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F1C88-EE27-4CD6-BE4C-1694225B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F9BE3-8E54-4759-A01B-EA632F05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966B4-C656-4788-877C-613E22CE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B15E0-712C-46DE-B890-8DA594CB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8C1-3E69-4742-8CF6-A536AF36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D122F-7E17-455E-B52E-FB93A688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4835C-47F8-46EC-9DCA-41F06431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9349A-E35B-4D59-B56A-C28B346B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1F767-60CC-4703-A1AB-90902F65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7A5EC-B197-44D2-9FFD-12C885F7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1E36F-9324-4E5F-91B7-FF7BD2C5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8D0E3-1E82-49E2-996F-52926BCF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64493-141E-4507-B396-3EC68CB9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C7B21-6E7C-4B9A-8816-3E620CDC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8E657-3A5C-4883-8FF8-F3D1D240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610-83E5-4E98-9326-181B1A0D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70D67-388B-4CF8-AA0F-B3D6A7A7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8E40E-1697-4BD3-BC3B-9085B5C2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5B383-2E9C-481E-A830-8501C710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0471D-E915-40EE-831E-87163852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DD180-F783-43C7-B8A8-C782B96F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771CB-7021-4C32-B9F7-1B9B3B08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6054D-E3FD-48A9-89D6-B91FCB10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F63F7-D764-4389-A42A-80CA22AB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05340-0500-46F3-9F04-11D594D9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0C0A5-88BB-405C-9A30-64969F50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1A0C-9BB2-450A-AFB1-5A6DC6AF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42B3D-2D93-4C00-BFCE-13992779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41A87-4298-4B6C-BBB6-3DA23EB1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48F61-ABDA-4748-A7EA-CFF27925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10D86-06F0-4C05-8206-CE8E3CCD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FA5EE-1329-4CD0-83C6-79DA360E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5039B-6DEB-4473-8B25-24BB820A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680C8-C7E7-4707-93F8-1A2FB2BB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C8736-F842-4DBA-ADBB-2F217655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E5997-1DE2-4866-911B-A7E69D73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14F4A-9C82-40A0-A402-1B26B55B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2F0-B3FA-47F1-9F6B-B179C4BC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7F2EA-F72D-4F98-9E3F-F7F29F02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560F9-0DFB-422C-8C18-1740E0BA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133A7-C681-4286-B361-29DEF2E6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95960-C4F6-4416-A6A9-6EC7BCFA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D6DEA-44CE-4510-B8B7-04447C10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415-8D06-4A10-B30C-9C5E4DB5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7369-6E83-492B-A1CC-8E09F2074E17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81CB-627B-49EC-B8D2-204F9EA07432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88BE-5FC8-47A8-BEF6-B16B12DB2626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DDD6-7DE4-43CA-A3FB-86DC6357CCAB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54C3-1BF6-4A01-8734-21B7BE49FAAC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E884-9B6E-4C34-ABC3-AE99359B7217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626A-5B1A-4C3D-9D10-821B2A215C77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25400" y="691920"/>
            <a:ext cx="57913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Corbel"/>
              </a:rPr>
              <a:t>Кассіопея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19" name="Picture 160" descr="I:\UKMA\Publishing House\Kassiopeya\КСД\013471.jpg"/>
          <p:cNvPicPr/>
          <p:nvPr/>
        </p:nvPicPr>
        <p:blipFill>
          <a:blip r:embed="rId2"/>
          <a:stretch/>
        </p:blipFill>
        <p:spPr>
          <a:xfrm>
            <a:off x="0" y="2205000"/>
            <a:ext cx="2124000" cy="257184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"/>
          <p:cNvSpPr/>
          <p:nvPr/>
        </p:nvSpPr>
        <p:spPr>
          <a:xfrm>
            <a:off x="3403440" y="1052640"/>
            <a:ext cx="4032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сузір’я електронних книжо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63" descr="I:\UKMA\Publishing House\Kassiopeya\stars.eps"/>
          <p:cNvPicPr/>
          <p:nvPr/>
        </p:nvPicPr>
        <p:blipFill>
          <a:blip r:embed="rId3"/>
          <a:stretch/>
        </p:blipFill>
        <p:spPr>
          <a:xfrm>
            <a:off x="4643280" y="1468440"/>
            <a:ext cx="3327480" cy="13460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4"/>
          <p:cNvSpPr/>
          <p:nvPr/>
        </p:nvSpPr>
        <p:spPr>
          <a:xfrm>
            <a:off x="3435480" y="3233880"/>
            <a:ext cx="413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та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лектронна бібліот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OneSto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h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грег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1619280" y="4602240"/>
            <a:ext cx="6894360" cy="21398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58d01"/>
                </a:solidFill>
                <a:latin typeface="Corbel"/>
              </a:rPr>
              <a:t>Каталог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601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аксимально розгалужений пошук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етальна каталогізаці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йбільш повна інформація про книгу, видавництво, а також точки продажу друкованих книг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Прямі посилання на електронні версії (у тому числі на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azon, B&amp;N, AppStor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ожливість переглянути частину книг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163" descr="I:\UKMA\Publishing House\Kassiopeya\stars.eps"/>
          <p:cNvPicPr/>
          <p:nvPr/>
        </p:nvPicPr>
        <p:blipFill>
          <a:blip r:embed="rId2"/>
          <a:stretch/>
        </p:blipFill>
        <p:spPr>
          <a:xfrm>
            <a:off x="7273800" y="260280"/>
            <a:ext cx="144000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445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8d01"/>
                </a:solidFill>
                <a:latin typeface="Corbel"/>
              </a:rPr>
              <a:t>Каталог. </a:t>
            </a:r>
            <a:r>
              <a:rPr b="0" i="1" lang="ru-RU" sz="3200" spc="-1" strike="noStrike">
                <a:solidFill>
                  <a:srgbClr val="c58d01"/>
                </a:solidFill>
                <a:latin typeface="Corbel"/>
              </a:rPr>
              <a:t>Принципи роботи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егальніст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езкоштовний доступ для користувачі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ідсутність реклам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манда «Кассіопея» самостійно розміщує книги в каталозі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озміщення безкоштовне для видавця або автор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163" descr="I:\UKMA\Publishing House\Kassiopeya\stars.eps"/>
          <p:cNvPicPr/>
          <p:nvPr/>
        </p:nvPicPr>
        <p:blipFill>
          <a:blip r:embed="rId1"/>
          <a:stretch/>
        </p:blipFill>
        <p:spPr>
          <a:xfrm>
            <a:off x="7273800" y="260280"/>
            <a:ext cx="144000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445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8d01"/>
                </a:solidFill>
                <a:latin typeface="Corbel"/>
              </a:rPr>
              <a:t>Електронна бібліотека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Хмарне рішення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оступ до електронних видань в режимі онлайн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ідери для читання на ПК під управлінням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бо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cOs (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ез підключення до мережі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езкоштовний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Kassiopeya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u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езкоштовний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Google Play (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розробці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хищений формат, що перешкоджає можливості вільно поділитися контентом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истеми електронних платежів (Інтеркаса,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rtmone, webmoney, LiqPay, PayPa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атистика 24/7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163" descr="I:\UKMA\Publishing House\Kassiopeya\stars.eps"/>
          <p:cNvPicPr/>
          <p:nvPr/>
        </p:nvPicPr>
        <p:blipFill>
          <a:blip r:embed="rId1"/>
          <a:stretch/>
        </p:blipFill>
        <p:spPr>
          <a:xfrm>
            <a:off x="7273800" y="260280"/>
            <a:ext cx="144000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445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8d01"/>
                </a:solidFill>
                <a:latin typeface="Corbel"/>
              </a:rPr>
              <a:t>Електронна бібліотека :</a:t>
            </a:r>
            <a:r>
              <a:rPr b="0" i="1" lang="ru-RU" sz="3200" spc="-1" strike="noStrike">
                <a:solidFill>
                  <a:srgbClr val="c58d01"/>
                </a:solidFill>
                <a:latin typeface="Corbel"/>
              </a:rPr>
              <a:t> Принципи роботи</a:t>
            </a:r>
            <a:r>
              <a:rPr b="1" lang="ru-RU" sz="3200" spc="-1" strike="noStrike">
                <a:solidFill>
                  <a:srgbClr val="c58d01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егальніст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евиключне право на поширення в електронному вигляді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оманда «Кассіопея» самостійно розміщує книги в бібліотеці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іртуальна ветрина - безкоштовне рішення для продажу доступу до електронних версій з партнерських Інтернет-ресурсі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5" name="Picture 163" descr="I:\UKMA\Publishing House\Kassiopeya\stars.eps"/>
          <p:cNvPicPr/>
          <p:nvPr/>
        </p:nvPicPr>
        <p:blipFill>
          <a:blip r:embed="rId1"/>
          <a:stretch/>
        </p:blipFill>
        <p:spPr>
          <a:xfrm>
            <a:off x="7273800" y="260280"/>
            <a:ext cx="1440000" cy="5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445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58d01"/>
                </a:solidFill>
                <a:latin typeface="Corbel"/>
              </a:rPr>
              <a:t>One Stop Shop</a:t>
            </a:r>
            <a:r>
              <a:rPr b="1" lang="en-US" sz="3200" spc="-1" strike="noStrike">
                <a:solidFill>
                  <a:srgbClr val="c58d01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58d01"/>
                </a:solidFill>
                <a:latin typeface="Gill Sans MT"/>
              </a:rPr>
              <a:t>—</a:t>
            </a:r>
            <a:r>
              <a:rPr b="1" lang="en-US" sz="3200" spc="-1" strike="noStrike">
                <a:solidFill>
                  <a:srgbClr val="c58d01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c58d01"/>
                </a:solidFill>
                <a:latin typeface="Corbel"/>
              </a:rPr>
              <a:t>сервіс комплексної комплектації бібліотек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перативна інформація про новинки книжкового ринку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Швидкість та зручність формування замовлення: все в одному місці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ридбання за видавничими цінам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ручність вибору книг, можливість попереднього ознайомлення з виданням з нашого каталогу (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kassiopeya.com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ожливість придбання книжок різних видавництв одним замовлення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Можливість отримання кваліфікованого бібліографічного запису у форматі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RC 21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правління замовленням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оставка до дверей Бібліотеки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" name="Picture 163" descr="I:\UKMA\Publishing House\Kassiopeya\stars.eps"/>
          <p:cNvPicPr/>
          <p:nvPr/>
        </p:nvPicPr>
        <p:blipFill>
          <a:blip r:embed="rId1"/>
          <a:stretch/>
        </p:blipFill>
        <p:spPr>
          <a:xfrm>
            <a:off x="7273800" y="260280"/>
            <a:ext cx="1440000" cy="5828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7524720" y="5084640"/>
            <a:ext cx="13381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10" descr="http://techdaily.ru/wp-content/uploads/2011/07/amazon1.jpg"/>
          <p:cNvPicPr/>
          <p:nvPr/>
        </p:nvPicPr>
        <p:blipFill>
          <a:blip r:embed="rId1"/>
          <a:stretch/>
        </p:blipFill>
        <p:spPr>
          <a:xfrm>
            <a:off x="1074600" y="2997360"/>
            <a:ext cx="4448160" cy="26478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445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8d01"/>
                </a:solidFill>
                <a:latin typeface="Corbel"/>
              </a:rPr>
              <a:t>Перший український агрегатор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иготовлення електронних версій в форматі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pu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Розміщення на найбільших світових майданчиках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azon, Barnes &amp; Noble, iBookStore, Kob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Технічна та інформаційна підтримк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татистика продажі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3" name="Picture 163" descr="I:\UKMA\Publishing House\Kassiopeya\stars.eps"/>
          <p:cNvPicPr/>
          <p:nvPr/>
        </p:nvPicPr>
        <p:blipFill>
          <a:blip r:embed="rId2"/>
          <a:stretch/>
        </p:blipFill>
        <p:spPr>
          <a:xfrm>
            <a:off x="7273800" y="260280"/>
            <a:ext cx="1440000" cy="5828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http://www.digitalbookworld.com/wp-content/uploads/Barnes-and-Noble.jpg"/>
          <p:cNvPicPr/>
          <p:nvPr/>
        </p:nvPicPr>
        <p:blipFill>
          <a:blip r:embed="rId3"/>
          <a:stretch/>
        </p:blipFill>
        <p:spPr>
          <a:xfrm>
            <a:off x="5148360" y="3645000"/>
            <a:ext cx="2268360" cy="1512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http://mobisite.ru/uploads/posts/2010-12/1293569957_0.jpg"/>
          <p:cNvPicPr/>
          <p:nvPr/>
        </p:nvPicPr>
        <p:blipFill>
          <a:blip r:embed="rId4"/>
          <a:stretch/>
        </p:blipFill>
        <p:spPr>
          <a:xfrm>
            <a:off x="5522760" y="4897440"/>
            <a:ext cx="1517760" cy="1779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http://www.destinationsbooksellers.com/uploads/image/KoboLogo.png"/>
          <p:cNvPicPr/>
          <p:nvPr/>
        </p:nvPicPr>
        <p:blipFill>
          <a:blip r:embed="rId5"/>
          <a:stretch/>
        </p:blipFill>
        <p:spPr>
          <a:xfrm>
            <a:off x="1979640" y="5175360"/>
            <a:ext cx="2365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00000" y="4295520"/>
            <a:ext cx="8445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58d01"/>
                </a:solidFill>
                <a:latin typeface="Corbel"/>
              </a:rPr>
              <a:t>Завжди до ваших послуг!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8" name="Picture 163" descr="I:\UKMA\Publishing House\Kassiopeya\stars.eps"/>
          <p:cNvPicPr/>
          <p:nvPr/>
        </p:nvPicPr>
        <p:blipFill>
          <a:blip r:embed="rId1"/>
          <a:stretch/>
        </p:blipFill>
        <p:spPr>
          <a:xfrm>
            <a:off x="7273800" y="260280"/>
            <a:ext cx="1440000" cy="582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I:\UKMA\Publishing House\Kassiopeya\banner_facebook.jpg"/>
          <p:cNvPicPr/>
          <p:nvPr/>
        </p:nvPicPr>
        <p:blipFill>
          <a:blip r:embed="rId2"/>
          <a:stretch/>
        </p:blipFill>
        <p:spPr>
          <a:xfrm>
            <a:off x="1022400" y="1557360"/>
            <a:ext cx="81010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Чуканова</cp:lastModifiedBy>
  <dcterms:modified xsi:type="dcterms:W3CDTF">2013-02-04T10:05:24Z</dcterms:modified>
  <cp:revision>676</cp:revision>
  <dc:subject/>
  <dc:title>Diapositiva 1</dc:title>
</cp:coreProperties>
</file>