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D08-599F-47E3-97E8-CEC52DCD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8B6C-F966-40B4-BCFB-EF9A1C2B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3D6-43B7-46D1-BEFF-CE37A661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588-20A4-4FF0-8979-E1E5BC26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6D21-9CAC-4E1B-9E04-CDE95251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4838-6827-4986-B61E-387F14DB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A649-6943-4CEF-BC78-07D04804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BC40-1EE8-49AD-A5F0-AF23CAF7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3861-4528-4FDD-8839-C4369C36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0027-E011-4A3D-8E64-398058CB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9E58-5ACF-4F27-9C6D-4296460C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4A8-4238-4A0E-AE0C-7AE03488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6512-0C98-40ED-BCA4-5D7474ED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2F5C-7F9A-4CE1-9866-AF098738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0EE2-7E72-44D2-9CDF-7418BFE7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182D-308D-404C-86C5-BB1737B7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1865-FA1B-4237-869D-21144D7A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B4B14-7C40-400E-9CF8-218E2890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DBD6B-503A-4073-927A-AEBEDDF3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199D3-6EC8-4BE2-8D77-23580C4E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E88CA-CF4B-4BDD-A4A9-FA407435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1EE67-DC17-422F-9981-84E07FF5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3BE1-0F49-400F-B25A-A83FEDC3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5AA19-545E-4745-A4DF-425980E6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4E402-2CC1-4ABC-9C71-E5165911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229CB-4538-4935-80B8-DF5EED17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7D565-887E-4497-BBB4-B36A3E1E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6BD48-D266-438C-9B89-76EA8CD7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8CD13-7C5B-441D-93FE-2C4AFA4E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82013-1FA3-44C0-B584-72561FF6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9A15D-CE47-40A4-B6E7-7BDDEAF2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0C9CC-2B57-4950-BFAE-7BD12627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ECCFA-F072-4DF7-A38F-D9007BB7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B232-D66B-46CC-8CEC-94494E1D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8C78D-D10E-4758-BFCD-90469EE6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384F5-1F66-4C75-A8DF-36B4720A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224D-BA42-4659-8C5F-67A806EF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9C06C-4312-4B03-AD9E-6BC823EB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4DFEC-A1D2-4B11-AB9C-D6D616D1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69560-D9D3-40BC-8AD9-6FF6D901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D7C97-BA05-4F4F-8C8A-BFF73C89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88444-273D-4AC7-B216-6B6B7420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0F98A-81AF-4313-903B-8C1E295D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0C0BA-A525-41AA-AD18-453C61EA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3CF2-974A-4C07-B275-A5410C55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EE989-84B9-4375-A0C9-0C6AB3F1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B0321-5599-40F7-9AEB-44979C34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CDC68-6407-4FCF-98D0-F2DFC123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8E8E5-1B75-456F-8E96-21094393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D62EF-8DD8-46C3-8666-F8F5F204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AAE29-D0EE-49C5-B560-2D2320AE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BC6D1-BF54-452E-9B40-74306912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34F66-BD65-420A-B0D3-C9687976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C4594-5285-4D26-84FB-8B3FFC9C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E9554-ACDB-4C8B-8771-C284A1CC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D31-CE24-4E81-A65B-372FD402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9024D-A140-4A50-B7A1-C8D471EB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29803-1EAD-4081-AF60-36591CD9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58157-B29B-493B-A82E-CE4DA21D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8746E-0A96-481E-B95E-FBA031E1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38C69-57EA-4EC2-B084-6D1C103E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3B8B0-DD3B-4B2D-98C7-669451AE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70AB2-21CC-41B1-8FA8-D19E9559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0215B-EDDE-4F91-B7F9-237D4F4D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F7627-3864-432D-AA5A-FD647A8A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2CD03-7324-47D3-8486-0EA944A9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082F-7EF7-419F-8B00-83BE65F4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F31BB-C4AE-4D0F-8D39-4C95BCD1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DB421-19D0-4420-A8F4-BF476929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B34A8-FEFD-4EF1-8769-266A10E5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5CFE4-6C36-4527-8621-90E8CC05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9639B-CEEF-46DC-82BE-1BB6027D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32A84-2022-4422-B79E-13ABBA4B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97605-ADB9-4A3F-9748-C8E0D7F3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F0137-DB03-43C3-9D56-177F0086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7A89D-D641-4867-9B94-4CEDFCF8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F0C59-52D6-4191-B425-A5E746DC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C47-7D78-4C46-9193-F48CEE49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51E85-8B1B-442E-BD89-FDAFAFA7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8B549-BCD6-423F-B802-83D26E17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BCD48-5EBD-49B9-9D27-CF1CCD63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13832-7A10-44D5-B1D3-090F1D6E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4AA74-8194-4EF5-8343-113318A5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25C-E553-41CA-B864-93D28CEC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F1DA-E42B-4A9D-9702-3F08A88B01C0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3FC2-CC4D-4021-A396-7921897A032F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892D-9B78-4B89-929F-C15B611122EA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9468-8C32-433B-B2F2-317C201AFB76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1A4A-8FC0-41DC-ADB6-D0C8640F0AFB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CA46-0974-4609-949A-554FA189980F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E299-298A-4B1F-B804-D5D99A1386DA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25400" y="691920"/>
            <a:ext cx="57913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Corbel"/>
              </a:rPr>
              <a:t>Кассіопея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Picture 160" descr="I:\UKMA\Publishing House\Kassiopeya\КСД\013471.jpg"/>
          <p:cNvPicPr/>
          <p:nvPr/>
        </p:nvPicPr>
        <p:blipFill>
          <a:blip r:embed="rId2"/>
          <a:stretch/>
        </p:blipFill>
        <p:spPr>
          <a:xfrm>
            <a:off x="0" y="2205000"/>
            <a:ext cx="2124000" cy="2571840"/>
          </a:xfrm>
          <a:prstGeom prst="rect">
            <a:avLst/>
          </a:prstGeom>
          <a:ln w="0">
            <a:noFill/>
          </a:ln>
        </p:spPr>
      </p:pic>
      <p:sp>
        <p:nvSpPr>
          <p:cNvPr id="320" name="TextBox 1"/>
          <p:cNvSpPr/>
          <p:nvPr/>
        </p:nvSpPr>
        <p:spPr>
          <a:xfrm>
            <a:off x="3403440" y="1052640"/>
            <a:ext cx="4032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сузір’я електронних книжо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63" descr="I:\UKMA\Publishing House\Kassiopeya\stars.eps"/>
          <p:cNvPicPr/>
          <p:nvPr/>
        </p:nvPicPr>
        <p:blipFill>
          <a:blip r:embed="rId3"/>
          <a:stretch/>
        </p:blipFill>
        <p:spPr>
          <a:xfrm>
            <a:off x="4643280" y="1468440"/>
            <a:ext cx="3327480" cy="1346040"/>
          </a:xfrm>
          <a:prstGeom prst="rect">
            <a:avLst/>
          </a:prstGeom>
          <a:ln w="0">
            <a:noFill/>
          </a:ln>
        </p:spPr>
      </p:pic>
      <p:sp>
        <p:nvSpPr>
          <p:cNvPr id="322" name="TextBox 4"/>
          <p:cNvSpPr/>
          <p:nvPr/>
        </p:nvSpPr>
        <p:spPr>
          <a:xfrm>
            <a:off x="3435480" y="3233880"/>
            <a:ext cx="413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та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лектронна бібліот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OneSto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h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грег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1619280" y="4602240"/>
            <a:ext cx="6894360" cy="21398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58d01"/>
                </a:solidFill>
                <a:latin typeface="Corbel"/>
              </a:rPr>
              <a:t>Каталог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601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аксимально розгалужений пошук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етальна каталогізаці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йбільш повна інформація про книгу, видавництво, а також точки продажу друкованих книг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ямі посилання на електронні версії (у тому числі на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mazon, B&amp;N, AppStor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ожливість переглянути частину книг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6" name="Picture 163" descr="I:\UKMA\Publishing House\Kassiopeya\stars.eps"/>
          <p:cNvPicPr/>
          <p:nvPr/>
        </p:nvPicPr>
        <p:blipFill>
          <a:blip r:embed="rId2"/>
          <a:stretch/>
        </p:blipFill>
        <p:spPr>
          <a:xfrm>
            <a:off x="7273800" y="260280"/>
            <a:ext cx="1440000" cy="5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445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58d01"/>
                </a:solidFill>
                <a:latin typeface="Corbel"/>
              </a:rPr>
              <a:t>Каталог. </a:t>
            </a:r>
            <a:r>
              <a:rPr b="0" i="1" lang="ru-RU" sz="3200" spc="-1" strike="noStrike">
                <a:solidFill>
                  <a:srgbClr val="c58d01"/>
                </a:solidFill>
                <a:latin typeface="Corbel"/>
              </a:rPr>
              <a:t>Принципи роботи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егальність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езкоштовний доступ для користувачі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ідсутність реклам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манда «Кассіопея» самостійно розміщує книги в каталозі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озміщення безкоштовне для видавця або автор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163" descr="I:\UKMA\Publishing House\Kassiopeya\stars.eps"/>
          <p:cNvPicPr/>
          <p:nvPr/>
        </p:nvPicPr>
        <p:blipFill>
          <a:blip r:embed="rId1"/>
          <a:stretch/>
        </p:blipFill>
        <p:spPr>
          <a:xfrm>
            <a:off x="7273800" y="260280"/>
            <a:ext cx="1440000" cy="5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445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58d01"/>
                </a:solidFill>
                <a:latin typeface="Corbel"/>
              </a:rPr>
              <a:t>Електронна бібліотека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Хмарне рішенн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оступ до електронних видань в режимі онлайн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ідери для читання на ПК під управлінням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бо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cOs (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ез підключення до мережі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езкоштовний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Kassiopeya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u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езкоштовний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Google Play (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розробці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хищений формат, що перешкоджає можливості вільно поділитися контентом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истеми електронних платежів (Інтеркаса,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rtmone, webmoney, LiqPay, PayPa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атистика 24/7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Picture 163" descr="I:\UKMA\Publishing House\Kassiopeya\stars.eps"/>
          <p:cNvPicPr/>
          <p:nvPr/>
        </p:nvPicPr>
        <p:blipFill>
          <a:blip r:embed="rId1"/>
          <a:stretch/>
        </p:blipFill>
        <p:spPr>
          <a:xfrm>
            <a:off x="7273800" y="260280"/>
            <a:ext cx="1440000" cy="5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445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58d01"/>
                </a:solidFill>
                <a:latin typeface="Corbel"/>
              </a:rPr>
              <a:t>Електронна бібліотека :</a:t>
            </a:r>
            <a:r>
              <a:rPr b="0" i="1" lang="ru-RU" sz="3200" spc="-1" strike="noStrike">
                <a:solidFill>
                  <a:srgbClr val="c58d01"/>
                </a:solidFill>
                <a:latin typeface="Corbel"/>
              </a:rPr>
              <a:t> Принципи роботи</a:t>
            </a:r>
            <a:r>
              <a:rPr b="1" lang="ru-RU" sz="3200" spc="-1" strike="noStrike">
                <a:solidFill>
                  <a:srgbClr val="c58d01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егальність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евиключне право на поширення в електронному вигляді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манда «Кассіопея» самостійно розміщує книги в бібліотеці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іртуальна ветрина - безкоштовне рішення для продажу доступу до електронних версій з партнерських Інтернет-ресурсі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5" name="Picture 163" descr="I:\UKMA\Publishing House\Kassiopeya\stars.eps"/>
          <p:cNvPicPr/>
          <p:nvPr/>
        </p:nvPicPr>
        <p:blipFill>
          <a:blip r:embed="rId1"/>
          <a:stretch/>
        </p:blipFill>
        <p:spPr>
          <a:xfrm>
            <a:off x="7273800" y="260280"/>
            <a:ext cx="1440000" cy="5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445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58d01"/>
                </a:solidFill>
                <a:latin typeface="Corbel"/>
              </a:rPr>
              <a:t>One Stop Shop</a:t>
            </a:r>
            <a:r>
              <a:rPr b="1" lang="en-US" sz="3200" spc="-1" strike="noStrike">
                <a:solidFill>
                  <a:srgbClr val="c58d01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58d01"/>
                </a:solidFill>
                <a:latin typeface="Gill Sans MT"/>
              </a:rPr>
              <a:t>—</a:t>
            </a:r>
            <a:r>
              <a:rPr b="1" lang="en-US" sz="3200" spc="-1" strike="noStrike">
                <a:solidFill>
                  <a:srgbClr val="c58d01"/>
                </a:solidFill>
                <a:latin typeface="Gill Sans MT"/>
              </a:rPr>
              <a:t> </a:t>
            </a:r>
            <a:r>
              <a:rPr b="0" lang="ru-RU" sz="3200" spc="-1" strike="noStrike">
                <a:solidFill>
                  <a:srgbClr val="c58d01"/>
                </a:solidFill>
                <a:latin typeface="Corbel"/>
              </a:rPr>
              <a:t>сервіс комплексної комплектації бібліотек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перативна інформація про новинки книжкового ринку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Швидкість та зручність формування замовлення: все в одному місці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идбання за видавничими цінам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ручність вибору книг, можливість попереднього ознайомлення з виданням з нашого каталогу (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kassiopeya.com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Можливість придбання книжок різних видавництв одним замовленням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Можливість отримання кваліфікованого бібліографічного запису у форматі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RC 21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Управління замовленням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оставка до дверей Бібліотек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" name="Picture 163" descr="I:\UKMA\Publishing House\Kassiopeya\stars.eps"/>
          <p:cNvPicPr/>
          <p:nvPr/>
        </p:nvPicPr>
        <p:blipFill>
          <a:blip r:embed="rId1"/>
          <a:stretch/>
        </p:blipFill>
        <p:spPr>
          <a:xfrm>
            <a:off x="7273800" y="260280"/>
            <a:ext cx="1440000" cy="5828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"/>
          <p:cNvPicPr/>
          <p:nvPr/>
        </p:nvPicPr>
        <p:blipFill>
          <a:blip r:embed="rId2"/>
          <a:stretch/>
        </p:blipFill>
        <p:spPr>
          <a:xfrm>
            <a:off x="7524720" y="5084640"/>
            <a:ext cx="13381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0" descr="http://techdaily.ru/wp-content/uploads/2011/07/amazon1.jpg"/>
          <p:cNvPicPr/>
          <p:nvPr/>
        </p:nvPicPr>
        <p:blipFill>
          <a:blip r:embed="rId1"/>
          <a:stretch/>
        </p:blipFill>
        <p:spPr>
          <a:xfrm>
            <a:off x="1074600" y="2997360"/>
            <a:ext cx="4448160" cy="26478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445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58d01"/>
                </a:solidFill>
                <a:latin typeface="Corbel"/>
              </a:rPr>
              <a:t>Перший український агрегатор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иготовлення електронних версій в форматі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pu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озміщення на найбільших світових майданчиках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mazon, Barnes &amp; Noble, iBookStore, Kob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ехнічна та інформаційна підтримк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атистика продажі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3" name="Picture 163" descr="I:\UKMA\Publishing House\Kassiopeya\stars.eps"/>
          <p:cNvPicPr/>
          <p:nvPr/>
        </p:nvPicPr>
        <p:blipFill>
          <a:blip r:embed="rId2"/>
          <a:stretch/>
        </p:blipFill>
        <p:spPr>
          <a:xfrm>
            <a:off x="7273800" y="260280"/>
            <a:ext cx="1440000" cy="5828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http://www.digitalbookworld.com/wp-content/uploads/Barnes-and-Noble.jpg"/>
          <p:cNvPicPr/>
          <p:nvPr/>
        </p:nvPicPr>
        <p:blipFill>
          <a:blip r:embed="rId3"/>
          <a:stretch/>
        </p:blipFill>
        <p:spPr>
          <a:xfrm>
            <a:off x="5148360" y="3645000"/>
            <a:ext cx="2268360" cy="1512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http://mobisite.ru/uploads/posts/2010-12/1293569957_0.jpg"/>
          <p:cNvPicPr/>
          <p:nvPr/>
        </p:nvPicPr>
        <p:blipFill>
          <a:blip r:embed="rId4"/>
          <a:stretch/>
        </p:blipFill>
        <p:spPr>
          <a:xfrm>
            <a:off x="5522760" y="4897440"/>
            <a:ext cx="1517760" cy="17794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http://www.destinationsbooksellers.com/uploads/image/KoboLogo.png"/>
          <p:cNvPicPr/>
          <p:nvPr/>
        </p:nvPicPr>
        <p:blipFill>
          <a:blip r:embed="rId5"/>
          <a:stretch/>
        </p:blipFill>
        <p:spPr>
          <a:xfrm>
            <a:off x="1979640" y="5175360"/>
            <a:ext cx="2365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00000" y="4295520"/>
            <a:ext cx="8445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58d01"/>
                </a:solidFill>
                <a:latin typeface="Corbel"/>
              </a:rPr>
              <a:t>Завжди до ваших послуг!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8" name="Picture 163" descr="I:\UKMA\Publishing House\Kassiopeya\stars.eps"/>
          <p:cNvPicPr/>
          <p:nvPr/>
        </p:nvPicPr>
        <p:blipFill>
          <a:blip r:embed="rId1"/>
          <a:stretch/>
        </p:blipFill>
        <p:spPr>
          <a:xfrm>
            <a:off x="7273800" y="260280"/>
            <a:ext cx="1440000" cy="5828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I:\UKMA\Publishing House\Kassiopeya\banner_facebook.jpg"/>
          <p:cNvPicPr/>
          <p:nvPr/>
        </p:nvPicPr>
        <p:blipFill>
          <a:blip r:embed="rId2"/>
          <a:stretch/>
        </p:blipFill>
        <p:spPr>
          <a:xfrm>
            <a:off x="1022400" y="1557360"/>
            <a:ext cx="810108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Чуканова</cp:lastModifiedBy>
  <dcterms:modified xsi:type="dcterms:W3CDTF">2013-02-04T10:05:24Z</dcterms:modified>
  <cp:revision>676</cp:revision>
  <dc:subject/>
  <dc:title>Diapositiva 1</dc:title>
</cp:coreProperties>
</file>