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1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A87-DB99-4095-87D7-72B47FDC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8477-091D-4840-8374-27A3EA29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61A-0AB5-4E0E-A568-E82D5F1D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1DE-87C9-4DF7-A57A-862B81FE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D2E-DE1D-4BA1-815B-DA9CA12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E02-23AC-4803-A75D-11F837F9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A6E-4E1B-4A03-B574-260E7FCC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F804-B4F0-4214-A12B-586F595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D5A-1079-4892-B063-81FC1FCF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49C-B244-4C7F-9D40-C3A2459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659-EB2A-451B-B246-9B5D7A0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923-85AF-40FC-866D-F6F1BFB0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BF5E-324A-4BCB-B8F8-DA8F33FEC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piegel.de/international/spiegel/0,1518,grossbild-520901-436798,00.htm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V1oFMA2oAJ_KjzbkF/SIG=13elt4qkq/EXP=1283663765/**http%3A//www.golfofmexicooilspill.com/wp-content/uploads/2010/05/oil-spill-gulf-bid-deal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x91YFME30AQ8yJzbkF;_ylu=X3oDMTBpdDZuNzZrBHBvcwM5BHNlYwNzcgR2dGlkAw--/SIG=1ll4vdaco/EXP=1283663613/**http%3A//images.search.yahoo.com/images/view%3Fback=http%253A%252F%252Fimages.search.yahoo.com%252Fsearch%252Fimages%253F_adv_prop%253Dimage%2526va%253Doil%252Bspill%252Bgolf%252Bmexico%2526fr%253Dyfp-t-944-1%26w=420%26h=454%26imgurl=www.usposttoday.com%252Fwp-content%252Fuploads%252F2010%252F04%252FOil-Spill-Gulf-Of-Mexico-2010.jpg%26rurl=http%253A%252F%252Fwww.usposttoday.com%252Foil-spill-gulf-of-mexico-2010-%2525E2%252580%252593-coast-guard-considers-lighting-oil-on-fire%252F%26size=34KB%26name=Oil%2BSpill%2BGulf%2BO...%26p=oil%2Bspill%2Bgolf%2Bmexico%26oid=a18c2acf29622fc8acbff440e1fdd92a%26fr2=%26no=9%26tt=1910%26sigr=13eenpo1c%26sigi=12gkksgtp%26sigb=134sf2tv8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rds.yahoo.com/_ylt=A0WTb_y21YFMyHgAtGGJzbkF;_ylu=X3oDMTBqb3U5bmQ4BHBvcwMzOQRzZWMDc3IEdnRpZAM-/SIG=1ndg883fp/EXP=1283663670/**http%3A//images.search.yahoo.com/images/view%3Fback=http%253A%252F%252Fimages.search.yahoo.com%252Fsearch%252Fimages%253F_adv_prop%253Dimage%2526b%253D21%2526ni%253D20%2526va%253Doil%252Bspill%252Bgolf%252Bmexico%2526xargs%253D0%2526pstart%253D1%2526fr%253Dyfp-t-944-1%26w=420%26h=295%26imgurl=images.smh.com.au%252F2010%252F05%252F11%252F1434058%252Fjunk420-420x0.jpg%26rurl=http%253A%252F%252Fwww.smh.com.au%252Fenvironment%252Fconservation%252Fcrazy-gulf-highrisk--junk-shot-may-be-tried-to-plug-oil-leak-20100511-uqg1.html%26size=37KB%26name=...%2BDeepwater%2BHo...%26p=oil%2Bspill%2Bgolf%2Bmexico%26oid=a3e9efc8965a5515e2000a68e5669e8e%26fr2=%26no=39%26tt=1910%26b=21%26ni=20%26sigr=13uaescup%26sigi=11mtqr0vp%26sigb=14061aqh8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wx1oFMmQsAmHeJzbkF;_ylu=X3oDMTBqYmk3ZDF2BHBvcwM1NwRzZWMDc3IEdnRpZAM-/SIG=1m9aviikm/EXP=1283663793/**http%3A//images.search.yahoo.com/images/view%3Fback=http%253A%252F%252Fimages.search.yahoo.com%252Fsearch%252Fimages%253F_adv_prop%253Dimage%2526b%253D41%2526ni%253D20%2526va%253Doil%252Bspill%252Bgolf%252Bmexico%2526xargs%253D0%2526pstart%253D1%2526fr%253Dyfp-t-944-1%26w=535%26h=401%26imgurl=theredphoenix.files.wordpress.com%252F2010%252F06%252Fadamsmith2.jpg%26rurl=http%253A%252F%252Fwww.gearflag.com%252Fimages%252Fpage.php%253Fpage%253Dgulf%252Boil%252Bspill%252Btop%252Bkill%26size=59KB%26name=...%2B%253A%2Bgulf%2Boil%2Bs...%26p=oil%2Bspill%2Bgolf%2Bmexico%26oid=070e922b4c58a62b3964bea63bf88f1a%26fr2=%26no=57%26tt=1910%26b=41%26ni=20%26sigr=124ta6sjp%26sigi=11o52paco%26sigb=140ge97ul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y21YFMyHgArmGJzbkF;_ylu=X3oDMTBqcGowaXYwBHBvcwMzMwRzZWMDc3IEdnRpZAM-/SIG=1kc6aii4f/EXP=1283663670/**http%3A//images.search.yahoo.com/images/view%3Fback=http%253A%252F%252Fimages.search.yahoo.com%252Fsearch%252Fimages%253F_adv_prop%253Dimage%2526b%253D21%2526ni%253D20%2526va%253Doil%252Bspill%252Bgolf%252Bmexico%2526xargs%253D0%2526pstart%253D1%2526fr%253Dyfp-t-944-1%26w=720%26h=425%26imgurl=www.atlantaprogressivenews.com%252Fimages%252Fbp1.jpg%26rurl=http%253A%252F%252Fwww.atlantaprogressivenews.com%252Fnews%252F0634.html%26size=81KB%26name=...%2BPeril%2Bafter%2B...%26p=oil%2Bspill%2Bgolf%2Bmexico%26oid=98d3ecd4c2befcd29d22edb91aeec113%26fr2=%26no=33%26tt=1910%26b=21%26ni=20%26sigr=11k0kga1n%26sigi=11drleq8l%26sigb=14061aqh8" TargetMode="Externa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Ю. Посудін. 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Лекція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</a:t>
            </a:r>
            <a:br>
              <a:rPr sz="20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ЕКОЛОГІЧНІ НЕГАРАЗД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celand3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2685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3" name="Text Box 10"/>
          <p:cNvSpPr/>
          <p:nvPr/>
        </p:nvSpPr>
        <p:spPr>
          <a:xfrm>
            <a:off x="900000" y="4653000"/>
            <a:ext cx="777744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uriy Posu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vironmental Monitoring with Fundamentals of Metrology Lecture 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NVIRONMENT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akistan2010b"/>
          <p:cNvPicPr/>
          <p:nvPr/>
        </p:nvPicPr>
        <p:blipFill>
          <a:blip r:embed="rId1"/>
          <a:stretch/>
        </p:blipFill>
        <p:spPr>
          <a:xfrm>
            <a:off x="826920" y="1179360"/>
            <a:ext cx="76327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loodsPakistan2010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loods2010Pakistan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520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P2010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2009-3"/>
          <p:cNvPicPr/>
          <p:nvPr/>
        </p:nvPicPr>
        <p:blipFill>
          <a:blip r:embed="rId1"/>
          <a:stretch/>
        </p:blipFill>
        <p:spPr>
          <a:xfrm>
            <a:off x="755640" y="1332000"/>
            <a:ext cx="77040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ЖЕЖІ В РОСІЇ 2010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RussiaWildFires2010"/>
          <p:cNvPicPr/>
          <p:nvPr/>
        </p:nvPicPr>
        <p:blipFill>
          <a:blip r:embed="rId1"/>
          <a:stretch/>
        </p:blipFill>
        <p:spPr>
          <a:xfrm>
            <a:off x="826920" y="1125360"/>
            <a:ext cx="7488360" cy="55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WildFiresRussia"/>
          <p:cNvPicPr/>
          <p:nvPr/>
        </p:nvPicPr>
        <p:blipFill>
          <a:blip r:embed="rId1"/>
          <a:stretch/>
        </p:blipFill>
        <p:spPr>
          <a:xfrm>
            <a:off x="684360" y="1341360"/>
            <a:ext cx="7777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Russia_Fires2010"/>
          <p:cNvPicPr/>
          <p:nvPr/>
        </p:nvPicPr>
        <p:blipFill>
          <a:blip r:embed="rId1"/>
          <a:stretch/>
        </p:blipFill>
        <p:spPr>
          <a:xfrm>
            <a:off x="1187280" y="1189080"/>
            <a:ext cx="66978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Russia2010Smoke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5079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ОЖЕЖІ В РОС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FiresRussia2010"/>
          <p:cNvPicPr/>
          <p:nvPr/>
        </p:nvPicPr>
        <p:blipFill>
          <a:blip r:embed="rId1"/>
          <a:stretch/>
        </p:blipFill>
        <p:spPr>
          <a:xfrm>
            <a:off x="539640" y="2060640"/>
            <a:ext cx="79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верження вулкан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00px-Fimmvorduhals_2010_03_27_dawn"/>
          <p:cNvPicPr/>
          <p:nvPr/>
        </p:nvPicPr>
        <p:blipFill>
          <a:blip r:embed="rId1"/>
          <a:stretch/>
        </p:blipFill>
        <p:spPr>
          <a:xfrm>
            <a:off x="684360" y="1220760"/>
            <a:ext cx="7775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Задим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scow2-072910-357x512"/>
          <p:cNvPicPr/>
          <p:nvPr/>
        </p:nvPicPr>
        <p:blipFill>
          <a:blip r:embed="rId1"/>
          <a:stretch/>
        </p:blipFill>
        <p:spPr>
          <a:xfrm>
            <a:off x="2843280" y="1557360"/>
            <a:ext cx="340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Задимле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mogRussia2010"/>
          <p:cNvPicPr/>
          <p:nvPr/>
        </p:nvPicPr>
        <p:blipFill>
          <a:blip r:embed="rId1"/>
          <a:stretch/>
        </p:blipFill>
        <p:spPr>
          <a:xfrm>
            <a:off x="2843280" y="1700280"/>
            <a:ext cx="3429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Задим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oscow1-072910-512x304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ВИБУХИ В УЛЬЯНОВСЬКУ 2009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UlyanovskExplosion2009"/>
          <p:cNvPicPr/>
          <p:nvPr/>
        </p:nvPicPr>
        <p:blipFill>
          <a:blip r:embed="rId1"/>
          <a:stretch/>
        </p:blipFill>
        <p:spPr>
          <a:xfrm>
            <a:off x="2916360" y="1628640"/>
            <a:ext cx="33019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U4"/>
          <p:cNvPicPr/>
          <p:nvPr/>
        </p:nvPicPr>
        <p:blipFill>
          <a:blip r:embed="rId1"/>
          <a:stretch/>
        </p:blipFill>
        <p:spPr>
          <a:xfrm>
            <a:off x="1763640" y="1773360"/>
            <a:ext cx="6050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5"/>
          <p:cNvPicPr/>
          <p:nvPr/>
        </p:nvPicPr>
        <p:blipFill>
          <a:blip r:embed="rId1"/>
          <a:stretch/>
        </p:blipFill>
        <p:spPr>
          <a:xfrm>
            <a:off x="755640" y="1773360"/>
            <a:ext cx="75614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БУХИ В УЛЬЯНОВСЬ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Ulyanovsk2"/>
          <p:cNvPicPr/>
          <p:nvPr/>
        </p:nvPicPr>
        <p:blipFill>
          <a:blip r:embed="rId1"/>
          <a:stretch/>
        </p:blipFill>
        <p:spPr>
          <a:xfrm>
            <a:off x="1042920" y="1268280"/>
            <a:ext cx="7201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ИРУБКА ДЕРЕВ ТА ЛІС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ХЛ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Химкинский Лес"/>
          <p:cNvPicPr/>
          <p:nvPr/>
        </p:nvPicPr>
        <p:blipFill>
          <a:blip r:embed="rId1"/>
          <a:stretch/>
        </p:blipFill>
        <p:spPr>
          <a:xfrm>
            <a:off x="900000" y="1700280"/>
            <a:ext cx="75614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ХЛ2"/>
          <p:cNvPicPr/>
          <p:nvPr/>
        </p:nvPicPr>
        <p:blipFill>
          <a:blip r:embed="rId1"/>
          <a:stretch/>
        </p:blipFill>
        <p:spPr>
          <a:xfrm>
            <a:off x="1116000" y="1287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яфьяллайокулль в Ісланд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2010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celand2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ХЛ3"/>
          <p:cNvPicPr/>
          <p:nvPr/>
        </p:nvPicPr>
        <p:blipFill>
          <a:blip r:embed="rId1"/>
          <a:stretch/>
        </p:blipFill>
        <p:spPr>
          <a:xfrm>
            <a:off x="1332000" y="1557360"/>
            <a:ext cx="6481800" cy="4862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ІМК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95878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195877"/>
          <p:cNvPicPr/>
          <p:nvPr/>
        </p:nvPicPr>
        <p:blipFill>
          <a:blip r:embed="rId1"/>
          <a:stretch/>
        </p:blipFill>
        <p:spPr>
          <a:xfrm>
            <a:off x="900000" y="1484280"/>
            <a:ext cx="74170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Вырубка Деревьев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46083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КИ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ff"/>
                </a:solidFill>
                <a:latin typeface="Arial"/>
              </a:rPr>
              <a:t>Мексиканська затока 2010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hevron has discovered new oil reserves in the Gulf of Mexico. They may have doubled US oil reserves overnight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484280"/>
            <a:ext cx="705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Oil could threaten Mississippi, Alabama"/>
          <p:cNvPicPr/>
          <p:nvPr/>
        </p:nvPicPr>
        <p:blipFill>
          <a:blip r:embed="rId1"/>
          <a:stretch/>
        </p:blipFill>
        <p:spPr>
          <a:xfrm>
            <a:off x="611280" y="1844640"/>
            <a:ext cx="777564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7345440" cy="4141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6633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16280"/>
            <a:ext cx="353088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37000"/>
            <a:ext cx="3002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ixtox12"/>
          <p:cNvPicPr/>
          <p:nvPr/>
        </p:nvPicPr>
        <p:blipFill>
          <a:blip r:embed="rId1"/>
          <a:stretch/>
        </p:blipFill>
        <p:spPr>
          <a:xfrm>
            <a:off x="1042920" y="1484280"/>
            <a:ext cx="712944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03360"/>
            <a:ext cx="64090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Эйяфьяллайокулль в Исландии4"/>
          <p:cNvPicPr/>
          <p:nvPr/>
        </p:nvPicPr>
        <p:blipFill>
          <a:blip r:embed="rId1"/>
          <a:stretch/>
        </p:blipFill>
        <p:spPr>
          <a:xfrm>
            <a:off x="755640" y="1293840"/>
            <a:ext cx="7632720" cy="50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Мексиканська за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4221000"/>
            <a:ext cx="4104000" cy="240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Go to fullsize image"/>
          <p:cNvPicPr/>
          <p:nvPr/>
        </p:nvPicPr>
        <p:blipFill>
          <a:blip r:embed="rId3"/>
          <a:stretch/>
        </p:blipFill>
        <p:spPr>
          <a:xfrm>
            <a:off x="4788000" y="2060640"/>
            <a:ext cx="4032000" cy="267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Go to fullsize image"/>
          <p:cNvPicPr/>
          <p:nvPr/>
        </p:nvPicPr>
        <p:blipFill>
          <a:blip r:embed="rId4"/>
          <a:stretch/>
        </p:blipFill>
        <p:spPr>
          <a:xfrm>
            <a:off x="684360" y="1341360"/>
            <a:ext cx="3671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ccff"/>
                </a:solidFill>
                <a:latin typeface="Arial"/>
              </a:rPr>
              <a:t>Землетрус та цунамі в Японії 2011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sunamiJapan"/>
          <p:cNvPicPr/>
          <p:nvPr/>
        </p:nvPicPr>
        <p:blipFill>
          <a:blip r:embed="rId1"/>
          <a:stretch/>
        </p:blipFill>
        <p:spPr>
          <a:xfrm>
            <a:off x="1122480" y="1600200"/>
            <a:ext cx="689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 березня 2011 р. висота руйнівної хвилі під час цунамі в Японії  складала  близько 39 метрі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Japan2011b"/>
          <p:cNvPicPr/>
          <p:nvPr/>
        </p:nvPicPr>
        <p:blipFill>
          <a:blip r:embed="rId1"/>
          <a:stretch/>
        </p:blipFill>
        <p:spPr>
          <a:xfrm>
            <a:off x="1116000" y="1916280"/>
            <a:ext cx="6978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kushima Nuclear Station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1"/>
          <p:cNvPicPr/>
          <p:nvPr/>
        </p:nvPicPr>
        <p:blipFill>
          <a:blip r:embed="rId1"/>
          <a:stretch/>
        </p:blipFill>
        <p:spPr>
          <a:xfrm>
            <a:off x="1035000" y="1600200"/>
            <a:ext cx="707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福島第一原子力発電所事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kushima Daiichi nuclear disaster is a series of equipment failures, nuclear meltdowns, and releases of radioactive materials at the Fukushima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clear Power Plant,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ing the Tohiku earthquaike and tsunami on 11 March 201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thumbnail"/>
          <p:cNvPicPr/>
          <p:nvPr/>
        </p:nvPicPr>
        <p:blipFill>
          <a:blip r:embed="rId1"/>
          <a:stretch/>
        </p:blipFill>
        <p:spPr>
          <a:xfrm>
            <a:off x="4427640" y="1628640"/>
            <a:ext cx="4464000" cy="330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4" name="Rectangle 5"/>
          <p:cNvSpPr/>
          <p:nvPr/>
        </p:nvSpPr>
        <p:spPr>
          <a:xfrm>
            <a:off x="5292720" y="5157720"/>
            <a:ext cx="2664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6156360" y="5373720"/>
            <a:ext cx="86508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55640" y="6165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urtesy of Dr. Toy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варія вантажного корабля “Прогрес М-12М” 2011 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5800" y="1928880"/>
            <a:ext cx="4714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2011 році вантажний космічний корабель "Прогрес М-12М", запущений з космодрому "Байконур", не вдалося вивести на цільову орбіту; він набрав більшу висоту, після чого різко почав знижуватися, розвалився на частини і майже повністю згорів у щільних шарах атмосфе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повідомляє РИА "Новости", уламки "Прогресу" впали в тайзі, в Республіці Алта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Грузовой космический корабль «Прогресс» разбился 24 агуста"/>
          <p:cNvPicPr/>
          <p:nvPr/>
        </p:nvPicPr>
        <p:blipFill>
          <a:blip r:embed="rId1"/>
          <a:stretch/>
        </p:blipFill>
        <p:spPr>
          <a:xfrm>
            <a:off x="500040" y="3786120"/>
            <a:ext cx="3643200" cy="2733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рузовой корабль «Прогресс»"/>
          <p:cNvPicPr/>
          <p:nvPr/>
        </p:nvPicPr>
        <p:blipFill>
          <a:blip r:embed="rId2"/>
          <a:stretch/>
        </p:blipFill>
        <p:spPr>
          <a:xfrm>
            <a:off x="142920" y="1571760"/>
            <a:ext cx="3198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rricane Irene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2"/>
          <p:cNvPicPr/>
          <p:nvPr/>
        </p:nvPicPr>
        <p:blipFill>
          <a:blip r:embed="rId1"/>
          <a:stretch/>
        </p:blipFill>
        <p:spPr>
          <a:xfrm>
            <a:off x="1042920" y="1268280"/>
            <a:ext cx="72741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ибухи, Оренбург 2012 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643200" y="2143080"/>
            <a:ext cx="5119920" cy="3141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32860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100" spc="-1" strike="noStrike">
                <a:solidFill>
                  <a:srgbClr val="ffff00"/>
                </a:solidFill>
                <a:latin typeface="Arial"/>
              </a:rPr>
              <a:t>За даними головного військового слідчого управління СК РФ вибухнуло понад 4 тисячі тонн снаряді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Эйяфьяллайокулль в Исландии"/>
          <p:cNvPicPr/>
          <p:nvPr/>
        </p:nvPicPr>
        <p:blipFill>
          <a:blip r:embed="rId1"/>
          <a:stretch/>
        </p:blipFill>
        <p:spPr>
          <a:xfrm>
            <a:off x="971640" y="1211400"/>
            <a:ext cx="7200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Эйяфьяллайокулль в Исландии3"/>
          <p:cNvPicPr/>
          <p:nvPr/>
        </p:nvPicPr>
        <p:blipFill>
          <a:blip r:embed="rId1"/>
          <a:stretch/>
        </p:blipFill>
        <p:spPr>
          <a:xfrm>
            <a:off x="539640" y="1349280"/>
            <a:ext cx="79930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вулкан Эйяфьятлайокудль"/>
          <p:cNvPicPr/>
          <p:nvPr/>
        </p:nvPicPr>
        <p:blipFill>
          <a:blip r:embed="rId1"/>
          <a:stretch/>
        </p:blipFill>
        <p:spPr>
          <a:xfrm>
            <a:off x="684360" y="1365120"/>
            <a:ext cx="77752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йяфьяллайокулль в Іслан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volcanoIceland2010"/>
          <p:cNvPicPr/>
          <p:nvPr/>
        </p:nvPicPr>
        <p:blipFill>
          <a:blip r:embed="rId1"/>
          <a:stretch/>
        </p:blipFill>
        <p:spPr>
          <a:xfrm>
            <a:off x="539640" y="1916280"/>
            <a:ext cx="79200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ВЕНІ В ПАКИСТАН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2010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kistan2010"/>
          <p:cNvPicPr/>
          <p:nvPr/>
        </p:nvPicPr>
        <p:blipFill>
          <a:blip r:embed="rId1"/>
          <a:stretch/>
        </p:blipFill>
        <p:spPr>
          <a:xfrm>
            <a:off x="1908000" y="1341360"/>
            <a:ext cx="5472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1:33:04Z</dcterms:created>
  <dc:creator>Posudin</dc:creator>
  <dc:description/>
  <dc:language>en-US</dc:language>
  <cp:lastModifiedBy>Оксана</cp:lastModifiedBy>
  <dcterms:modified xsi:type="dcterms:W3CDTF">2012-11-04T14:57:36Z</dcterms:modified>
  <cp:revision>29</cp:revision>
  <dc:subject/>
  <dc:title>Слайд 1</dc:title>
</cp:coreProperties>
</file>