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8DF-E40C-41E1-8D14-5C0B6265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530-68EB-4802-A909-10A03AA6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BF1-7396-4F98-9954-A84180DA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BE1-517A-4209-A81E-562F9A83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E04-5191-4C05-A80E-176D32A9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8E1-1A05-4D98-A1FE-04CEC7B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DC1-835A-4ACE-B5D3-FB247DB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15D-CE3A-421A-86E9-7C981A8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D073-D62B-4E5E-B026-2566FD4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C48-1C55-4DF4-B3D1-3E25262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78C3-C87F-439A-B3A3-15F1C03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C84-F1ED-4F16-B8AE-36B16A3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DF4-82C5-426F-9C5B-A08D5B8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529-49B6-41F7-A914-CB08487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F13C-7D6A-48DB-9AF8-500E9DA4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C31-80F7-4F48-AD5B-BF91CBC0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5149-D116-46A7-8D06-99731F73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89D-C7F6-45FD-AF36-15FB8DF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944-7E10-4AB8-AFCE-7D3DD33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203-0353-4FD2-9C01-8FC25CD9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711-70F6-4EC4-9453-389865B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562-9904-4946-9364-ED41E2FA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64F-B406-44C4-B060-75078839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4B0-52B5-443C-97A0-C153F1F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E982-F30E-4D37-8AED-CA8B42BB1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F62-D99E-47DC-8827-57A1D87FD30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X.SgUNNCW4ABEiJzbkF;_ylu=X3oDMTBqOWZvY2xqBHBvcwMyNARzZWMDc3IEdnRpZAM-/SIG=1lb84342g/EXP=1296356114/**http%3A//images.search.yahoo.com/images/view%3Fback=http%253A%252F%252Fimages.search.yahoo.com%252Fsearch%252Fimages%253F_adv_prop%253Dimage%2526b%253D21%2526ni%253D20%2526va%253Drain%252Bcartoon%2526xargs%253D0%2526pstart%253D1%2526fr%253Dyfp-t-316-1%26w=600%26h=511%26imgurl=www.clker.com%252Fcliparts%252Fa%252Fa%252F6%252F4%252F1228428520667582858sivvus_weather_symbols_4.svg.hi.png%26rurl=http%253A%252F%252Fwww.clker.com%252Fclipart-25248.html%26size=50KB%26name=Rain%2BCloud%2Bclip%2B...%26p=rain%2Bcartoon%26oid=f1723a01ba7a7082b47403685d1da71e%26fr2=%26no=24%26tt=54400%26b=21%26ni=20%26sigr=11706nnnn%26sigi=12ls578r1%26sigb=13n6sfh1j%26.crumb=GiZUCGqawI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7906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Лекція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14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б</a:t>
            </a:r>
            <a:br>
              <a:rPr sz="5400"/>
            </a:br>
            <a:r>
              <a:rPr b="0" lang="uk-UA" sz="3600" spc="-1" strike="noStrike">
                <a:solidFill>
                  <a:srgbClr val="ffff00"/>
                </a:solidFill>
                <a:latin typeface="Times New Roman"/>
              </a:rPr>
              <a:t>ЕРОЗІЙНИЙ ІНДЕК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hands"/>
          <p:cNvPicPr/>
          <p:nvPr/>
        </p:nvPicPr>
        <p:blipFill>
          <a:blip r:embed="rId1"/>
          <a:stretch/>
        </p:blipFill>
        <p:spPr>
          <a:xfrm>
            <a:off x="2124000" y="1916280"/>
            <a:ext cx="4824360" cy="3279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00" name="Text Box 5"/>
          <p:cNvSpPr/>
          <p:nvPr/>
        </p:nvSpPr>
        <p:spPr>
          <a:xfrm>
            <a:off x="1187280" y="5546880"/>
            <a:ext cx="71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Yuriy Posud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Environmental Monitoring with Fundamentals of Metr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ecture 14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OIL EROSION IND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Кінцева швидкість падіння </a:t>
            </a:r>
            <a:br>
              <a:rPr sz="3600"/>
            </a:b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дощової краплини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За графіком визначимо кінцеву швидкість її руху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,5 м/с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oil37"/>
          <p:cNvPicPr/>
          <p:nvPr/>
        </p:nvPicPr>
        <p:blipFill>
          <a:blip r:embed="rId1"/>
          <a:stretch/>
        </p:blipFill>
        <p:spPr>
          <a:xfrm>
            <a:off x="611280" y="552600"/>
            <a:ext cx="8137440" cy="57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Інтенсивність опадів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ідповідає кількості      опадів у міліметрах, яка випадає за 1 хв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00000" y="357732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ехай інтенсивність дощу становить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 м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лоща поверхні, на яку падає дощ,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становить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1 га = 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Об’</a:t>
            </a: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єм</a:t>
            </a: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 та маса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Об’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єм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води, що утворюється на поверхні землі, дорівнює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</a:rPr>
              <a:t>-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м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а мас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d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г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Потенціальна енергія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припустити висоту дощової хмари 500 м, то потенціальна енергія води визначиться так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gh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кг∙9,81 м/с∙500 м = 4,9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адає на 1 га поверхні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m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/2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∙(6,5 м/с)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/2 = 2,1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риходиться н 1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становить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,1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/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У нашому випадку інтенсивність дощу дорівнює </a:t>
            </a: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i="1" lang="ru-RU" sz="36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1 мм/хв  = 60 мм/г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4" descr="Fig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7348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3708360" y="4869000"/>
            <a:ext cx="0" cy="129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340000" y="486900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 Україні типові значення інтенсивності дощу варіюють від 1 мм/хв для дрібного дощу до 9-12 мм/хв для злив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309708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обуток  кінетичної енергії дощових краплин та інтенсивності дощу за 30 хв проміжок часу називається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розійним індексом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R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ВИЗНАЧЕННЯ ЕРОЗІЙНОГО ІНДЕКС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ОПАДІВ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428920"/>
            <a:ext cx="8072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Ерозія ґрунтів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це руйнування ґрунтів і підстилаючої породи за рахунок природних та антропогенних процесів, які призводять до переміщення продуктів руйнування з одного місця в інше (від латинського 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erosio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 роз’їдати, вигризати)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Для нашого випадку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∙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∙1 мм/хв∙30хв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=6,3 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індекс вимірюється в одиниця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МДж∙мм/га∙год∙рік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і отже варіює від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-1700 до 8500 МДж∙мм/га∙год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286000" cy="21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Picture 1030" descr="2 002"/>
          <p:cNvPicPr/>
          <p:nvPr/>
        </p:nvPicPr>
        <p:blipFill>
          <a:blip r:embed="rId1"/>
          <a:stretch/>
        </p:blipFill>
        <p:spPr>
          <a:xfrm>
            <a:off x="468360" y="1989000"/>
            <a:ext cx="8137440" cy="411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Ерозійний фактор </a:t>
            </a:r>
            <a:br>
              <a:rPr sz="4000"/>
            </a:b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          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Ерозійний фактор ґрунту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характеризує здатність частинок ґрунту бути виштовхнутими з маси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ін залежить від текстури ґрунту, проникності ґрунту та його здатності поглинати вод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6" descr="Erosion1"/>
          <p:cNvPicPr/>
          <p:nvPr/>
        </p:nvPicPr>
        <p:blipFill>
          <a:blip r:embed="rId1"/>
          <a:stretch/>
        </p:blipFill>
        <p:spPr>
          <a:xfrm>
            <a:off x="5796000" y="476280"/>
            <a:ext cx="3016080" cy="21542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Одиниця вимірювання (т∙га∙г∙/га∙МДж∙мм)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9" name="Picture 205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9182160" cy="2649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055"/>
          <p:cNvSpPr/>
          <p:nvPr/>
        </p:nvSpPr>
        <p:spPr>
          <a:xfrm>
            <a:off x="2700360" y="4724280"/>
            <a:ext cx="439272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9720" y="2642760"/>
            <a:ext cx="66438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Числові значення, які може приймати індекс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варіюють від 1 (ґрунт легко піддається ерозії) до 0,01 (дуже стійкий до ерозії ґрунт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безрозмірний. Він характеризує вплив довжини ґрунтової ділянки та крутизни її нахилу, яка впливає на швидкість руху вод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028"/>
          <p:cNvSpPr/>
          <p:nvPr/>
        </p:nvSpPr>
        <p:spPr>
          <a:xfrm>
            <a:off x="3203640" y="4581360"/>
            <a:ext cx="2663640" cy="12240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029"/>
          <p:cNvSpPr/>
          <p:nvPr/>
        </p:nvSpPr>
        <p:spPr>
          <a:xfrm>
            <a:off x="4356000" y="450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030"/>
          <p:cNvSpPr/>
          <p:nvPr/>
        </p:nvSpPr>
        <p:spPr>
          <a:xfrm>
            <a:off x="3203640" y="4581360"/>
            <a:ext cx="1152360" cy="1224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031"/>
          <p:cNvSpPr/>
          <p:nvPr/>
        </p:nvSpPr>
        <p:spPr>
          <a:xfrm>
            <a:off x="4284720" y="537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2731760" cy="3421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403280" y="2060640"/>
            <a:ext cx="705636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9c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569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Фактор градієнту нахилу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вляє відношення втрат ґрунту, який оцінюється, на ділянці довжиною 22,1 м, порівняно з такою ж ділянкою, що має нахил 9 %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uk-UA" sz="36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 викликається талими, дощовими та зливовими водами на пересіченій місцевості; цей процес супроводжується переносом твердих частинок, розчиненням породи водою, зміною рельєфу земної поверхні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ахил може вимірюватися в градусах або відсотка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rctg(S/100)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= 100tg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приклад: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45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0 %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28920"/>
            <a:ext cx="73864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криви різної природи зберігають ґрунт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аріює цей фактор від 0,001 для добре захищеного ґрунту до 1 для  голого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регулюється людиною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1141236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Ф</a:t>
            </a: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актор, що враховує контроль ерозії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цей фактор дорівнює 1, контроль за ерозією відсутні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4511600" cy="378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388360" y="2708280"/>
            <a:ext cx="576360" cy="36036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Універсальне рівня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втрат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Отже, універсальне рівняння втрат ґрунт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vised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Universal Soil Lo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 Equation RUSLE)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має вигляд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R∙K∙LS∙C∙P </a:t>
            </a: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д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R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ерозійний індекс опадів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K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ерозійності 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ґ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рунт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LS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топографічний фактор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C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покрив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P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контролю за ерозією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А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вимірюється в т/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Приклад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рахувати щорічні втрати ґрунту завдяки водній ерозії за допомогою RUSLE за такими даними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1275 Мдж∙мм/га∙год∙рі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0,24 т∙га∙г∙/га∙МДж∙м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S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,8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5508720" y="4508640"/>
          <a:ext cx="295092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508640"/>
                    <a:ext cx="295092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Розв’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язан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S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275 МДж∙мм/га∙год∙рік ∙0,24 т∙га∙год∙/га∙МДж∙мм ∙2,89∙1∙1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884 т/га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5" descr="SoilErosion"/>
          <p:cNvPicPr/>
          <p:nvPr/>
        </p:nvPicPr>
        <p:blipFill>
          <a:blip r:embed="rId1"/>
          <a:stretch/>
        </p:blipFill>
        <p:spPr>
          <a:xfrm>
            <a:off x="1187280" y="1700280"/>
            <a:ext cx="6840720" cy="4884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ітров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A rock formation in the Altiplano, Boliviasculpted bywinderosion"/>
          <p:cNvPicPr/>
          <p:nvPr/>
        </p:nvPicPr>
        <p:blipFill>
          <a:blip r:embed="rId1"/>
          <a:stretch/>
        </p:blipFill>
        <p:spPr>
          <a:xfrm>
            <a:off x="1403280" y="1773360"/>
            <a:ext cx="6540480" cy="485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Швидкість падіння дощових краплин визначається за законом Стокса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υ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2g(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кр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– 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  <a:ea typeface="Arial"/>
              </a:rPr>
              <a:t>2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/9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η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е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р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- густина краплини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густин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вітря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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-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’язкість повітря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g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рискорення вільного падіння,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R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адіус краплин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Для більш</a:t>
            </a:r>
            <a:r>
              <a:rPr b="0" lang="uk-UA" sz="2800" spc="-1" strike="noStrike">
                <a:solidFill>
                  <a:srgbClr val="220011"/>
                </a:solidFill>
                <a:latin typeface="Times New Roman"/>
              </a:rPr>
              <a:t>их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 краплин швидкість падіння визначається так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20011"/>
                </a:solidFill>
                <a:latin typeface="Times New Roman"/>
              </a:rPr>
              <a:t>                     </a:t>
            </a:r>
            <a:r>
              <a:rPr b="0" i="1" lang="uk-UA" sz="3600" spc="-1" strike="noStrike">
                <a:solidFill>
                  <a:srgbClr val="220011"/>
                </a:solidFill>
                <a:latin typeface="Times New Roman"/>
              </a:rPr>
              <a:t>υ(см/с) = </a:t>
            </a:r>
            <a:r>
              <a:rPr b="0" lang="uk-UA" sz="3600" spc="-1" strike="noStrike">
                <a:solidFill>
                  <a:srgbClr val="220011"/>
                </a:solidFill>
                <a:latin typeface="Times New Roman"/>
              </a:rPr>
              <a:t>1344</a:t>
            </a: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028"/>
              <p:cNvSpPr txBox="1"/>
              <p:nvPr/>
            </p:nvSpPr>
            <p:spPr>
              <a:xfrm>
                <a:off x="5580000" y="3860640"/>
                <a:ext cx="16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ffff"/>
                </a:solidFill>
                <a:latin typeface="Times New Roman"/>
              </a:rPr>
              <a:t>Приклад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озглянемо дощову краплину, що падає на земну поверхню.    Діаметр краплини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 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30" descr="raindrop2"/>
          <p:cNvPicPr/>
          <p:nvPr/>
        </p:nvPicPr>
        <p:blipFill>
          <a:blip r:embed="rId1"/>
          <a:stretch/>
        </p:blipFill>
        <p:spPr>
          <a:xfrm>
            <a:off x="5508720" y="2421000"/>
            <a:ext cx="300816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ff"/>
                </a:solidFill>
                <a:latin typeface="Times New Roman"/>
              </a:rPr>
              <a:t>Залежність кінцевої швидкості падіння краплин дощу від діаметр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1030" descr="GraphicRaindrop"/>
          <p:cNvPicPr/>
          <p:nvPr/>
        </p:nvPicPr>
        <p:blipFill>
          <a:blip r:embed="rId1"/>
          <a:stretch/>
        </p:blipFill>
        <p:spPr>
          <a:xfrm>
            <a:off x="1763640" y="1704960"/>
            <a:ext cx="5489640" cy="5153040"/>
          </a:xfrm>
          <a:prstGeom prst="rect">
            <a:avLst/>
          </a:prstGeom>
          <a:ln w="0">
            <a:noFill/>
          </a:ln>
        </p:spPr>
      </p:pic>
      <p:sp>
        <p:nvSpPr>
          <p:cNvPr id="121" name="Line 1031"/>
          <p:cNvSpPr/>
          <p:nvPr/>
        </p:nvSpPr>
        <p:spPr>
          <a:xfrm flipH="1" flipV="1">
            <a:off x="5363640" y="2205000"/>
            <a:ext cx="71640" cy="388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32"/>
          <p:cNvSpPr/>
          <p:nvPr/>
        </p:nvSpPr>
        <p:spPr>
          <a:xfrm flipH="1">
            <a:off x="2627280" y="2276640"/>
            <a:ext cx="273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6:20:44Z</dcterms:created>
  <dc:creator>West Central High School</dc:creator>
  <dc:description/>
  <dc:language>en-US</dc:language>
  <cp:lastModifiedBy>Оксана</cp:lastModifiedBy>
  <dcterms:modified xsi:type="dcterms:W3CDTF">2012-11-11T14:43:13Z</dcterms:modified>
  <cp:revision>33</cp:revision>
  <dc:subject/>
  <dc:title>Soil Characteristics</dc:title>
</cp:coreProperties>
</file>