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1.wmf" ContentType="image/x-wmf"/>
  <Override PartName="/ppt/media/image27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26.wmf" ContentType="image/x-wmf"/>
  <Override PartName="/ppt/media/image15.jpeg" ContentType="image/jpeg"/>
  <Override PartName="/ppt/media/image14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20.wmf" ContentType="image/x-wmf"/>
  <Override PartName="/ppt/media/image32.png" ContentType="image/png"/>
  <Override PartName="/ppt/media/image7.png" ContentType="image/png"/>
  <Override PartName="/ppt/media/image35.png" ContentType="image/png"/>
  <Override PartName="/ppt/media/image36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43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0.wmf" ContentType="image/x-wmf"/>
  <Override PartName="/ppt/media/image25.png" ContentType="image/png"/>
  <Override PartName="/ppt/media/image4.jpeg" ContentType="image/jpeg"/>
  <Override PartName="/ppt/media/image40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1.jpeg" ContentType="image/jpeg"/>
  <Override PartName="/ppt/media/image4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0C2-900A-46DE-9ECE-AA9270F6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599-A77F-4187-87D9-AFEBE12D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511-205A-46B7-8C59-3F31A3C3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3FB-ECA5-4A66-9B82-81999BCE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EE1-DA44-44EA-A70C-D02822E6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12F-16AF-4892-AACC-1E197B1E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82F-07F8-4238-93A5-430D7860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E6B-5CFE-4F1D-AAF8-817FCD4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ADA-29F2-4D0F-B47C-C069A659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41D-4A4C-4F40-BE22-5765AFE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BE6-5E15-49F6-A383-579CAE75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EAE-6431-4C16-9BC0-B1E54169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0B2C-4097-42FF-AA4B-831048341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Ю. Посудін. Моніторинг довкілля з основами метрології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екці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36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ІДКРИТІ ТА МІКРОСИСТЕМИ АНАЛІЗУ НАВКОЛИШНЬОГО СЕРЕДО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Raman Spectroscopy"/>
          <p:cNvPicPr/>
          <p:nvPr/>
        </p:nvPicPr>
        <p:blipFill>
          <a:blip r:embed="rId1"/>
          <a:stretch/>
        </p:blipFill>
        <p:spPr>
          <a:xfrm>
            <a:off x="2340000" y="1916280"/>
            <a:ext cx="4465440" cy="296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Text Box 4"/>
          <p:cNvSpPr/>
          <p:nvPr/>
        </p:nvSpPr>
        <p:spPr>
          <a:xfrm>
            <a:off x="539640" y="5084640"/>
            <a:ext cx="8064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uriy Posu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vironmental Monitoring with Fundamentals of Met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cture 1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N AND MICROSYSTEMS OF ENVIRONMEN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Фур’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є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етворення </a:t>
            </a:r>
            <a:br>
              <a:rPr sz="3600"/>
            </a:b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Монохроматичне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випроміню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332000" y="1628640"/>
          <a:ext cx="6048360" cy="49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048360" cy="49546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Фур’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є</a:t>
            </a: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еретворення </a:t>
            </a:r>
            <a:br>
              <a:rPr sz="4000"/>
            </a:br>
            <a:r>
              <a:rPr b="0" lang="uk-UA" sz="4000" spc="-1" strike="noStrike">
                <a:solidFill>
                  <a:srgbClr val="ffff00"/>
                </a:solidFill>
                <a:latin typeface="Arial"/>
              </a:rPr>
              <a:t>Поліхроматичне випроміню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685880" y="1604880"/>
          <a:ext cx="576576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604880"/>
                    <a:ext cx="5765760" cy="477684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дкрита систем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р’є-спектром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8136000" cy="29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дкрита систем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ур’є-спектроме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885080" cy="3025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663300"/>
                </a:solidFill>
                <a:latin typeface="Arial"/>
              </a:rPr>
              <a:t>Застосування відкритої системи </a:t>
            </a:r>
            <a:r>
              <a:rPr b="0" lang="ru-RU" sz="4000" spc="-1" strike="noStrike">
                <a:solidFill>
                  <a:srgbClr val="663300"/>
                </a:solidFill>
                <a:latin typeface="Arial"/>
              </a:rPr>
              <a:t>Фур’є-спектро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201080" cy="327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МІКРОАНАЛІЗ АТМОСФЕРНИХ ГАЗ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Go to fullsize image"/>
          <p:cNvPicPr/>
          <p:nvPr/>
        </p:nvPicPr>
        <p:blipFill>
          <a:blip r:embed="rId1"/>
          <a:stretch/>
        </p:blipFill>
        <p:spPr>
          <a:xfrm>
            <a:off x="1763640" y="2205000"/>
            <a:ext cx="5759640" cy="35766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1908000" y="2637000"/>
            <a:ext cx="2376720" cy="433080"/>
          </a:xfrm>
          <a:prstGeom prst="rightArrow">
            <a:avLst>
              <a:gd name="adj1" fmla="val 50000"/>
              <a:gd name="adj2" fmla="val 1371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5076720" y="2637000"/>
            <a:ext cx="2232000" cy="431640"/>
          </a:xfrm>
          <a:prstGeom prst="rightArrow">
            <a:avLst>
              <a:gd name="adj1" fmla="val 50000"/>
              <a:gd name="adj2" fmla="val 12927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427640" y="1413000"/>
            <a:ext cx="431640" cy="936360"/>
          </a:xfrm>
          <a:prstGeom prst="downArrow">
            <a:avLst>
              <a:gd name="adj1" fmla="val 50000"/>
              <a:gd name="adj2" fmla="val 54233"/>
            </a:avLst>
          </a:prstGeom>
          <a:solidFill>
            <a:srgbClr val="00ff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ортативні газоаналіза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535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більний моніторинг навколишнього середовища  за допомогою портативних газоаналізаторів, які характеризуються високою чутливістю та високою роздільною здатністю, став поширеним в останні роки під час досліджень забруднення повітря, детектування нервових газів та продуктів вибухів внаслідок терористичної діяль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D7"/>
          <p:cNvPicPr/>
          <p:nvPr/>
        </p:nvPicPr>
        <p:blipFill>
          <a:blip r:embed="rId1"/>
          <a:stretch/>
        </p:blipFill>
        <p:spPr>
          <a:xfrm>
            <a:off x="4932360" y="2276640"/>
            <a:ext cx="368460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и вологої та сухої хім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вологої хім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базуються на збиранні газів, накачуванні цих газів у колектор з подальшою їх участю у хімічних реакціях т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римет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є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о флуориметр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єю зраз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Цей метод використовують для аналізу неорганічних газів та тих газів, що розчинюються у во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ухої хімі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тосовують для органічн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через суху предконцентрацію газ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ІНІАТЮРНІ СИСТЕМИ ГАЗОВОГО АНАЛІЗУ НА ОСНОВІ ВОЛОГОЇ ХІМІЇ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ідкі краплини та рідкі плі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дкі краплини та рідкі плівки, які мають велике відношення площі поверхні до об’єму, зручні для збирання розчинених у воді газ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Принцип д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ли газовий потік проходить через рідку краплину, розчинні компоненти, які містяться у газі, дифундують та розчинюються в цій крапли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Принцип д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D6"/>
          <p:cNvPicPr/>
          <p:nvPr/>
        </p:nvPicPr>
        <p:blipFill>
          <a:blip r:embed="rId1"/>
          <a:stretch/>
        </p:blipFill>
        <p:spPr>
          <a:xfrm>
            <a:off x="1835280" y="1773360"/>
            <a:ext cx="5903640" cy="4429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90" name="Line 5"/>
          <p:cNvSpPr/>
          <p:nvPr/>
        </p:nvSpPr>
        <p:spPr>
          <a:xfrm>
            <a:off x="3924360" y="2349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4284720" y="198900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5219640" y="198900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5580000" y="2349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92436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435600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521964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580000" y="4005360"/>
            <a:ext cx="0" cy="8636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2195640" y="4365720"/>
            <a:ext cx="1081080" cy="358560"/>
          </a:xfrm>
          <a:prstGeom prst="rightArrow">
            <a:avLst>
              <a:gd name="adj1" fmla="val 50000"/>
              <a:gd name="adj2" fmla="val 75377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6227640" y="4365720"/>
            <a:ext cx="1081080" cy="358560"/>
          </a:xfrm>
          <a:prstGeom prst="rightArrow">
            <a:avLst>
              <a:gd name="adj1" fmla="val 50000"/>
              <a:gd name="adj2" fmla="val 75377"/>
            </a:avLst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Диференційний</a:t>
            </a:r>
            <a:br>
              <a:rPr sz="4000"/>
            </a:b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абсорбційний спектроме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Fig6"/>
          <p:cNvPicPr/>
          <p:nvPr/>
        </p:nvPicPr>
        <p:blipFill>
          <a:blip r:embed="rId1"/>
          <a:stretch/>
        </p:blipFill>
        <p:spPr>
          <a:xfrm>
            <a:off x="1042920" y="1749600"/>
            <a:ext cx="6985080" cy="34066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46" name="Text Box 4"/>
          <p:cNvSpPr/>
          <p:nvPr/>
        </p:nvSpPr>
        <p:spPr>
          <a:xfrm>
            <a:off x="468360" y="5373720"/>
            <a:ext cx="806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Диференційний абсорбційний спектрометр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fferential Optical Absorption Spectrometer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OAS) 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базується на здатності забруднювачів поглинати світло на різних довжинах хв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зи та ч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уже часто виникає необхідність розділяти газ від частинок певними фізичними засобами, оскільки та ж сама субстанція, що аналізується, може знаходитися в обох фаз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ез те, що коефіцієнти дифузії газу у близько 4 рази більший, ніж у дрібних частинок атмосферних аерозолів, очевидною уявляється можливість розділення газів та частинок за дифузійними парамет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Гази та част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раплина води є природним колектором розчинних газ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скравим прикладом є відчуття свіжого повітря після дощу чи зли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ікаво відмітити також, що під час випаровування газів з поверхні краплини потік молекул, що залишають поверхню, не дає частинкам наблизитися до крапл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D8"/>
          <p:cNvPicPr/>
          <p:nvPr/>
        </p:nvPicPr>
        <p:blipFill>
          <a:blip r:embed="rId1"/>
          <a:stretch/>
        </p:blipFill>
        <p:spPr>
          <a:xfrm>
            <a:off x="4643280" y="1844640"/>
            <a:ext cx="4295880" cy="3436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5" name="Oval 8"/>
          <p:cNvSpPr/>
          <p:nvPr/>
        </p:nvSpPr>
        <p:spPr>
          <a:xfrm>
            <a:off x="6300720" y="350028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6227640" y="407664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804000" y="364500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7236000" y="3573360"/>
            <a:ext cx="1425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6732720" y="414972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7308720" y="4221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7740720" y="3357720"/>
            <a:ext cx="1429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7812000" y="4221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5796000" y="3213000"/>
            <a:ext cx="14292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>
            <a:off x="5292360" y="4365720"/>
            <a:ext cx="358920" cy="358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4932360" y="479736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5076720" y="270828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8101080" y="292428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8244000" y="4437000"/>
            <a:ext cx="360360" cy="360360"/>
          </a:xfrm>
          <a:prstGeom prst="ellips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H="1" flipV="1">
            <a:off x="5508720" y="3068280"/>
            <a:ext cx="28728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V="1">
            <a:off x="7956720" y="3213000"/>
            <a:ext cx="14436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7956720" y="4365720"/>
            <a:ext cx="215640" cy="142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4716360" y="2349360"/>
            <a:ext cx="1511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ас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644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аплинний колектор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u, Dasgupta, 1995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l Chemist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7(13): 2042-20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 кінець кварцового капіляра розташований у центрі трубки великого діаметра, вздовж якої пропускають газ, що аналізує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обхідний розчин накачується через капіляр, на кінці якого утворюється краплина для збирання газ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 проходить через краплину, молекули газу дифундують через її поверхню і збираються в ні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нцентрація газів у краплині визначається після засмоктування краплини в автоматизовану систему реєстрації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Droplet Collector"/>
          <p:cNvPicPr/>
          <p:nvPr/>
        </p:nvPicPr>
        <p:blipFill>
          <a:blip r:embed="rId1"/>
          <a:stretch/>
        </p:blipFill>
        <p:spPr>
          <a:xfrm>
            <a:off x="4500720" y="1916280"/>
            <a:ext cx="4297320" cy="3911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раплинний колектор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u, Dasgupta, 1995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l Chemistr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7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: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2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40388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Ще одна модифікація приладу передбачає використання краплини розчину з реагентом, яка формується на кінці трубки в циліндричній камер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аплина являє собою не лише колектор для збирання газів, але й реактор, де відбувається хромогенна (із зміною кольору) реакція; колір розчину залежить від концентрації зібраних газ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038840" cy="4371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pb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івні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A.Cardoso and P. K. Dasgupta (1995) Analytical Cmemistry in a Liquid Film/Droplet/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. Chemistr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7(15): 2562-256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кспериментальна  установка складається з двох оптичних волокон, які знаходяться у контакті з двох сторін краплини (14-57 мклітрів об’ємом), яка підтримується U-подібною платиновою проволокою та двома тефлоновими труб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NO2a"/>
          <p:cNvPicPr/>
          <p:nvPr/>
        </p:nvPicPr>
        <p:blipFill>
          <a:blip r:embed="rId1"/>
          <a:stretch/>
        </p:blipFill>
        <p:spPr>
          <a:xfrm>
            <a:off x="4284720" y="1563840"/>
            <a:ext cx="4390920" cy="43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pb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івні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A.Cardoso and P. K. Dasgupta (1995) Analytical Cmemistry in a Liquid Film/Droplet//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. Chemistr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7(15): 2562-256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тичне випромінювання (555 нм) подається на рідку плівку, що утворюється на платиновій рамці краплиною, в якій знаходиться реагент Griess-Saltzm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промінювання, що пройшло через плівку, реєструється фотодетект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, що аналізується, проходить через крапл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гнал, що реєстрється детектором, пропорційний концентрації г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NO2b"/>
          <p:cNvPicPr/>
          <p:nvPr/>
        </p:nvPicPr>
        <p:blipFill>
          <a:blip r:embed="rId1"/>
          <a:stretch/>
        </p:blipFill>
        <p:spPr>
          <a:xfrm>
            <a:off x="4427640" y="2349360"/>
            <a:ext cx="442908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ініатюрні мембрани з дифузійною пасткою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користовують мембрану, що здатна підтримувати розділення двох фаз – рідина та повіт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ля мембран використовують такі матеріали як політетрафлуоретилен, пористий поліпропилен, та полідіметилсилокс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олекули газу з повітря  дифундують через мембрану та захоплюються в ній. Типовий об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єм такої мембрани становить близько 100 мікролітрів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і системи використовують для аналіз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mof-membrane"/>
          <p:cNvPicPr/>
          <p:nvPr/>
        </p:nvPicPr>
        <p:blipFill>
          <a:blip r:embed="rId1"/>
          <a:stretch/>
        </p:blipFill>
        <p:spPr>
          <a:xfrm>
            <a:off x="4788000" y="2060640"/>
            <a:ext cx="3916440" cy="2959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значення атмосферного сульфіду водню на основі мембрани з дифузійною пасткою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Toda et 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s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2001, 17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1407-14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основі дифузних пасток лежить використання гідрофобних пористих мембран для розділення рідкої та твердої фаз речовини. Молекули повітря дифундують через мембрану та захоплюються пастко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льфід водню утворюється на смітниках, нафтових родовищах та інших анаеробних джерелах. Він характеризується міцним запах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Go to fullsize image"/>
          <p:cNvPicPr/>
          <p:nvPr/>
        </p:nvPicPr>
        <p:blipFill>
          <a:blip r:embed="rId1"/>
          <a:stretch/>
        </p:blipFill>
        <p:spPr>
          <a:xfrm>
            <a:off x="5796000" y="4221000"/>
            <a:ext cx="1816200" cy="2421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мірювання атмосферного H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 Toda et 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s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2001, 17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., 1407-14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ються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матизовані систе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портативних флуориметрів для вимірювання атмосферного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вітря, що аналізується, направляють через дифузійну мембранну скребачку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mbra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diffusion scrabbe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, що збирають його у колекторі, заповненому флуоресцеін-ртутним ацетатним розчином (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льфід водню, що збирається, гасить флуоресценцію розч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тенсивність випромінювання флуоресценції, що  вимірюється, пропорційна концентрації атмосферного 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флонова трубка є прозора для оптичного випромінювання; коефіцієнт заломлення тефлону менший, ніж у води, отже він разом з розчином виконує функції рідкого світлов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TeflonTube"/>
          <p:cNvPicPr/>
          <p:nvPr/>
        </p:nvPicPr>
        <p:blipFill>
          <a:blip r:embed="rId1"/>
          <a:stretch/>
        </p:blipFill>
        <p:spPr>
          <a:xfrm>
            <a:off x="4356000" y="1700280"/>
            <a:ext cx="4545000" cy="3362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Диференційний абсорбційний спектрометр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DO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332000" y="1638360"/>
            <a:ext cx="6624720" cy="4546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промінювання флуоресценції від світлового діода (460 нм) розсіюється на розчині і збуджує його флуоресценцію з максимумом при 530 нм, яка реєструється детектором. Інтенсивність останньої залежить від концентрації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4716360" y="1773360"/>
          <a:ext cx="3934080" cy="37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3934080" cy="3786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ембранна трубка для аналізу г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Є ще конструкції − з детекто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подібної форми (рис. 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, в якій світлодіод має прямий контакт з розчином, або з перпендикулярним розташуванням трубки та фотодіода (рис. 1,с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кі системи застосовують для аналізу таких газів як 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Рисунок1b,c"/>
          <p:cNvPicPr/>
          <p:nvPr/>
        </p:nvPicPr>
        <p:blipFill>
          <a:blip r:embed="rId1"/>
          <a:stretch/>
        </p:blipFill>
        <p:spPr>
          <a:xfrm>
            <a:off x="4716360" y="1700280"/>
            <a:ext cx="3915000" cy="4427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ристі трубчаті колектори/детектори та рідкі світло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риста трубка виконує у даному випадку функції як газового колектора, так й довгої і тонкої оптичної чарунки, яка поєднана з джерелом світла та фотодетектором. Довга трубка має переваги, оскільки забезпечує збільшення поглинання. Такі системи застосовують для аналіз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uk-UA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Рисунок1d,e"/>
          <p:cNvPicPr/>
          <p:nvPr/>
        </p:nvPicPr>
        <p:blipFill>
          <a:blip r:embed="rId1"/>
          <a:stretch/>
        </p:blipFill>
        <p:spPr>
          <a:xfrm>
            <a:off x="3924360" y="1700280"/>
            <a:ext cx="5024520" cy="4757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цих системах застосовують мікропотоки. Чутливіс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ких приладів обернено пропорційна товщині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глинаючого шару, який формується мікроканалами, та прямо пропорційна часу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поглин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76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uk-UA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uk-UA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−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концентрація газу, що аналізується, у розчині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швидкість проникності газу через мембрану;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 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ас поглинання газу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нтрація газу, що аналізується, у зразку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овщина шару поглин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кладається з мініатюрних помпи,  колектора, реактора та детектора. Для отримання суттєвого поглинання колектор містить систему шестигональних мікроканалів (як у бджолиній чарунці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лизько 500 шестигональних мікроканалів нанесені методом фотолітографії на прозору пластикову пластину (26х76 мм). Довжина сторони окремої чарунки становить 600 мкм, а товщина кожного каналу − 100 м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71640" y="5877000"/>
            <a:ext cx="75610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аку систему було застосовано для вимірювання H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ppb-рів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HoneycombScrubber4"/>
          <p:cNvPicPr/>
          <p:nvPr/>
        </p:nvPicPr>
        <p:blipFill>
          <a:blip r:embed="rId1"/>
          <a:stretch/>
        </p:blipFill>
        <p:spPr>
          <a:xfrm>
            <a:off x="539640" y="1652760"/>
            <a:ext cx="820908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8748720" y="1700280"/>
            <a:ext cx="217440" cy="47530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" descr="Чарунка"/>
          <p:cNvPicPr/>
          <p:nvPr/>
        </p:nvPicPr>
        <p:blipFill>
          <a:blip r:embed="rId1"/>
          <a:stretch/>
        </p:blipFill>
        <p:spPr>
          <a:xfrm>
            <a:off x="468360" y="1557360"/>
            <a:ext cx="8244000" cy="5056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ІКРОСИСТЕМИ ГАЗОВОГО АНАЛІЗУ ДЛЯ РОЗЧИНЕНИХ У ВОДІ ГАЗІВ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hira and Toda, Lab. Chip, 2005, 5: 1374-13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містить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SC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пняно-вуглецеву камеру; M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−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ікропомпу; H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пастку у формі бджолиних чарунок;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F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− флуоресцентний детектор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детектор провідності;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трипозиційний клап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7"/>
          <p:cNvGraphicFramePr/>
          <p:nvPr/>
        </p:nvGraphicFramePr>
        <p:xfrm>
          <a:off x="4716360" y="1773360"/>
          <a:ext cx="3686400" cy="460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773360"/>
                    <a:ext cx="3686400" cy="460836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обільна мікросистем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ля 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et 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2007, 603: 60-6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з збирається у мікроканальну пастку МCS, яка являє собою набір гексагональних мікроканал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линаючий розчин (3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tha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ine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ТЕА подається через пастку зі швидкістю 0,1 мл/х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допомогою помп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сля проходження пастки розчин негайно змішується з розчином реагента 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iess-Saltzman)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ісля чого він набуває рожевого кольор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линання розчину, що пропорційно концентраці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вимірюється мініатюрним детектором 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обільна мікросистем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для вимірювання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4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et 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2007, 603: 60-6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MicrosystemNO"/>
          <p:cNvPicPr/>
          <p:nvPr/>
        </p:nvPicPr>
        <p:blipFill>
          <a:blip r:embed="rId1"/>
          <a:stretch/>
        </p:blipFill>
        <p:spPr>
          <a:xfrm>
            <a:off x="826920" y="1628640"/>
            <a:ext cx="7490160" cy="5016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00000"/>
                </a:solidFill>
                <a:latin typeface="Arial"/>
              </a:rPr>
              <a:t>СПЕКТРОСКОПІЯ ФУР’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Є ПЕРЕТВО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з Фур’є будь-яке складне коливання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ожна представити як комбінацію достатньо великої кількості синусоїдних та косинусоїдних хвиль, які утворюють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ряд Фур’є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y(t) = (An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t + Bn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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t)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An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Bn </a:t>
            </a:r>
            <a:r>
              <a:rPr b="1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мплітуди гармоніч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вань;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uk-UA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частота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 коливан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атюрний детекто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Detector"/>
          <p:cNvPicPr/>
          <p:nvPr/>
        </p:nvPicPr>
        <p:blipFill>
          <a:blip r:embed="rId1"/>
          <a:stretch/>
        </p:blipFill>
        <p:spPr>
          <a:xfrm>
            <a:off x="539640" y="1773360"/>
            <a:ext cx="8137800" cy="42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ікроконвертор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NO в NO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nverter"/>
          <p:cNvPicPr/>
          <p:nvPr/>
        </p:nvPicPr>
        <p:blipFill>
          <a:blip r:embed="rId1"/>
          <a:stretch/>
        </p:blipFill>
        <p:spPr>
          <a:xfrm>
            <a:off x="395280" y="1700280"/>
            <a:ext cx="8186760" cy="3257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85" name="Rectangle 5"/>
          <p:cNvSpPr/>
          <p:nvPr/>
        </p:nvSpPr>
        <p:spPr>
          <a:xfrm>
            <a:off x="611280" y="1700280"/>
            <a:ext cx="504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66ffff"/>
                </a:solidFill>
                <a:latin typeface="Arial"/>
              </a:rPr>
              <a:t>Типова карта розподілу </a:t>
            </a: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NO</a:t>
            </a:r>
            <a:r>
              <a:rPr b="0" lang="ru-RU" sz="40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66ffff"/>
                </a:solidFill>
                <a:latin typeface="Arial"/>
              </a:rPr>
              <a:t>над земною поверхнею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NOmonitoring"/>
          <p:cNvPicPr/>
          <p:nvPr/>
        </p:nvPicPr>
        <p:blipFill>
          <a:blip r:embed="rId1"/>
          <a:stretch/>
        </p:blipFill>
        <p:spPr>
          <a:xfrm>
            <a:off x="2340000" y="1628640"/>
            <a:ext cx="4579920" cy="4803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ІНІАТЮРНІ СИСТЕМИ ГАЗОВОГО АНАЛІЗУ НА ОСНОВІ СУХОЇ ХІМ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ільшість таких атмосферних  забруднювачів я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еткі органічні сполуки (ЛОС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леткі сірчані сполуки (ЛСС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ізопрен та і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 розчинюються у воді, через що методи вологої хімії не можуть бути застосовані до цих сполук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Леткі сірчані сполуки Л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еткі сірчані сполуки ЛСС є продукти випаровування відходів, з неприємним запахом, вкрай токсичні та з корозійними властив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СС висилаються седиментами в зоні узбережжя, перетворюються 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та можуть бути ядрами конденсації хм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метилсульфід Д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метилсульфі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DMS) — органосірчана сполука з формулою (CH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иметилсульфід є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одонерозчинною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рючою рідиною, що кипить при 37 °C і має характерний неприємний зап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я речовина утворюється при приготуванні деяких овочів, таких як кукурудза, капуста і буряк, та морепродук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иметилсульфід ДМС також висилається морською поверхнею та водор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Файл:Dimethyl sulfide structure.svg"/>
          <p:cNvPicPr/>
          <p:nvPr/>
        </p:nvPicPr>
        <p:blipFill>
          <a:blip r:embed="rId1"/>
          <a:stretch/>
        </p:blipFill>
        <p:spPr>
          <a:xfrm>
            <a:off x="6443640" y="549360"/>
            <a:ext cx="2343240" cy="8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илмераптан 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капт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рганічні похідні сірководню з загальною формулою RSH, де R – вуглеводневий радик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каптани – легколетк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іди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метилмеркаптан – га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 сильним, неприємним запах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Go to fullsize image"/>
          <p:cNvPicPr/>
          <p:nvPr/>
        </p:nvPicPr>
        <p:blipFill>
          <a:blip r:embed="rId1"/>
          <a:stretch/>
        </p:blipFill>
        <p:spPr>
          <a:xfrm>
            <a:off x="6084720" y="3213000"/>
            <a:ext cx="2260800" cy="2303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зопр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́н 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=С(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—СН=СН</a:t>
            </a:r>
            <a:r>
              <a:rPr b="0" lang="uk-UA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 — ненасичений вуглеводень, безбарвна рідина, розчинна в етано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нак, ця сполука є надзвичайно леткою через низьку температуру кип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ільшість атмосферного ізопрену обумовлено емісією рослинних покривів. Ізопрен утворюється та висилається в атмосферу  багатьма видами дерев (дуб, тополя, евкаліпт) та овоч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Щорічна продукція ізопрену становить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т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високими концентраціями може бути небезпечною забруднюючою речовиною та токсикан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Isopren"/>
          <p:cNvPicPr/>
          <p:nvPr/>
        </p:nvPicPr>
        <p:blipFill>
          <a:blip r:embed="rId1"/>
          <a:stretch/>
        </p:blipFill>
        <p:spPr>
          <a:xfrm>
            <a:off x="6357960" y="142920"/>
            <a:ext cx="1866960" cy="1181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зопр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н (2-метил-1,3-бутадієн) є продукт життєдіяльності бактерій; він  є попередником атмосферного формальдегіду під час росту росл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зопрен складає приблизно половину вмісту природних летких органічних сполук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центрація ізопрену в атмосфері коливається від 0 до більш ніж 30 р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продовж дня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и хемілюмінесцен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нцип дії аналізу газів на основі хемілюмінесценції базується на розташуванні фотопомножувача безпосередньо поблизу реакційної камери, де утворюється озон з повітря або кисню. Реакції різних газів (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ізопр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иметилсульфід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S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 наведено нижче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ν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2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С(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* 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HO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410, 43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)                                             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→ SO → SO*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→ S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370 nm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озкладання складного коливання в ряд Фур’є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4"/>
          <p:cNvPicPr/>
          <p:nvPr/>
        </p:nvPicPr>
        <p:blipFill>
          <a:blip r:embed="rId1"/>
          <a:stretch/>
        </p:blipFill>
        <p:spPr>
          <a:xfrm>
            <a:off x="1979640" y="1773360"/>
            <a:ext cx="5113440" cy="4825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Хемілюмінесценція газів характеризується певними спектрами. Типові спектри разом зі спектральними кривими чутливості фотопомножувачів наведено на рисунку: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da and Dasgupta, Chem.Eng.Comm, 2008, 195: 82-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Спектри"/>
          <p:cNvPicPr/>
          <p:nvPr/>
        </p:nvPicPr>
        <p:blipFill>
          <a:blip r:embed="rId1"/>
          <a:stretch/>
        </p:blipFill>
        <p:spPr>
          <a:xfrm>
            <a:off x="179280" y="2637000"/>
            <a:ext cx="8734680" cy="3971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ювети з газами, що підлягають аналіз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Ldetector"/>
          <p:cNvPicPr/>
          <p:nvPr/>
        </p:nvPicPr>
        <p:blipFill>
          <a:blip r:embed="rId1"/>
          <a:stretch/>
        </p:blipFill>
        <p:spPr>
          <a:xfrm>
            <a:off x="3059280" y="2979720"/>
            <a:ext cx="5670360" cy="241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5" descr="C34A27FC"/>
          <p:cNvPicPr/>
          <p:nvPr/>
        </p:nvPicPr>
        <p:blipFill>
          <a:blip r:embed="rId2"/>
          <a:stretch/>
        </p:blipFill>
        <p:spPr>
          <a:xfrm>
            <a:off x="395280" y="1628640"/>
            <a:ext cx="20988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0" name="Text Box 6"/>
          <p:cNvSpPr/>
          <p:nvPr/>
        </p:nvSpPr>
        <p:spPr>
          <a:xfrm>
            <a:off x="3059280" y="1916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 and Dasgupta, Chem.Eng.Comm, 2008, 195: 82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емілюмінесценція ізопрену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ra et al., Anal. Chem. 2007, 79: 2641-26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ливістю ізопрену є його здатність вступати у реакцію з озоном, яка супроводжується хемілюмінесценцією з максимумом при 410 н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668C0D4"/>
          <p:cNvPicPr/>
          <p:nvPr/>
        </p:nvPicPr>
        <p:blipFill>
          <a:blip r:embed="rId1"/>
          <a:stretch/>
        </p:blipFill>
        <p:spPr>
          <a:xfrm>
            <a:off x="4716360" y="1557360"/>
            <a:ext cx="4132440" cy="431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ікроекстракція твердої фаз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SPM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 базується на використанні колонки, покритої рідким (полімер) або твердим (сорбент) екстр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речовини, що екстрагується, пропорційна концентрації зра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220px-Solid_phase_microextraction_diagram"/>
          <p:cNvPicPr/>
          <p:nvPr/>
        </p:nvPicPr>
        <p:blipFill>
          <a:blip r:embed="rId1"/>
          <a:stretch/>
        </p:blipFill>
        <p:spPr>
          <a:xfrm>
            <a:off x="5003640" y="1628640"/>
            <a:ext cx="3618000" cy="4392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орб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орбенти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верді тіла або рідини, що вибірково поглинають (сорбують) з довкілля гази, пару або розчинені речовин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лежно від характеру сорбції розрізняю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абсорбенти –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іла, що утворюють з поглинутою речовиною твердий чи рідкий розч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адсорбенти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тіла, що поглинають речовину на своїй поверхні (зазвичай, дуже розвиненій) 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хімічні поглинач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які зв’язують речовину, що поглинається, за рахунок хімічної взаємод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орбен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tube%2520accy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324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од предконцентрації</a:t>
            </a:r>
            <a:br>
              <a:rPr sz="4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hira et al., Anal Chem., 2007, 79: 2641-2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Isoprene"/>
          <p:cNvPicPr/>
          <p:nvPr/>
        </p:nvPicPr>
        <p:blipFill>
          <a:blip r:embed="rId1"/>
          <a:stretch/>
        </p:blipFill>
        <p:spPr>
          <a:xfrm>
            <a:off x="468360" y="1773360"/>
            <a:ext cx="8312040" cy="4182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LIsopreneColor"/>
          <p:cNvPicPr/>
          <p:nvPr/>
        </p:nvPicPr>
        <p:blipFill>
          <a:blip r:embed="rId1"/>
          <a:stretch/>
        </p:blipFill>
        <p:spPr>
          <a:xfrm>
            <a:off x="2224080" y="0"/>
            <a:ext cx="4410000" cy="685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етод предконцентрації</a:t>
            </a:r>
            <a:br>
              <a:rPr sz="4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ira et al., Anal Chem., 2007, 79: 2641-26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4009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аз, що аналізується, подається на колонку (300 м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6,5 мм) з твердим вуглецевим сорбентом, що нагрівається до 55 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С  (4,5 В)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овітряний потік подається в систему для отримання нульового сигн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зопрен, що виділився за нагріванням до 155 </a:t>
            </a:r>
            <a:r>
              <a:rPr b="0" lang="uk-UA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10,5 В), поступає в камеру, де бере участь у реакції з озоном, яка супроводжується хемілюмінесценціє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рібний картридж необхідний для вилучення сірчаних газ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у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F – mass flow controll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Хемілюмінесценція ЛСС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метилмеркаптану та ДМ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ЛСС"/>
          <p:cNvPicPr/>
          <p:nvPr/>
        </p:nvPicPr>
        <p:blipFill>
          <a:blip r:embed="rId1"/>
          <a:stretch/>
        </p:blipFill>
        <p:spPr>
          <a:xfrm>
            <a:off x="971640" y="1557360"/>
            <a:ext cx="7273800" cy="50576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Форми акустичного сигналу камертона, флейти та кларнета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1 003"/>
          <p:cNvPicPr/>
          <p:nvPr/>
        </p:nvPicPr>
        <p:blipFill>
          <a:blip r:embed="rId1"/>
          <a:stretch/>
        </p:blipFill>
        <p:spPr>
          <a:xfrm>
            <a:off x="2778120" y="1916280"/>
            <a:ext cx="3591000" cy="453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Чутливість сист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метилсульфід ДМ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илмеркаптан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опрен – 18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View Image"/>
          <p:cNvPicPr/>
          <p:nvPr/>
        </p:nvPicPr>
        <p:blipFill>
          <a:blip r:embed="rId1"/>
          <a:stretch/>
        </p:blipFill>
        <p:spPr>
          <a:xfrm>
            <a:off x="4789440" y="2924280"/>
            <a:ext cx="3162240" cy="3529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пектри музикальних інструменті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3"/>
          <p:cNvPicPr/>
          <p:nvPr/>
        </p:nvPicPr>
        <p:blipFill>
          <a:blip r:embed="rId1"/>
          <a:stretch/>
        </p:blipFill>
        <p:spPr>
          <a:xfrm>
            <a:off x="539640" y="2852640"/>
            <a:ext cx="8048880" cy="270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Фур’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є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еретворен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477000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частотний масштаб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І(t)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часовий масштаб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ут сигнал 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являє собою суму всіх гармонік у частотному домені, а </a:t>
            </a:r>
            <a:r>
              <a:rPr b="0" i="1" lang="uk-UA" sz="2400" spc="-1" strike="noStrike">
                <a:solidFill>
                  <a:srgbClr val="333399"/>
                </a:solidFill>
                <a:latin typeface="Arial"/>
              </a:rPr>
              <a:t>І(t)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часовому доме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 S(t) =  \int_{-\infty}^\infty I(\nu) e^{- i\nu 2\pi t}\,d\nu "/>
          <p:cNvPicPr/>
          <p:nvPr/>
        </p:nvPicPr>
        <p:blipFill>
          <a:blip r:embed="rId1"/>
          <a:stretch/>
        </p:blipFill>
        <p:spPr>
          <a:xfrm>
            <a:off x="1042920" y="1584360"/>
            <a:ext cx="6662880" cy="131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Picture 5" descr=" I(\nu) = 2Re \int_{-\infty}^\infty S(t) e^{2i\pi \nu t}dt "/>
          <p:cNvPicPr/>
          <p:nvPr/>
        </p:nvPicPr>
        <p:blipFill>
          <a:blip r:embed="rId2"/>
          <a:stretch/>
        </p:blipFill>
        <p:spPr>
          <a:xfrm>
            <a:off x="971640" y="3213000"/>
            <a:ext cx="7056360" cy="1263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Порівняння інтерферограм </a:t>
            </a:r>
            <a:br>
              <a:rPr sz="3200"/>
            </a:b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та оптичних спектрі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5 001"/>
          <p:cNvPicPr/>
          <p:nvPr/>
        </p:nvPicPr>
        <p:blipFill>
          <a:blip r:embed="rId1"/>
          <a:stretch/>
        </p:blipFill>
        <p:spPr>
          <a:xfrm>
            <a:off x="1908000" y="1844640"/>
            <a:ext cx="5472360" cy="482904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5:52:12Z</dcterms:created>
  <dc:creator>Posudin</dc:creator>
  <dc:description/>
  <dc:language>en-US</dc:language>
  <cp:lastModifiedBy>Оксана</cp:lastModifiedBy>
  <dcterms:modified xsi:type="dcterms:W3CDTF">2012-11-11T11:34:22Z</dcterms:modified>
  <cp:revision>142</cp:revision>
  <dc:subject/>
  <dc:title>МОНІТОРИНГ  ЯКОСТІ ПОВІТРЯ</dc:title>
</cp:coreProperties>
</file>