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8.jpeg" ContentType="image/jpeg"/>
  <Override PartName="/ppt/media/image12.png" ContentType="image/png"/>
  <Override PartName="/ppt/media/image7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37000" cy="40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4400" spc="-1" strike="noStrike">
                <a:solidFill>
                  <a:srgbClr val="800000"/>
                </a:solidFill>
                <a:latin typeface="Arial"/>
              </a:rPr>
              <a:t>Click to move the slide</a:t>
            </a: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0440" cy="480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327816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278240" y="0"/>
            <a:ext cx="327816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sldNum" idx="2"/>
          </p:nvPr>
        </p:nvSpPr>
        <p:spPr>
          <a:xfrm>
            <a:off x="4277880" y="10155240"/>
            <a:ext cx="3273480" cy="5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uk-U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4A5E68-9330-4876-9EA4-3444AE88140D}" type="slidenum"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7BA48B-4513-4A34-AFCB-9DC8C391D55C}" type="slidenum"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9A1166-BA12-42FF-A4D6-C05D2A02E3C5}" type="slidenum"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F51E6A-1109-4F5A-AB05-C2EEC8229635}" type="slidenum"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DB4C62-A2B9-4D01-824E-FA2B542D84D8}" type="slidenum"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1C7285-6CFB-49DA-9EF7-7D8737FA50AA}" type="slidenum"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07A945-F617-4172-9D86-F756F7ED9CAA}" type="slidenum"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C384FE-D2E3-461A-B72F-D864F0F94164}" type="slidenum"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6B714D-D17E-4FDE-9E1B-8C45C70C5FCC}" type="slidenum"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CF938E-1C7B-4BDA-9211-8E3330590D7F}" type="slidenum"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390611-0352-441F-A2DD-56E174E528D4}" type="slidenum"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CDF751-82EA-4C00-9176-E6964A6356E4}" type="slidenum"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3ACD86-D603-42F8-AED3-ECBCD09E7E30}" type="slidenum"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A3135C-722E-4C2D-8067-B73F7EB642AD}" type="slidenum"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A5FC53-56CD-448A-96E1-059181B65549}" type="slidenum"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1FFEC7-6F45-4E30-B65A-E6864C720382}" type="slidenum"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C3F769-866D-40DF-831F-CD2135824B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634920" y="301680"/>
            <a:ext cx="614844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979280" y="1768320"/>
            <a:ext cx="776772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979280" y="6721560"/>
            <a:ext cx="776772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58021C-4E8C-49A2-AC68-6A546FB6CA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634920" y="301680"/>
            <a:ext cx="614844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979280" y="1768320"/>
            <a:ext cx="379044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959800" y="1768320"/>
            <a:ext cx="379044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979280" y="6721560"/>
            <a:ext cx="379044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959800" y="6721560"/>
            <a:ext cx="379044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298952-A4C3-4442-AE44-EA73A227F3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634920" y="301680"/>
            <a:ext cx="614844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979280" y="1768320"/>
            <a:ext cx="250092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05480" y="1768320"/>
            <a:ext cx="250092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232040" y="1768320"/>
            <a:ext cx="250092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979280" y="6721560"/>
            <a:ext cx="250092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605480" y="6721560"/>
            <a:ext cx="250092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232040" y="6721560"/>
            <a:ext cx="250092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FEE84A-A89E-4320-9509-7811312A312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634920" y="301680"/>
            <a:ext cx="614844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979280" y="1768320"/>
            <a:ext cx="7767720" cy="948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E35ABC-0059-488E-8CE7-9529059C9F0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634920" y="301680"/>
            <a:ext cx="614844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979280" y="1768320"/>
            <a:ext cx="7767720" cy="9482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1B4DFE-BA11-419C-B147-6C9B890D42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634920" y="301680"/>
            <a:ext cx="614844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79280" y="1768320"/>
            <a:ext cx="3790440" cy="9482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959800" y="1768320"/>
            <a:ext cx="3790440" cy="9482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8CF557-951D-478F-A9AB-D2DBDBA3B0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634920" y="301680"/>
            <a:ext cx="614844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615C8B-8586-4543-883F-DDC0E78657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634920" y="301680"/>
            <a:ext cx="6148440" cy="58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4E528D-776D-4ED3-BC40-941EE6AD75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634920" y="301680"/>
            <a:ext cx="614844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979280" y="1768320"/>
            <a:ext cx="379044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959800" y="1768320"/>
            <a:ext cx="3790440" cy="9482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979280" y="6721560"/>
            <a:ext cx="379044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AAF2AD-D596-464A-94A1-D50BEFDF4C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634920" y="301680"/>
            <a:ext cx="614844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979280" y="1768320"/>
            <a:ext cx="3790440" cy="9482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959800" y="1768320"/>
            <a:ext cx="379044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959800" y="6721560"/>
            <a:ext cx="379044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E8E773-B116-49E0-B3BB-337A6DC0E7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634920" y="301680"/>
            <a:ext cx="614844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979280" y="1768320"/>
            <a:ext cx="379044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959800" y="1768320"/>
            <a:ext cx="379044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979280" y="6721560"/>
            <a:ext cx="776772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5F6724-CA0B-4014-AE3D-CD7ECEDDBE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34920" y="301680"/>
            <a:ext cx="614844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44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979280" y="1768320"/>
            <a:ext cx="7767720" cy="9482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763640" y="6094440"/>
            <a:ext cx="234468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203720" y="6707160"/>
            <a:ext cx="319248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7515360" y="6707160"/>
            <a:ext cx="2340000" cy="5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uk-U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A61953-66CB-4DFA-BB9C-A5E81CA86A48}" type="slidenum"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979640" y="5065560"/>
            <a:ext cx="7920000" cy="14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ловяненко Денис Володимирович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ук. співроб. НБУВ, канд. іст. нау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260360" y="2160720"/>
            <a:ext cx="8460000" cy="21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028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Проект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Наукова періодика України”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179280" y="298440"/>
            <a:ext cx="9720360" cy="11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тформа </a:t>
            </a:r>
            <a:r>
              <a:rPr b="1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укової періодики Україн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 Journal System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182520" y="1422360"/>
            <a:ext cx="9501120" cy="585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79280" y="298440"/>
            <a:ext cx="9720360" cy="11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тформа </a:t>
            </a:r>
            <a:r>
              <a:rPr b="1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укової періодики Україн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 Journal System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539640" y="1440000"/>
            <a:ext cx="9172800" cy="599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79280" y="298440"/>
            <a:ext cx="9720360" cy="11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тформа </a:t>
            </a:r>
            <a:r>
              <a:rPr b="1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укової періодики Україн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 Journal System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179280" y="1440000"/>
            <a:ext cx="9601200" cy="5248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79280" y="298440"/>
            <a:ext cx="972036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калізація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 Journal System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720720" y="1440000"/>
            <a:ext cx="8794800" cy="575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79280" y="298440"/>
            <a:ext cx="972036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оддержка стандарта ГОС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716040" y="1440000"/>
            <a:ext cx="8823240" cy="575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260360" y="2879640"/>
            <a:ext cx="84600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748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4800" spc="-1" strike="noStrike">
                <a:solidFill>
                  <a:srgbClr val="000000"/>
                </a:solidFill>
                <a:latin typeface="Arial"/>
              </a:rPr>
              <a:t>Дякую за увагу!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324000" y="1260360"/>
            <a:ext cx="3995640" cy="5400720"/>
          </a:xfrm>
          <a:prstGeom prst="rect">
            <a:avLst/>
          </a:prstGeom>
          <a:ln w="36000">
            <a:solidFill>
              <a:srgbClr val="000000"/>
            </a:solidFill>
            <a:round/>
          </a:ln>
        </p:spPr>
      </p:pic>
      <p:sp>
        <p:nvSpPr>
          <p:cNvPr id="55" name=""/>
          <p:cNvSpPr/>
          <p:nvPr/>
        </p:nvSpPr>
        <p:spPr>
          <a:xfrm>
            <a:off x="1800360" y="298440"/>
            <a:ext cx="648000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рмативна база проект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600360" y="1619280"/>
            <a:ext cx="3257640" cy="4319640"/>
          </a:xfrm>
          <a:prstGeom prst="rect">
            <a:avLst/>
          </a:prstGeom>
          <a:ln w="36000">
            <a:solidFill>
              <a:srgbClr val="000000"/>
            </a:solidFill>
            <a:round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5773680" y="2519280"/>
            <a:ext cx="3225960" cy="4319640"/>
          </a:xfrm>
          <a:prstGeom prst="rect">
            <a:avLst/>
          </a:prstGeom>
          <a:ln w="36000">
            <a:solidFill>
              <a:srgbClr val="000000"/>
            </a:solidFill>
            <a:round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1260360" y="1260360"/>
            <a:ext cx="7199280" cy="5759640"/>
          </a:xfrm>
          <a:prstGeom prst="rect">
            <a:avLst/>
          </a:prstGeom>
          <a:ln w="18000">
            <a:solidFill>
              <a:srgbClr val="000000"/>
            </a:solidFill>
            <a:round/>
          </a:ln>
        </p:spPr>
      </p:pic>
      <p:sp>
        <p:nvSpPr>
          <p:cNvPr id="59" name=""/>
          <p:cNvSpPr/>
          <p:nvPr/>
        </p:nvSpPr>
        <p:spPr>
          <a:xfrm>
            <a:off x="1260360" y="298440"/>
            <a:ext cx="738036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ловна сторінка проект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440000" y="298440"/>
            <a:ext cx="701964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тульний файл виданн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900000" y="1079640"/>
            <a:ext cx="8164800" cy="5759280"/>
          </a:xfrm>
          <a:prstGeom prst="rect">
            <a:avLst/>
          </a:prstGeom>
          <a:ln w="18000">
            <a:solidFill>
              <a:srgbClr val="000000"/>
            </a:solidFill>
            <a:round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179280" y="298440"/>
            <a:ext cx="953928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1" lang="uk-U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укова періодика України” у цифрах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440000" y="1800360"/>
            <a:ext cx="8099280" cy="46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uk-UA" sz="3200" spc="-1" strike="noStrike">
                <a:solidFill>
                  <a:srgbClr val="000000"/>
                </a:solidFill>
                <a:latin typeface="Arial"/>
              </a:rPr>
              <a:t>Обсяг зібрання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3200" spc="-1" strike="noStrike">
                <a:solidFill>
                  <a:srgbClr val="000080"/>
                </a:solidFill>
                <a:latin typeface="Arial"/>
              </a:rPr>
              <a:t>0,5 млн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повних текстів стате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3200" spc="-1" strike="noStrike">
                <a:solidFill>
                  <a:srgbClr val="000080"/>
                </a:solidFill>
                <a:latin typeface="Arial"/>
              </a:rPr>
              <a:t>1718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назв видан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uk-UA" sz="3200" spc="-1" strike="noStrike">
                <a:solidFill>
                  <a:srgbClr val="000000"/>
                </a:solidFill>
                <a:latin typeface="Arial"/>
              </a:rPr>
              <a:t>Статистика використання 201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За рік: </a:t>
            </a:r>
            <a:r>
              <a:rPr b="0" lang="uk-UA" sz="3200" spc="-1" strike="noStrike">
                <a:solidFill>
                  <a:srgbClr val="000080"/>
                </a:solidFill>
                <a:latin typeface="Arial"/>
              </a:rPr>
              <a:t>103 млн текстів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(21,2 TB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В середньому щоденно: </a:t>
            </a:r>
            <a:r>
              <a:rPr b="0" lang="uk-UA" sz="3200" spc="-1" strike="noStrike">
                <a:solidFill>
                  <a:srgbClr val="000080"/>
                </a:solidFill>
                <a:latin typeface="Arial"/>
              </a:rPr>
              <a:t>282 тис. тексті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В середньому щосекунди: </a:t>
            </a:r>
            <a:r>
              <a:rPr b="0" lang="uk-UA" sz="3200" spc="-1" strike="noStrike">
                <a:solidFill>
                  <a:srgbClr val="000080"/>
                </a:solidFill>
                <a:latin typeface="Arial"/>
              </a:rPr>
              <a:t>3 текст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79280" y="298440"/>
            <a:ext cx="953928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1" lang="uk-U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укова періодика України” 201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ва концепці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39640" y="1260360"/>
            <a:ext cx="9180720" cy="59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200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32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0" lang="uk-UA" sz="3200" spc="-1" strike="noStrike">
                <a:solidFill>
                  <a:srgbClr val="000080"/>
                </a:solidFill>
                <a:latin typeface="Arial"/>
              </a:rPr>
              <a:t>Кожному виданню власний веб-сай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200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32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0" lang="uk-UA" sz="3200" spc="-1" strike="noStrike">
                <a:solidFill>
                  <a:srgbClr val="800000"/>
                </a:solidFill>
                <a:latin typeface="Arial"/>
              </a:rPr>
              <a:t>Автоматизація науково-видавничих процесі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200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32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lang="uk-UA" sz="3200" spc="-1" strike="noStrike">
                <a:solidFill>
                  <a:srgbClr val="008000"/>
                </a:solidFill>
                <a:latin typeface="Arial"/>
              </a:rPr>
              <a:t>Інтерфейс для управлінських структу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200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3200" spc="-1" strike="noStrike">
                <a:solidFill>
                  <a:srgbClr val="800080"/>
                </a:solidFill>
                <a:latin typeface="Arial"/>
              </a:rPr>
              <a:t> </a:t>
            </a:r>
            <a:r>
              <a:rPr b="0" lang="uk-UA" sz="3200" spc="-1" strike="noStrike">
                <a:solidFill>
                  <a:srgbClr val="800080"/>
                </a:solidFill>
                <a:latin typeface="Arial"/>
              </a:rPr>
              <a:t>Єдина база даних (українських) науковці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200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3200" spc="-1" strike="noStrike">
                <a:solidFill>
                  <a:srgbClr val="0000ff"/>
                </a:solidFill>
                <a:latin typeface="Arial"/>
              </a:rPr>
              <a:t>Численні точки депозитарного збереженн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200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3200" spc="-1" strike="noStrike">
                <a:solidFill>
                  <a:srgbClr val="b80047"/>
                </a:solidFill>
                <a:latin typeface="Arial"/>
              </a:rPr>
              <a:t> </a:t>
            </a:r>
            <a:r>
              <a:rPr b="0" lang="uk-UA" sz="3200" spc="-1" strike="noStrike">
                <a:solidFill>
                  <a:srgbClr val="b80047"/>
                </a:solidFill>
                <a:latin typeface="Arial"/>
              </a:rPr>
              <a:t>Український індекс наукового цитуванн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900000" y="298440"/>
            <a:ext cx="846000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ва технологічна платформ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1079640" y="2838600"/>
            <a:ext cx="1433520" cy="9414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1871640" y="6300720"/>
            <a:ext cx="2087640" cy="7207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4"/>
          <a:stretch/>
        </p:blipFill>
        <p:spPr>
          <a:xfrm>
            <a:off x="3992400" y="6300720"/>
            <a:ext cx="1766880" cy="7207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5"/>
          <a:stretch/>
        </p:blipFill>
        <p:spPr>
          <a:xfrm>
            <a:off x="8269200" y="6300720"/>
            <a:ext cx="1090800" cy="7207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6"/>
          <a:stretch/>
        </p:blipFill>
        <p:spPr>
          <a:xfrm>
            <a:off x="5807160" y="6300720"/>
            <a:ext cx="2112840" cy="72072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2700360" y="1079640"/>
            <a:ext cx="7199280" cy="50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02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Open Journal Systems</a:t>
            </a:r>
            <a:r>
              <a:rPr b="0" lang="ru-RU" sz="4000" spc="-1" strike="noStrike">
                <a:solidFill>
                  <a:srgbClr val="000080"/>
                </a:solidFill>
                <a:latin typeface="Times New Roman"/>
              </a:rPr>
              <a:t> (OJS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гатомодульний сервер програмних додатків з відкритим вихідним кодом, призначений для забезпечення програмно-технологічного супроводу процесів публікації та використання окремого наукового періодичного видання або колекції з груп видан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195120" y="1123920"/>
            <a:ext cx="9525240" cy="607716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900000" y="298440"/>
            <a:ext cx="846000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ва технологічна платформ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179280" y="298440"/>
            <a:ext cx="9720360" cy="11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тформа </a:t>
            </a:r>
            <a:r>
              <a:rPr b="1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укової періодики Україн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 Journal System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1079640" y="1440000"/>
            <a:ext cx="7931160" cy="57592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3T12:09:55Z</dcterms:created>
  <dc:creator/>
  <dc:description/>
  <dc:language>en-US</dc:language>
  <cp:lastModifiedBy>Настя</cp:lastModifiedBy>
  <dcterms:modified xsi:type="dcterms:W3CDTF">2011-10-04T22:55:58Z</dcterms:modified>
  <cp:revision>8</cp:revision>
  <dc:subject/>
  <dc:title>Слайд 1</dc:title>
</cp:coreProperties>
</file>