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7824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961D9-8C93-474C-98BF-8CFD23295077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68D6C-D865-4DE2-AC5A-B1B9ACE18FCD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F4123-F180-43E4-8237-5C062D17D990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2CEB2-1013-4213-BA90-F224A6DBE246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C2F9E-F0F0-4837-B3A3-BE96A26AE838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7A96F-A1A5-4B69-83C1-2FF2F733468A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72299-14B6-4A1A-AC53-224614DBA01C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72242-308C-46D2-A447-4EA93B7EAA4C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A4B42-8A8F-473E-A4DC-417C06D9DD23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11FBA-4D36-4BCB-86AB-C9DA2F4E4800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FFFD2-ED3F-4C26-9464-25E3FECB1A55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290E8-C5D5-4C65-BF0D-EC5E34461B2E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7A8AE-5D1C-4E70-A108-E55842AA081B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CDDB0-0226-40CF-9CD2-48BD2B77B009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AC9C5-D523-4EBE-A129-EC18A452E836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455F8-15EE-474A-98DF-B773E58CBC00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EF00-7C9F-4485-BFFB-ED10F59AA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677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79280" y="6721560"/>
            <a:ext cx="77677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ED4F-9233-4E80-B9A6-E4374C375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37904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59800" y="1768320"/>
            <a:ext cx="37904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79280" y="6721560"/>
            <a:ext cx="37904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59800" y="6721560"/>
            <a:ext cx="37904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8765-4F62-4FF4-A6C2-9D264C901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2500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5480" y="1768320"/>
            <a:ext cx="2500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2040" y="1768320"/>
            <a:ext cx="2500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79280" y="6721560"/>
            <a:ext cx="2500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5480" y="6721560"/>
            <a:ext cx="2500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2040" y="6721560"/>
            <a:ext cx="2500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D72D7-B8AF-49FB-A322-A947067622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79280" y="1768320"/>
            <a:ext cx="7767720" cy="94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E9554-8F80-45B8-A2BD-46EB253C61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67720" cy="948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03058-266B-41A0-A11D-092D620A46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3790440" cy="948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59800" y="1768320"/>
            <a:ext cx="3790440" cy="948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B656-2CB9-4633-B9B2-0FBB8B37B7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CFBE0-832A-4147-B209-5541B0DE9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4920" y="301680"/>
            <a:ext cx="614844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4FD4A-0238-4BC5-B8D7-64529C5C2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37904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59800" y="1768320"/>
            <a:ext cx="3790440" cy="948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79280" y="6721560"/>
            <a:ext cx="37904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CE038-84B8-41FF-911C-7DD3A2BA9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3790440" cy="948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59800" y="1768320"/>
            <a:ext cx="37904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59800" y="6721560"/>
            <a:ext cx="37904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CE617-ED1B-4DB9-815F-BB657BC50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37904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59800" y="1768320"/>
            <a:ext cx="37904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79280" y="6721560"/>
            <a:ext cx="77677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19C8-469A-4BB5-9B1D-D2F216E14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79280" y="1768320"/>
            <a:ext cx="7767720" cy="948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63640" y="6094440"/>
            <a:ext cx="23446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03720" y="670716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515360" y="670716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854E3-F48F-447B-A8C6-98DF9B4B612E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79640" y="5065560"/>
            <a:ext cx="792000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вяненко Денис Володимирович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. співроб. НБУВ, канд. іст. нау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60360" y="2160720"/>
            <a:ext cx="84600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аукова періодика України”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298440"/>
            <a:ext cx="9720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форма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ої періодики Украї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Journal Syst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82520" y="1422360"/>
            <a:ext cx="9501120" cy="58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298440"/>
            <a:ext cx="9720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форма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ої періодики Украї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Journal Syst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39640" y="1440000"/>
            <a:ext cx="917280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9280" y="298440"/>
            <a:ext cx="9720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форма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ої періодики Украї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Journal Syst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9280" y="1440000"/>
            <a:ext cx="9601200" cy="52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9280" y="298440"/>
            <a:ext cx="9720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ізація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Journal Syst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20720" y="1440000"/>
            <a:ext cx="879480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298440"/>
            <a:ext cx="9720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держка стандарта ГО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16040" y="1440000"/>
            <a:ext cx="882324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60360" y="2879640"/>
            <a:ext cx="8460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Дякую за увагу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24000" y="1260360"/>
            <a:ext cx="3995640" cy="5400720"/>
          </a:xfrm>
          <a:prstGeom prst="rect">
            <a:avLst/>
          </a:prstGeom>
          <a:ln w="36000">
            <a:solidFill>
              <a:srgbClr val="000000"/>
            </a:solidFill>
            <a:round/>
          </a:ln>
        </p:spPr>
      </p:pic>
      <p:sp>
        <p:nvSpPr>
          <p:cNvPr id="55" name=""/>
          <p:cNvSpPr/>
          <p:nvPr/>
        </p:nvSpPr>
        <p:spPr>
          <a:xfrm>
            <a:off x="1800360" y="298440"/>
            <a:ext cx="6480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а база проект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600360" y="1619280"/>
            <a:ext cx="3257640" cy="4319640"/>
          </a:xfrm>
          <a:prstGeom prst="rect">
            <a:avLst/>
          </a:prstGeom>
          <a:ln w="36000">
            <a:solidFill>
              <a:srgbClr val="000000"/>
            </a:solidFill>
            <a:round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773680" y="2519280"/>
            <a:ext cx="3225960" cy="4319640"/>
          </a:xfrm>
          <a:prstGeom prst="rect">
            <a:avLst/>
          </a:prstGeom>
          <a:ln w="36000">
            <a:solidFill>
              <a:srgbClr val="000000"/>
            </a:solidFill>
            <a:round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60360" y="1260360"/>
            <a:ext cx="7199280" cy="5759640"/>
          </a:xfrm>
          <a:prstGeom prst="rect">
            <a:avLst/>
          </a:prstGeom>
          <a:ln w="18000">
            <a:solidFill>
              <a:srgbClr val="000000"/>
            </a:solidFill>
            <a:round/>
          </a:ln>
        </p:spPr>
      </p:pic>
      <p:sp>
        <p:nvSpPr>
          <p:cNvPr id="59" name=""/>
          <p:cNvSpPr/>
          <p:nvPr/>
        </p:nvSpPr>
        <p:spPr>
          <a:xfrm>
            <a:off x="1260360" y="298440"/>
            <a:ext cx="7380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а сторінка проект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40000" y="298440"/>
            <a:ext cx="70196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ульний файл виданн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00000" y="1079640"/>
            <a:ext cx="8164800" cy="5759280"/>
          </a:xfrm>
          <a:prstGeom prst="rect">
            <a:avLst/>
          </a:prstGeom>
          <a:ln w="18000">
            <a:solidFill>
              <a:srgbClr val="000000"/>
            </a:solidFill>
            <a:round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298440"/>
            <a:ext cx="95392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а періодика України” у цифра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0000" y="1800360"/>
            <a:ext cx="80992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Обсяг зібранн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80"/>
                </a:solidFill>
                <a:latin typeface="Arial"/>
              </a:rPr>
              <a:t>0,5 мл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повних текстів ста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80"/>
                </a:solidFill>
                <a:latin typeface="Arial"/>
              </a:rPr>
              <a:t>1718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назв вида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Статистика використання 201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 рік: </a:t>
            </a:r>
            <a:r>
              <a:rPr b="0" lang="uk-UA" sz="3200" spc="-1" strike="noStrike">
                <a:solidFill>
                  <a:srgbClr val="000080"/>
                </a:solidFill>
                <a:latin typeface="Arial"/>
              </a:rPr>
              <a:t>103 млн тексті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21,2 T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середньому щоденно: </a:t>
            </a:r>
            <a:r>
              <a:rPr b="0" lang="uk-UA" sz="3200" spc="-1" strike="noStrike">
                <a:solidFill>
                  <a:srgbClr val="000080"/>
                </a:solidFill>
                <a:latin typeface="Arial"/>
              </a:rPr>
              <a:t>282 тис. текст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середньому щосекунди: </a:t>
            </a:r>
            <a:r>
              <a:rPr b="0" lang="uk-UA" sz="3200" spc="-1" strike="noStrike">
                <a:solidFill>
                  <a:srgbClr val="000080"/>
                </a:solidFill>
                <a:latin typeface="Arial"/>
              </a:rPr>
              <a:t>3 тек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9280" y="298440"/>
            <a:ext cx="95392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а періодика України” 20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 концепці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260360"/>
            <a:ext cx="9180720" cy="59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80"/>
                </a:solidFill>
                <a:latin typeface="Arial"/>
              </a:rPr>
              <a:t>Кожному виданню власний веб-сай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800000"/>
                </a:solidFill>
                <a:latin typeface="Arial"/>
              </a:rPr>
              <a:t>Автоматизація науково-видавничих процес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8000"/>
                </a:solidFill>
                <a:latin typeface="Arial"/>
              </a:rPr>
              <a:t>Інтерфейс для управлінських структу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800080"/>
                </a:solidFill>
                <a:latin typeface="Arial"/>
              </a:rPr>
              <a:t>Єдина база даних (українських) науковц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Численні точки депозитарного збережен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b80047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b80047"/>
                </a:solidFill>
                <a:latin typeface="Arial"/>
              </a:rPr>
              <a:t>Український індекс наукового цитуван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00000" y="298440"/>
            <a:ext cx="8460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 технологічна платфор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79640" y="2838600"/>
            <a:ext cx="1433520" cy="941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871640" y="6300720"/>
            <a:ext cx="208764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992400" y="6300720"/>
            <a:ext cx="1766880" cy="72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8269200" y="6300720"/>
            <a:ext cx="1090800" cy="72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5807160" y="6300720"/>
            <a:ext cx="2112840" cy="720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700360" y="1079640"/>
            <a:ext cx="719928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Open Journal Systems</a:t>
            </a:r>
            <a:r>
              <a:rPr b="0" lang="ru-RU" sz="4000" spc="-1" strike="noStrike">
                <a:solidFill>
                  <a:srgbClr val="000080"/>
                </a:solidFill>
                <a:latin typeface="Times New Roman"/>
              </a:rPr>
              <a:t> (OJ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гатомодульний сервер програмних додатків з відкритим вихідним кодом, призначений для забезпечення програмно-технологічного супроводу процесів публікації та використання окремого наукового періодичного видання або колекції з груп вида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95120" y="1123920"/>
            <a:ext cx="9525240" cy="6077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00000" y="298440"/>
            <a:ext cx="8460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 технологічна платфор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298440"/>
            <a:ext cx="9720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форма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ої періодики Украї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Journal Syst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079640" y="1440000"/>
            <a:ext cx="7931160" cy="575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2:09:55Z</dcterms:created>
  <dc:creator/>
  <dc:description/>
  <dc:language>en-US</dc:language>
  <cp:lastModifiedBy>Настя</cp:lastModifiedBy>
  <dcterms:modified xsi:type="dcterms:W3CDTF">2011-10-04T22:55:58Z</dcterms:modified>
  <cp:revision>8</cp:revision>
  <dc:subject/>
  <dc:title>Слайд 1</dc:title>
</cp:coreProperties>
</file>