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4D7DB-2CE0-40B6-A416-5C1FF89FEBD3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B2DC1-D92B-43D6-8CFD-3DC8118D65A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95988-3392-41BB-B36C-6021B2C5872F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82580-000A-48B5-8B96-586EB28A208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CE421-A002-4DF1-9096-913B59F0501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06A60-EDEA-4AA1-8533-34C11C0A6E6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A623D-AC0D-4049-877F-784321B2FA61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3E91-4693-4A27-84D5-E5048378FFFD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F9F4D-D4E1-4694-9E5C-71F01BB7906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2291C-6F17-4C5D-ACFB-3AD9130A016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1D53C-98B7-4A63-B5CC-FC24647382F0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E25EB-EBAE-4B69-B404-000090F9EB24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47B48-DF35-47FB-8BC4-CC25A8B5DB47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29590-0C4C-455F-9F9C-4813C89328A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9FE9-4FFB-405B-A5E4-F1F25687410B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B2953-48D2-4C20-8AAF-371813051079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750A-6E7F-4563-ADC8-722607E30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1F2C-15AB-4059-BC6F-E09715710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F4F3-3B35-4397-B08B-54B6DBE43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548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2040" y="176832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2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548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2040" y="6721560"/>
            <a:ext cx="2500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7495-1038-4427-9E73-87623BAF4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4EF1-4C50-4176-98D0-8C339542B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78A0-CB22-4248-ADC1-BA1B637F3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839C-9DE2-4FA5-96D9-B6990D742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72ED-68B9-47AC-A555-10D9DB909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680"/>
            <a:ext cx="614844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ECDD-8C62-4610-B416-1082F8599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2F67-228B-49E4-BFE4-6335BB944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9800" y="672156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6F8B-E3FC-429A-89FB-16CDC3858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28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9800" y="1768320"/>
            <a:ext cx="37904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280" y="6721560"/>
            <a:ext cx="77677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4EAB-CF34-42B9-99AC-C4B9C4748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4920" y="301680"/>
            <a:ext cx="614844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768320"/>
            <a:ext cx="7767720" cy="948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63640" y="6094440"/>
            <a:ext cx="2344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03720" y="670716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15360" y="67071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6E920-9854-4DDE-88CA-BBA6E91CB86F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5065560"/>
            <a:ext cx="792000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яненко Денис Володимирович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. співроб. НБУВ, канд. іст. на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60360" y="2160720"/>
            <a:ext cx="8460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укова періодика України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82520" y="1422360"/>
            <a:ext cx="95011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9640" y="1440000"/>
            <a:ext cx="91728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1440000"/>
            <a:ext cx="960120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ізаці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87948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298440"/>
            <a:ext cx="972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держка стандарта Г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040" y="1440000"/>
            <a:ext cx="882324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60360" y="2879640"/>
            <a:ext cx="846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260360"/>
            <a:ext cx="3995640" cy="540072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sp>
        <p:nvSpPr>
          <p:cNvPr id="55" name=""/>
          <p:cNvSpPr/>
          <p:nvPr/>
        </p:nvSpPr>
        <p:spPr>
          <a:xfrm>
            <a:off x="1800360" y="298440"/>
            <a:ext cx="648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а баз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00360" y="1619280"/>
            <a:ext cx="325764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773680" y="2519280"/>
            <a:ext cx="3225960" cy="4319640"/>
          </a:xfrm>
          <a:prstGeom prst="rect">
            <a:avLst/>
          </a:prstGeom>
          <a:ln w="36000">
            <a:solidFill>
              <a:srgbClr val="00000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60360" y="1260360"/>
            <a:ext cx="7199280" cy="575964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  <p:sp>
        <p:nvSpPr>
          <p:cNvPr id="59" name=""/>
          <p:cNvSpPr/>
          <p:nvPr/>
        </p:nvSpPr>
        <p:spPr>
          <a:xfrm>
            <a:off x="1260360" y="298440"/>
            <a:ext cx="738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а сторінка проект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0000" y="298440"/>
            <a:ext cx="7019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ий файл вида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0000" y="1079640"/>
            <a:ext cx="8164800" cy="5759280"/>
          </a:xfrm>
          <a:prstGeom prst="rect">
            <a:avLst/>
          </a:prstGeom>
          <a:ln w="18000">
            <a:solidFill>
              <a:srgbClr val="000000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у цифр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1800360"/>
            <a:ext cx="8099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Обсяг зібранн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0,5 мл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овних текстів ста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718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зв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Статистика використання 201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рік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103 млн тексті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21,2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денно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282 тис. текст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середньому щосекунди: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3 тек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298440"/>
            <a:ext cx="95392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а періодика України” 20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концепці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260360"/>
            <a:ext cx="918072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80"/>
                </a:solidFill>
                <a:latin typeface="Arial"/>
              </a:rPr>
              <a:t>Кожному виданню власний веб-сай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Автоматизація науково-видавничих процес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Інтерфейс для управлінських струк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800080"/>
                </a:solidFill>
                <a:latin typeface="Arial"/>
              </a:rPr>
              <a:t>Єдина база даних (українських) науковц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Численні точки депозитарного збереже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b80047"/>
                </a:solidFill>
                <a:latin typeface="Arial"/>
              </a:rPr>
              <a:t>Український індекс наукового цит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79640" y="2838600"/>
            <a:ext cx="1433520" cy="94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871640" y="6300720"/>
            <a:ext cx="208764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92400" y="6300720"/>
            <a:ext cx="176688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8269200" y="6300720"/>
            <a:ext cx="109080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807160" y="6300720"/>
            <a:ext cx="2112840" cy="720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700360" y="1079640"/>
            <a:ext cx="719928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Open Journal Systems</a:t>
            </a:r>
            <a:r>
              <a:rPr b="0" lang="ru-RU" sz="4000" spc="-1" strike="noStrike">
                <a:solidFill>
                  <a:srgbClr val="000080"/>
                </a:solidFill>
                <a:latin typeface="Times New Roman"/>
              </a:rPr>
              <a:t> (OJ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гатомодульний сервер програмних додатків з відкритим вихідним кодом, призначений для забезпечення програмно-технологічного супроводу процесів публікації та використання окремого наукового періодичного видання або колекції з груп вид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5120" y="1123920"/>
            <a:ext cx="9525240" cy="6077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298440"/>
            <a:ext cx="846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 технологічна платфор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440"/>
            <a:ext cx="972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форма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вої періодики Украї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Journal Sys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79640" y="1440000"/>
            <a:ext cx="7931160" cy="57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2:09:55Z</dcterms:created>
  <dc:creator/>
  <dc:description/>
  <dc:language>en-US</dc:language>
  <cp:lastModifiedBy>Настя</cp:lastModifiedBy>
  <dcterms:modified xsi:type="dcterms:W3CDTF">2011-10-04T22:55:58Z</dcterms:modified>
  <cp:revision>8</cp:revision>
  <dc:subject/>
  <dc:title>Слайд 1</dc:title>
</cp:coreProperties>
</file>