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345E-37A0-4B8F-96F5-F7733728AD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feedburner.google.com/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[1]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RSS – спеціальний формат даних, що може передаватися чи збиратися користувачами для подальшої обробки, сортування і читання. Це інформація із певного сайту, що може бути завантажена за допомогою спеціальних програм чи сервісів мережі Інтернет, не відвідуючи сайт, якому ця інформація належи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стика за допомого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ur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FeedBurner 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(</a:t>
            </a:r>
            <a:r>
              <a:rPr b="0" lang="uk-UA" sz="1200" spc="-1" strike="noStrike" u="sng">
                <a:solidFill>
                  <a:srgbClr val="0000ff"/>
                </a:solidFill>
                <a:uFillTx/>
                <a:latin typeface="Calibri"/>
                <a:ea typeface="맑은 고딕"/>
                <a:hlinkClick r:id="rId1"/>
              </a:rPr>
              <a:t>http://feedburner.google.com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) </a:t>
            </a:r>
            <a:r>
              <a:rPr b="0" lang="ru-RU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– 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сервіс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Google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, призначений для управління підписками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RSS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. Разом із статистикою використання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RSS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-підписок надає додаткові можливості (лічильник, перевірка помилок у потоці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RSS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, підписка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e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-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mail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 на стрічки новин тощ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DF36-E1A0-4DDC-A30A-EC2AD806F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Назва функції “Розсилки” – варіант зрозумілого та скороченого перекладу англійського термін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DI (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ectiv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ssemination of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formation) – </a:t>
            </a: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“вибіркове розповсюдження інформації ”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Пошуковий запит - це дані, що виражають суть окремого пошуку у е-каталозі (слова, за якими ведеться пошук; оператори “так”, “ні” тощо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0B48-312A-4478-B62E-66A0B1183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лово “Профайл” (анг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le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) – має багато значень. У даному випадку - це набір налаштувань, параметри користувача для даної розсилки. Кожна розсилка базується на конкретному профайлі, який можна редагува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ADA7-1BBA-4D6D-8677-5650BF38C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1D9D-8433-4F87-9491-5386FCF23B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5F91-EC4F-4600-A25F-E50CD2E31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00"/>
                </a:solidFill>
                <a:latin typeface="Times New Roman"/>
              </a:rPr>
              <a:t>До каталогу не включена інформація про фонди наукового архіву, та лише частково представлені електронні ресур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1424-FE2F-4698-AEF5-23FB0E85E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ції редагування даних розсилки “Змінити” та “Дублювати” дозволяють змінити всі дані розсилки, за виключенням її основи - пошукового запи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186E-9EB0-4F8D-B87E-A6401B1165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стика використа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Щось про пош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B801-B597-4A58-83C8-F38B8990E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оступ із верхнього мен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EF6-4119-474E-9BD8-B134F760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C49-95A0-44CC-9467-A3EA7CB7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00E-A725-4B81-A90A-9A978E69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219-1577-4976-9374-6CC7F90E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A8FE-B981-4E65-8412-85006383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6FF7-1BDC-4A7D-93D9-7BF01222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92C8-153E-4FDC-92C8-0C72287F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C8EA-C22D-4C1A-B1BC-A2E23045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6E72-F9F5-4991-AE48-88E89D33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56A0-04ED-4DDF-98C6-942C1EE3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CF76-455E-43A0-ACB4-35072293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775-E83C-47CA-B92F-1845A58E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835D-D2F1-467A-987F-22C35982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8709-2431-4D76-83E2-956413BF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957C-D513-4A19-9057-8144F31B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A542-1857-4D0C-BD89-776A2190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71BE-D017-4F11-A672-0E4F536D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188-2173-4DFC-8805-FE9D9354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A65-6BED-4932-A46E-E957CFB7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F32-9F9D-4914-838B-F236D6F5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7EA-4AC3-4772-94CE-9659FA46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D00-778F-4B65-82F9-6BD2E1BC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10B-A6B4-4E6D-A7A8-7D294ABB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5D3-92D6-4C3E-9A05-40901639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EFAF-5C5A-4CCC-93E0-61CD3C8630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>
                <a:gd name="textAreaLeft" fmla="*/ 0 w 1420560"/>
                <a:gd name="textAreaRight" fmla="*/ 1420560 w 142056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>
                <a:gd name="textAreaLeft" fmla="*/ 0 w 2909880"/>
                <a:gd name="textAreaRight" fmla="*/ 2909880 w 2909880"/>
                <a:gd name="textAreaTop" fmla="*/ 0 h 2639880"/>
                <a:gd name="textAreaBottom" fmla="*/ 2640240 h 263988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44840"/>
                <a:gd name="textAreaBottom" fmla="*/ 2545200 h 254484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>
                <a:gd name="textAreaLeft" fmla="*/ 0 w 1420560"/>
                <a:gd name="textAreaRight" fmla="*/ 1420560 w 142056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>
                <a:gd name="textAreaLeft" fmla="*/ 0 w 2909880"/>
                <a:gd name="textAreaRight" fmla="*/ 2909880 w 2909880"/>
                <a:gd name="textAreaTop" fmla="*/ 0 h 2639880"/>
                <a:gd name="textAreaBottom" fmla="*/ 2640240 h 263988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44840"/>
                <a:gd name="textAreaBottom" fmla="*/ 2545200 h 254484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>
                <a:gd name="textAreaLeft" fmla="*/ 0 w 3843720"/>
                <a:gd name="textAreaRight" fmla="*/ 3844080 w 3843720"/>
                <a:gd name="textAreaTop" fmla="*/ 0 h 2195640"/>
                <a:gd name="textAreaBottom" fmla="*/ 2196000 h 219564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2860920"/>
                <a:gd name="textAreaBottom" fmla="*/ 2861280 h 28609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>
                <a:gd name="textAreaLeft" fmla="*/ 0 w 2695680"/>
                <a:gd name="textAreaRight" fmla="*/ 2696040 w 269568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>
                <a:gd name="textAreaLeft" fmla="*/ 0 w 3051360"/>
                <a:gd name="textAreaRight" fmla="*/ 3051720 w 3051360"/>
                <a:gd name="textAreaTop" fmla="*/ 0 h 2594160"/>
                <a:gd name="textAreaBottom" fmla="*/ 2594520 h 259416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>
                <a:gd name="textAreaLeft" fmla="*/ 0 w 1601640"/>
                <a:gd name="textAreaRight" fmla="*/ 1602000 w 160164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935-B8FB-43D8-8172-E2C0A3D745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brary.ukma.kiev.ua/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bankovskaim@ukma.kiev.u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1989000"/>
            <a:ext cx="685800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Нові сервіси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лектронного каталогу НаУКМА 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із доставки інформації 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о нові надходження </a:t>
            </a:r>
            <a:br>
              <a:rPr sz="3200"/>
            </a:b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9" name="Подзаголовок 2"/>
          <p:cNvSpPr/>
          <p:nvPr/>
        </p:nvSpPr>
        <p:spPr>
          <a:xfrm>
            <a:off x="5003640" y="5157720"/>
            <a:ext cx="32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Баньковська Ір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истемний бібліотекар НБ НаУК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дзаголовок 2"/>
          <p:cNvSpPr/>
          <p:nvPr/>
        </p:nvSpPr>
        <p:spPr>
          <a:xfrm>
            <a:off x="4356000" y="404640"/>
            <a:ext cx="42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XV Щорічний науково-практичний семіна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«Інформаційні ресурси для науки та освіти» </a:t>
            </a:r>
            <a:br>
              <a:rPr sz="1600"/>
            </a:br>
            <a:r>
              <a:rPr b="0" lang="uk-UA" sz="16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Київ, 31січня -1 лютого 2012 ро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ошук по колекції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ошук за ключовими словами можна обмежити у різні способи: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 типом матеріалу (книги, періодика тощо),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 місцем розміщення примірника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 кількістю днів, у межах яких документ був доданий до каталогу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Є можливість просто переглянути списки видань, що надійшли у бібліотеку за останні 7, 14, 21, 30, 60, 90, 120, 150 та 180 днів. Ці списки можна сортувати за різними ознаками (авторами, назвами, роками видання) і виконувати інші уточнення у межах таких списків. Можливий пошук за датою чи датами надходження видання у бібліотеку. Таке поєднання різних видів та параметрів пошуку дозволяє отримати точні результати при відборі практично будь-яких даних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Calibri"/>
              </a:rPr>
              <a:t>Пошук по колекції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42" name="Picture 5" descr="new_acq"/>
          <p:cNvPicPr/>
          <p:nvPr/>
        </p:nvPicPr>
        <p:blipFill>
          <a:blip r:embed="rId1"/>
          <a:stretch/>
        </p:blipFill>
        <p:spPr>
          <a:xfrm>
            <a:off x="1042920" y="1268280"/>
            <a:ext cx="6553440" cy="5459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2"/>
          <a:srcRect l="7635" t="50741" r="83008" b="21912"/>
          <a:stretch/>
        </p:blipFill>
        <p:spPr>
          <a:xfrm>
            <a:off x="2124000" y="189000"/>
            <a:ext cx="1455840" cy="2332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"/>
          <p:cNvPicPr/>
          <p:nvPr/>
        </p:nvPicPr>
        <p:blipFill>
          <a:blip r:embed="rId3"/>
          <a:srcRect l="9186" t="60173" r="85420" b="23223"/>
          <a:stretch/>
        </p:blipFill>
        <p:spPr>
          <a:xfrm>
            <a:off x="5580000" y="2060640"/>
            <a:ext cx="1152720" cy="2219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"/>
          <p:cNvPicPr/>
          <p:nvPr/>
        </p:nvPicPr>
        <p:blipFill>
          <a:blip r:embed="rId4"/>
          <a:srcRect l="8234" t="64062" r="84528" b="24617"/>
          <a:stretch/>
        </p:blipFill>
        <p:spPr>
          <a:xfrm>
            <a:off x="3851280" y="2852640"/>
            <a:ext cx="1512720" cy="15843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"/>
          <p:cNvPicPr/>
          <p:nvPr/>
        </p:nvPicPr>
        <p:blipFill>
          <a:blip r:embed="rId5"/>
          <a:srcRect l="7344" t="28174" r="80081" b="33847"/>
          <a:stretch/>
        </p:blipFill>
        <p:spPr>
          <a:xfrm>
            <a:off x="7020000" y="3789360"/>
            <a:ext cx="1431720" cy="2705040"/>
          </a:xfrm>
          <a:prstGeom prst="rect">
            <a:avLst/>
          </a:prstGeom>
          <a:ln w="0">
            <a:noFill/>
          </a:ln>
        </p:spPr>
      </p:pic>
      <p:sp>
        <p:nvSpPr>
          <p:cNvPr id="147" name="Овал 7"/>
          <p:cNvSpPr/>
          <p:nvPr/>
        </p:nvSpPr>
        <p:spPr>
          <a:xfrm>
            <a:off x="1042920" y="3933720"/>
            <a:ext cx="2808360" cy="574920"/>
          </a:xfrm>
          <a:prstGeom prst="ellipse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8"/>
          <p:cNvSpPr/>
          <p:nvPr/>
        </p:nvSpPr>
        <p:spPr>
          <a:xfrm>
            <a:off x="900000" y="4869000"/>
            <a:ext cx="1440000" cy="1081080"/>
          </a:xfrm>
          <a:prstGeom prst="ellipse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Доставка інформації про нові надходженн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ля оперативної доставки інформації про нові документи до користувача в зручний для нього час та спосіб призначені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52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-підписка або підписка по електронній пошті на доставку інформації про нові надходження бібліотеки за окремими галузями знань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52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ункція “Розсилки”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맑은 고딕"/>
              </a:rPr>
              <a:t>Підписка на доставку інформації про нові надходження до бібліотеки за окремими галузями знань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: із віртуальної колекції каталогу «Нові надходження».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Спектр галузей знань орієнтований на кафедри університету, але є достатньо широким і охоплює основні ділення таблиць УДК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формація включає нові надходження бібліотеки за останній місяць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맑은 고딕"/>
              </a:rPr>
              <a:t>Підписка на доставку інформації про нові надходження до бібліотеки за окремими галузями знань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ідписку може оформити, навіть, не зареєстрований у бібліотеці користувач. Вона доступна для всіх. Для цього достатньо лише вибрати потрібну галузь знань і отримати посилання, яке може читатися будь-якою програмою для читання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RSS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- від браузерів, які мають влаштований механізм читання таких даних, до спеціальних програм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Читання </a:t>
            </a:r>
            <a:r>
              <a:rPr b="1" lang="en-US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RSS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Браузери (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Internet Explorer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Opera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–рідери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(FeedDemon, RssReader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онлайнові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 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рідери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(GoogleReader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оштові клієнти (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Outlook Express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1" descr=""/>
          <p:cNvPicPr/>
          <p:nvPr/>
        </p:nvPicPr>
        <p:blipFill>
          <a:blip r:embed="rId1"/>
          <a:srcRect l="18601" t="21795" r="19829" b="5127"/>
          <a:stretch/>
        </p:blipFill>
        <p:spPr>
          <a:xfrm>
            <a:off x="2556000" y="1197000"/>
            <a:ext cx="6070320" cy="450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RSS-</a:t>
            </a: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ідписка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2"/>
          <a:srcRect l="78339" t="21555" r="2352" b="6152"/>
          <a:stretch/>
        </p:blipFill>
        <p:spPr>
          <a:xfrm>
            <a:off x="163440" y="1268280"/>
            <a:ext cx="2247840" cy="5257800"/>
          </a:xfrm>
          <a:prstGeom prst="rect">
            <a:avLst/>
          </a:prstGeom>
          <a:ln w="0">
            <a:noFill/>
          </a:ln>
        </p:spPr>
      </p:pic>
      <p:cxnSp>
        <p:nvCxnSpPr>
          <p:cNvPr id="160" name="Прямая со стрелкой 7"/>
          <p:cNvCxnSpPr/>
          <p:nvPr/>
        </p:nvCxnSpPr>
        <p:spPr>
          <a:xfrm>
            <a:off x="250920" y="1699920"/>
            <a:ext cx="2666160" cy="649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1" name="Выноска 1 10"/>
          <p:cNvSpPr/>
          <p:nvPr/>
        </p:nvSpPr>
        <p:spPr>
          <a:xfrm>
            <a:off x="7596360" y="836640"/>
            <a:ext cx="1439640" cy="1152360"/>
          </a:xfrm>
          <a:prstGeom prst="borderCallout1">
            <a:avLst>
              <a:gd name="adj1" fmla="val 18750"/>
              <a:gd name="adj2" fmla="val -8333"/>
              <a:gd name="adj3" fmla="val 159250"/>
              <a:gd name="adj4" fmla="val -6007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f9738"/>
                </a:solidFill>
                <a:latin typeface="Calibri"/>
              </a:rPr>
              <a:t>Онлайн клієнти для читання </a:t>
            </a:r>
            <a:r>
              <a:rPr b="0" lang="en-US" sz="1800" spc="-1" strike="noStrike">
                <a:solidFill>
                  <a:srgbClr val="af9738"/>
                </a:solidFill>
                <a:latin typeface="Calibri"/>
              </a:rPr>
              <a:t>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4" descr=""/>
          <p:cNvPicPr/>
          <p:nvPr/>
        </p:nvPicPr>
        <p:blipFill>
          <a:blip r:embed="rId3"/>
          <a:srcRect l="47782" t="34359" r="24906" b="32054"/>
          <a:stretch/>
        </p:blipFill>
        <p:spPr>
          <a:xfrm>
            <a:off x="5305320" y="3500280"/>
            <a:ext cx="3838680" cy="2953080"/>
          </a:xfrm>
          <a:prstGeom prst="rect">
            <a:avLst/>
          </a:prstGeom>
          <a:ln w="0">
            <a:noFill/>
          </a:ln>
        </p:spPr>
      </p:pic>
      <p:sp>
        <p:nvSpPr>
          <p:cNvPr id="163" name="Выноска 2 12"/>
          <p:cNvSpPr/>
          <p:nvPr/>
        </p:nvSpPr>
        <p:spPr>
          <a:xfrm>
            <a:off x="3924360" y="6138720"/>
            <a:ext cx="1584360" cy="719280"/>
          </a:xfrm>
          <a:prstGeom prst="borderCallout2">
            <a:avLst>
              <a:gd name="adj1" fmla="val 18750"/>
              <a:gd name="adj2" fmla="val -8333"/>
              <a:gd name="adj3" fmla="val -68226"/>
              <a:gd name="adj4" fmla="val 66356"/>
              <a:gd name="adj5" fmla="val -68412"/>
              <a:gd name="adj6" fmla="val 9012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f9738"/>
                </a:solidFill>
                <a:latin typeface="Calibri"/>
              </a:rPr>
              <a:t>Інші кліє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9"/>
          <p:cNvCxnSpPr/>
          <p:nvPr/>
        </p:nvCxnSpPr>
        <p:spPr>
          <a:xfrm>
            <a:off x="7667280" y="3429000"/>
            <a:ext cx="1080" cy="937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Прямоугольник 15"/>
          <p:cNvSpPr/>
          <p:nvPr/>
        </p:nvSpPr>
        <p:spPr>
          <a:xfrm>
            <a:off x="5257440" y="62341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ідписка е-поштою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Альтернативний спосіб отримання інформації про нові надходження - традиційна підписка електронною поштою. Таку можливість дає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FeedBurner -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один із сервісів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Google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ідписка е-поштою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rcRect l="78339" t="21555" r="2352" b="6152"/>
          <a:stretch/>
        </p:blipFill>
        <p:spPr>
          <a:xfrm>
            <a:off x="1963800" y="1268280"/>
            <a:ext cx="2247840" cy="5257800"/>
          </a:xfrm>
          <a:prstGeom prst="rect">
            <a:avLst/>
          </a:prstGeom>
          <a:ln w="0">
            <a:noFill/>
          </a:ln>
        </p:spPr>
      </p:pic>
      <p:cxnSp>
        <p:nvCxnSpPr>
          <p:cNvPr id="170" name="Прямая со стрелкой 6"/>
          <p:cNvCxnSpPr/>
          <p:nvPr/>
        </p:nvCxnSpPr>
        <p:spPr>
          <a:xfrm>
            <a:off x="2340000" y="1699920"/>
            <a:ext cx="2737080" cy="1297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71" name="Рисунок 5" descr=""/>
          <p:cNvPicPr/>
          <p:nvPr/>
        </p:nvPicPr>
        <p:blipFill>
          <a:blip r:embed="rId2"/>
          <a:srcRect l="46341" t="23080" r="9879" b="28463"/>
          <a:stretch/>
        </p:blipFill>
        <p:spPr>
          <a:xfrm>
            <a:off x="5148360" y="2205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ункція “Розсилки”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Якщо потрібні дані про документи із набагато вужчої теми, ніж визначені бібліотекою галузі знань - існує інший спосіб отримати інформацію. Для цього призначений ще один сервіс е-каталогу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«Розсилки»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Зміст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гальна інформація про електронний каталог бібліотеки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ртуальна колекція “Нові надходження”. Пошук по колекції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Нові надходження за галузями знань. Підписка на розсилки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ункція “Розсилки”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ункція “Розсилки” - призначенн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Функція “Розсилки” призначена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ля поширення інформації про нові надходження Бібліотеки із будь-якої теми або галузі знань. Тема може бути настільки вузькою, наскільки це дозволяє пошук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Кожна розсилка базується на конкретному пошуковому запиті в електронному каталозі. Це означає, що на будь-який можливий пошуковий запит у простому чи розширеному вигляді пошуку можна сформувати розсилку.  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формацію можна отримувати не лише на окрему тему, а й про нові номери журналів, які надходять у бібліотеку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76" name="Рисунок 5"/>
          <p:cNvSpPr/>
          <p:nvPr/>
        </p:nvSpPr>
        <p:spPr>
          <a:xfrm>
            <a:off x="3635280" y="4657680"/>
            <a:ext cx="121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изначення функції “Розсилки”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Розсилка може відповідати інтересам окремої особи або інтересам групи осіб (у випадку, коли розсилка призначена для кафедри)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формація розсилки може надходити як повідомлення е-пошти та як стрічка новин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RSS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Кожен із згаданих способів доставки інформації може використовуватися як окремо, так і разом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79" name="Рисунок 4" descr="mail3.gif"/>
          <p:cNvPicPr/>
          <p:nvPr/>
        </p:nvPicPr>
        <p:blipFill>
          <a:blip r:embed="rId1"/>
          <a:stretch/>
        </p:blipFill>
        <p:spPr>
          <a:xfrm>
            <a:off x="3851280" y="4653000"/>
            <a:ext cx="1441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изначення функції “Розсилки”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тервал між окремими повідомленнями розсилки визначається її одержувачем. Інформацію про нові надходження Бібліотеки можна отримувати через будь-який інтервал часу: щодня, через певну кількість днів, тижнів чи місяців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снує можливість налаштувати перерву у розсилці на визначений період (наприклад, на літні канікули)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Розсилки дуже гнучкі та легкі у налаштуванні. Дані розсилки можна доповнити або змінити у будь-який час на інші. Крім того, дані окремої розсилки можна скопіювати і створити на їх основі нову розсилку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Створення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83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роцес створення власної розсилки достатньо простий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ля створення розсилки потрібно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Авторизуватис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дійснити пошук на задану тему (простий або розширений)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а отриманим пошуковим запитом зареєструвати розсилку: заповнити форму, яка містить налаштування, що стосуються її даних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Усі налаштування конкретної розсилки зберігаються в окремому профайлі. Доступ до профайлу – із формуляра користувача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br>
              <a:rPr sz="2900"/>
            </a:b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rcRect l="0" t="23202" r="28341" b="11280"/>
          <a:stretch/>
        </p:blipFill>
        <p:spPr>
          <a:xfrm>
            <a:off x="106200" y="907920"/>
            <a:ext cx="8929800" cy="55818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67320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а допомогою форми визначаються: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Назва розсилки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Формат документів у повідомленні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можливі варіанти: посилання,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MARC-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назви, каталожна картка,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MARC-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коди чи стандартний вигляд запису)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тервал, з яким будуть надходити результати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фактично, це інтервал, з яким буде перевірятися наявність нових записів у е-каталозі Бібліотеки)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овідомлення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- текст, що буде внесено до листа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Бібліотека</a:t>
            </a:r>
            <a:r>
              <a:rPr b="1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оступна лише одна опція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–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Всі бібліотеки)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Список баз для пошуку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– потрібна база позначається галочкою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Альтернативний е-мейл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, на який також будуть надходити повідомлення (якщо адреса е-пошти вже вказана у формулярі). Якщо ж адреса е-пошти вказана лише у налаштуваннях розсилки, то, відповідно, і повідомлення будуть надходити лише на цю адресу;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ема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для листа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е-мейл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; 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ермін дії розсилки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Перед закінченням терміну дії розсилки системою автоматично буде надісланий лист-попередження на адресу е-пошти, вказану у формулярі чи у профайлі розсилки. Якщо розсилка більше непотрібна і термін її дії не буде продовжений одержувачем – розсилка буде видалена автоматично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имчасова перерва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у розсилці: визначаються дати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Від – До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У межах цих дат розсилка здійснюватися не буде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Кодування для листа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рекомендованим є завжди кодування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UTF-8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Метод достав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е-мейл,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RSS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чи обидва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овідомлення про відсутність результатів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– якщо обрана опція “Так” і результати розсилки будуть відсутні, системою буде надіслане повідомлення про відсутність нових надходжень. Якщо обрана опція “Ні” – повідомлення розсилки будуть надходити лише тоді, коли з'являться нові надходження у Бібліотеці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95" name="Рисунок 8" descr=""/>
          <p:cNvPicPr/>
          <p:nvPr/>
        </p:nvPicPr>
        <p:blipFill>
          <a:blip r:embed="rId1"/>
          <a:srcRect l="612" t="23080" r="26404" b="5640"/>
          <a:stretch/>
        </p:blipFill>
        <p:spPr>
          <a:xfrm>
            <a:off x="250920" y="1557360"/>
            <a:ext cx="8605800" cy="4967280"/>
          </a:xfrm>
          <a:prstGeom prst="rect">
            <a:avLst/>
          </a:prstGeom>
          <a:ln w="0">
            <a:noFill/>
          </a:ln>
        </p:spPr>
      </p:pic>
      <p:sp>
        <p:nvSpPr>
          <p:cNvPr id="196" name="Выноска 2 10"/>
          <p:cNvSpPr/>
          <p:nvPr/>
        </p:nvSpPr>
        <p:spPr>
          <a:xfrm>
            <a:off x="2771640" y="1052640"/>
            <a:ext cx="17272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8546"/>
              <a:gd name="adj5" fmla="val 313412"/>
              <a:gd name="adj6" fmla="val -939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Назва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Выноска 2 11"/>
          <p:cNvSpPr/>
          <p:nvPr/>
        </p:nvSpPr>
        <p:spPr>
          <a:xfrm>
            <a:off x="5616720" y="1052640"/>
            <a:ext cx="3348000" cy="43164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17462"/>
              <a:gd name="adj5" fmla="val 308782"/>
              <a:gd name="adj6" fmla="val -63712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Формат записів  для повідомлення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Выноска 2 12"/>
          <p:cNvSpPr/>
          <p:nvPr/>
        </p:nvSpPr>
        <p:spPr>
          <a:xfrm>
            <a:off x="5003640" y="1916280"/>
            <a:ext cx="367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7162"/>
              <a:gd name="adj5" fmla="val 198138"/>
              <a:gd name="adj6" fmla="val -41421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Інтервал між повідомленнями 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носка 2 14"/>
          <p:cNvSpPr/>
          <p:nvPr/>
        </p:nvSpPr>
        <p:spPr>
          <a:xfrm>
            <a:off x="4933800" y="2421000"/>
            <a:ext cx="40341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8537"/>
              <a:gd name="adj5" fmla="val 111601"/>
              <a:gd name="adj6" fmla="val -4342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Текст, що буде включений у повідомлення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носка 2 9"/>
          <p:cNvSpPr/>
          <p:nvPr/>
        </p:nvSpPr>
        <p:spPr>
          <a:xfrm>
            <a:off x="4427640" y="2924280"/>
            <a:ext cx="1584360" cy="433440"/>
          </a:xfrm>
          <a:prstGeom prst="borderCallout2">
            <a:avLst>
              <a:gd name="adj1" fmla="val 18750"/>
              <a:gd name="adj2" fmla="val -8333"/>
              <a:gd name="adj3" fmla="val 25805"/>
              <a:gd name="adj4" fmla="val -14629"/>
              <a:gd name="adj5" fmla="val 118398"/>
              <a:gd name="adj6" fmla="val -11493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Бази для пошу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7"/>
          <p:cNvSpPr/>
          <p:nvPr/>
        </p:nvSpPr>
        <p:spPr>
          <a:xfrm flipH="1" flipV="1">
            <a:off x="6012000" y="314172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8"/>
          <p:cNvSpPr/>
          <p:nvPr/>
        </p:nvSpPr>
        <p:spPr>
          <a:xfrm flipH="1" flipV="1">
            <a:off x="5796000" y="3357720"/>
            <a:ext cx="72072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20"/>
          <p:cNvSpPr/>
          <p:nvPr/>
        </p:nvSpPr>
        <p:spPr>
          <a:xfrm flipH="1">
            <a:off x="2626920" y="3283920"/>
            <a:ext cx="180036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Выноска 2 23"/>
          <p:cNvSpPr/>
          <p:nvPr/>
        </p:nvSpPr>
        <p:spPr>
          <a:xfrm>
            <a:off x="4433760" y="3716280"/>
            <a:ext cx="4716720" cy="300240"/>
          </a:xfrm>
          <a:prstGeom prst="borderCallout2">
            <a:avLst>
              <a:gd name="adj1" fmla="val 18750"/>
              <a:gd name="adj2" fmla="val -8333"/>
              <a:gd name="adj3" fmla="val 25805"/>
              <a:gd name="adj4" fmla="val -4912"/>
              <a:gd name="adj5" fmla="val 48657"/>
              <a:gd name="adj6" fmla="val -1925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Додаткова адреса е-пошти, на яку буде надходити розсил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ыноска 2 25"/>
          <p:cNvSpPr/>
          <p:nvPr/>
        </p:nvSpPr>
        <p:spPr>
          <a:xfrm>
            <a:off x="5867280" y="4076640"/>
            <a:ext cx="2952720" cy="43200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10370"/>
              <a:gd name="adj5" fmla="val 83050"/>
              <a:gd name="adj6" fmla="val -3318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Інтервал, у межах якого розсилка здійснюватися не бу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26"/>
          <p:cNvSpPr/>
          <p:nvPr/>
        </p:nvSpPr>
        <p:spPr>
          <a:xfrm flipH="1">
            <a:off x="3059280" y="4221000"/>
            <a:ext cx="24494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Выноска 2 31"/>
          <p:cNvSpPr/>
          <p:nvPr/>
        </p:nvSpPr>
        <p:spPr>
          <a:xfrm>
            <a:off x="7093080" y="5084640"/>
            <a:ext cx="2050920" cy="792360"/>
          </a:xfrm>
          <a:prstGeom prst="borderCallout2">
            <a:avLst>
              <a:gd name="adj1" fmla="val 18750"/>
              <a:gd name="adj2" fmla="val -8333"/>
              <a:gd name="adj3" fmla="val 20773"/>
              <a:gd name="adj4" fmla="val -5226"/>
              <a:gd name="adj5" fmla="val -33407"/>
              <a:gd name="adj6" fmla="val -2436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Для правильного відображення кирилиці</a:t>
            </a:r>
            <a:r>
              <a:rPr b="1" lang="en-US" sz="1100" spc="-1" strike="noStrike">
                <a:solidFill>
                  <a:srgbClr val="af9738"/>
                </a:solidFill>
                <a:latin typeface="Arial"/>
              </a:rPr>
              <a:t> </a:t>
            </a: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у повідомленнях рекомендується </a:t>
            </a:r>
            <a:r>
              <a:rPr b="1" lang="en-US" sz="1100" spc="-1" strike="noStrike">
                <a:solidFill>
                  <a:srgbClr val="af9738"/>
                </a:solidFill>
                <a:latin typeface="Arial"/>
              </a:rPr>
              <a:t>UTF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33"/>
          <p:cNvCxnSpPr/>
          <p:nvPr/>
        </p:nvCxnSpPr>
        <p:spPr>
          <a:xfrm flipV="1">
            <a:off x="4858920" y="4507920"/>
            <a:ext cx="793080" cy="433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9" name="Прямоугольник 38"/>
          <p:cNvSpPr/>
          <p:nvPr/>
        </p:nvSpPr>
        <p:spPr>
          <a:xfrm>
            <a:off x="4716360" y="4797360"/>
            <a:ext cx="136836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  <a:ea typeface="Arial"/>
              </a:rPr>
              <a:t>Календа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Прямая со стрелкой 39"/>
          <p:cNvCxnSpPr/>
          <p:nvPr/>
        </p:nvCxnSpPr>
        <p:spPr>
          <a:xfrm flipH="1" flipV="1">
            <a:off x="3924000" y="4508280"/>
            <a:ext cx="1224720" cy="28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Прямая со стрелкой 43"/>
          <p:cNvCxnSpPr/>
          <p:nvPr/>
        </p:nvCxnSpPr>
        <p:spPr>
          <a:xfrm flipH="1" flipV="1">
            <a:off x="3924000" y="4292280"/>
            <a:ext cx="1224720" cy="505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Створення профайлу розсилки 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ісля того, як усі обов’язкові поля будуть заповнені – розсилка готова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80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14" name="Рисунок 7" descr=""/>
          <p:cNvPicPr/>
          <p:nvPr/>
        </p:nvPicPr>
        <p:blipFill>
          <a:blip r:embed="rId1"/>
          <a:srcRect l="23060" t="17629" r="20727" b="43657"/>
          <a:stretch/>
        </p:blipFill>
        <p:spPr>
          <a:xfrm>
            <a:off x="395280" y="2492280"/>
            <a:ext cx="8010360" cy="34480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2987640" y="3213000"/>
            <a:ext cx="2592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лектронний каталог - загальна інформація 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дображає та розкриває повний склад та зміст традиційних фондів НБ НаУКМА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Рік заснування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 1997 р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рограмне забезпечення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 інтегрована бібліотечна система ALEPH 500 (Ex Libris Ltd.)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 до каталогу – за посиланням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://library.ukma.kiev.ua/F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офайл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оступ до даних усіх власних розсилок здійснюється через е-формуляр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18" name="Рисунок 10" descr=""/>
          <p:cNvPicPr/>
          <p:nvPr/>
        </p:nvPicPr>
        <p:blipFill>
          <a:blip r:embed="rId1"/>
          <a:srcRect l="764" t="18780" r="20606" b="30601"/>
          <a:stretch/>
        </p:blipFill>
        <p:spPr>
          <a:xfrm>
            <a:off x="142920" y="2781360"/>
            <a:ext cx="8893080" cy="3584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5"/>
          <p:cNvSpPr/>
          <p:nvPr/>
        </p:nvSpPr>
        <p:spPr>
          <a:xfrm>
            <a:off x="6443640" y="3500280"/>
            <a:ext cx="1152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офайл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ут відображаються дані про кожну розсилку у вигляді таблиці. Якщо метод доставки окремої розсилки - "RSS" або  "Обидва", то колонка «Лінк  RSS»  містить лінк, на який можна оформити RSS-підписку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ут можна керувати власними розсилками – редагувати їх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22" name="Рисунок 1" descr=""/>
          <p:cNvPicPr/>
          <p:nvPr/>
        </p:nvPicPr>
        <p:blipFill>
          <a:blip r:embed="rId1"/>
          <a:srcRect l="824" t="18452" r="2507" b="41725"/>
          <a:stretch/>
        </p:blipFill>
        <p:spPr>
          <a:xfrm>
            <a:off x="142920" y="3645000"/>
            <a:ext cx="8893080" cy="2293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5364000" y="5516640"/>
            <a:ext cx="3780000" cy="217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3635280" y="4797360"/>
            <a:ext cx="30974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Редагування даних розсилки 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ля редагування доступні опції: 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мінити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 - є можливість відредагувати старі дані або додати нові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80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ублювати -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робить копію профайлу окремої розсилки та відкриває її форму. Якщо дані відредагувати, то на їх основі можна створити нову розсилку. 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80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Видалити -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Якщо розсилка більше непотрібна – її можна видалити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Редагування даних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Онлайн пошук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Через посилання “Онлайн пошук” можна отримати результати розсилки у реальному часі (тобто, за період від останнього листа розсилки і до моменту натискання на посилання). При цьому, лист із знайденими записами надсилатися на е-пошту одержувача розсилки не буде.  Наступний автоматичний лист із результатами буде містити записи, що з'явилися у е-каталозі уже після цього останнього пошуку онлайн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29" name="Рисунок 1" descr=""/>
          <p:cNvPicPr/>
          <p:nvPr/>
        </p:nvPicPr>
        <p:blipFill>
          <a:blip r:embed="rId1"/>
          <a:srcRect l="824" t="18452" r="2507" b="41725"/>
          <a:stretch/>
        </p:blipFill>
        <p:spPr>
          <a:xfrm>
            <a:off x="0" y="4149720"/>
            <a:ext cx="9136080" cy="23558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6"/>
          <p:cNvSpPr/>
          <p:nvPr/>
        </p:nvSpPr>
        <p:spPr>
          <a:xfrm>
            <a:off x="5651640" y="5013360"/>
            <a:ext cx="7207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Редагування даних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0" t="36913" r="10084" b="31995"/>
          <a:stretch/>
        </p:blipFill>
        <p:spPr>
          <a:xfrm>
            <a:off x="324000" y="2852640"/>
            <a:ext cx="8661240" cy="18716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468360" y="1341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вуз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ана опція дозволяє звузити вже існуючий пошук розси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7380360" y="2852640"/>
            <a:ext cx="64764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395280" y="4292640"/>
            <a:ext cx="144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Лист розсилки</a:t>
            </a:r>
            <a:r>
              <a:rPr b="0" lang="uk-UA" sz="4000" spc="-1" strike="noStrike">
                <a:solidFill>
                  <a:srgbClr val="768d5a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237" name="Рисунок 3" descr="new_rss.jpg"/>
          <p:cNvPicPr/>
          <p:nvPr/>
        </p:nvPicPr>
        <p:blipFill>
          <a:blip r:embed="rId1"/>
          <a:srcRect l="0" t="0" r="9563" b="0"/>
          <a:stretch/>
        </p:blipFill>
        <p:spPr>
          <a:xfrm>
            <a:off x="108000" y="981000"/>
            <a:ext cx="90183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Висновок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ервіси легкі та гнучкі у налаштуванні для користувача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ні у будь-який час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Можуть охоплювати будь-яку тему і відповідати будь-яким інтересам як окремої особи так і групи осіб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пособи пошуку та доставки інформації про нові надходження можна використовувати як окремо, так і разом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пособи та час доставки інформації користувач обирає сам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з зауваженнями та пропозиціями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рохання звертатися</a:t>
            </a:r>
            <a:br>
              <a:rPr sz="2400"/>
            </a:b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ea typeface="맑은 고딕"/>
                <a:hlinkClick r:id="rId1"/>
              </a:rPr>
              <a:t>bankovskaim@ukma.kiev.ua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-каталог. Загальна інформаці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Електронний каталог Бібліотеки поєднує у собі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Окремі бази для різних видів пошуку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гальний каталог та 11 віртуальних колекцій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умовно відокремлених колекцій (тобто, віртуально, а не фізично), в яких матеріали об'єднані за певною</a:t>
            </a:r>
            <a:r>
              <a:rPr b="1" lang="ru-RU" sz="2400" spc="-1" strike="noStrike">
                <a:solidFill>
                  <a:srgbClr val="af973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ознакою)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пеціальні сервіси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ормуляр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Моя е-полиц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мовлення комплектуванн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Матеріали до курсів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Розсилки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-каталог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Е-каталог бібліотеки є джерелом інформації про бібліотечну колекцію та нові надходження до неї і є важливим інструментом розповсюдження такої інформації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Головна передумова для цього: саме у електронному каталозі дані про надходження документів у бібліотеку з’являються  найпершими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Спеціальні засоби для інформування про нові надходженн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ртуальна колекція “Нові надходження”</a:t>
            </a:r>
            <a:r>
              <a:rPr b="1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сі нові надходження у каталозі відділені в окрему колекцію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Інші способи призначені для доставки інформації про нові надходження користувачам без відвідування е-каталогу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ідписка та підписка е-поштою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на нові надходження на окрему тему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ункція “Розсилки”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– для підписки на інформацію про нові надходження до бібліотеки на будь-яку тему (для зареєстрованих користувачів бібліотеки)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Віртуальна колекція “Нові надходження”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ртуальна колекція містить нові надходження за останні пів-року (інформація оновлюється щоденно і включає лише ті документи, що надійшли за останні 180 днів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Віртуальна колекція “Нові надходження” у 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-каталозі Бібліоте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rcRect l="803" t="21539" r="1391" b="6412"/>
          <a:stretch/>
        </p:blipFill>
        <p:spPr>
          <a:xfrm>
            <a:off x="108000" y="1773360"/>
            <a:ext cx="8856720" cy="4103640"/>
          </a:xfrm>
          <a:prstGeom prst="rect">
            <a:avLst/>
          </a:prstGeom>
          <a:ln w="0">
            <a:noFill/>
          </a:ln>
        </p:spPr>
      </p:pic>
      <p:sp>
        <p:nvSpPr>
          <p:cNvPr id="135" name="Овал 3"/>
          <p:cNvSpPr/>
          <p:nvPr/>
        </p:nvSpPr>
        <p:spPr>
          <a:xfrm>
            <a:off x="5435640" y="1700280"/>
            <a:ext cx="10810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ошук по колекції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ні 2 види пошуку: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ерегляд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та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ошук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за ключовими словами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rcRect l="840" t="21795" r="12774" b="24361"/>
          <a:stretch/>
        </p:blipFill>
        <p:spPr>
          <a:xfrm>
            <a:off x="900000" y="2708280"/>
            <a:ext cx="7844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1:11:38Z</dcterms:created>
  <dc:creator>User</dc:creator>
  <dc:description/>
  <dc:language>en-US</dc:language>
  <cp:lastModifiedBy>User</cp:lastModifiedBy>
  <dcterms:modified xsi:type="dcterms:W3CDTF">2012-02-01T12:02:03Z</dcterms:modified>
  <cp:revision>426</cp:revision>
  <dc:subject/>
  <dc:title>Слайд 1</dc:title>
</cp:coreProperties>
</file>