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2F10-091A-46E6-A200-E4A87E0B87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feedburner.google.com/" TargetMode="External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[1]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RSS – спеціальний формат даних, що може передаватися чи збиратися користувачами для подальшої обробки, сортування і читання. Це інформація із певного сайту, що може бути завантажена за допомогою спеціальних програм чи сервісів мережі Інтернет, не відвідуючи сайт, якому ця інформація належи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тистика за допомого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ur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FeedBurner </a:t>
            </a:r>
            <a:r>
              <a:rPr b="0" lang="uk-UA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(</a:t>
            </a:r>
            <a:r>
              <a:rPr b="0" lang="uk-UA" sz="1200" spc="-1" strike="noStrike" u="sng">
                <a:solidFill>
                  <a:srgbClr val="0000ff"/>
                </a:solidFill>
                <a:uFillTx/>
                <a:latin typeface="Calibri"/>
                <a:ea typeface="맑은 고딕"/>
                <a:hlinkClick r:id="rId1"/>
              </a:rPr>
              <a:t>http://feedburner.google.com</a:t>
            </a:r>
            <a:r>
              <a:rPr b="0" lang="uk-UA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) </a:t>
            </a:r>
            <a:r>
              <a:rPr b="0" lang="ru-RU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– </a:t>
            </a:r>
            <a:r>
              <a:rPr b="0" lang="uk-UA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сервіс </a:t>
            </a:r>
            <a:r>
              <a:rPr b="0" lang="en-US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Google</a:t>
            </a:r>
            <a:r>
              <a:rPr b="0" lang="uk-UA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, призначений для управління підписками </a:t>
            </a:r>
            <a:r>
              <a:rPr b="0" lang="en-US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RSS</a:t>
            </a:r>
            <a:r>
              <a:rPr b="0" lang="uk-UA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. Разом із статистикою використання </a:t>
            </a:r>
            <a:r>
              <a:rPr b="0" lang="en-US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RSS</a:t>
            </a:r>
            <a:r>
              <a:rPr b="0" lang="uk-UA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-підписок надає додаткові можливості (лічильник, перевірка помилок у потоці </a:t>
            </a:r>
            <a:r>
              <a:rPr b="0" lang="en-US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RSS</a:t>
            </a:r>
            <a:r>
              <a:rPr b="0" lang="uk-UA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, підписка </a:t>
            </a:r>
            <a:r>
              <a:rPr b="0" lang="en-US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e</a:t>
            </a:r>
            <a:r>
              <a:rPr b="0" lang="uk-UA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-</a:t>
            </a:r>
            <a:r>
              <a:rPr b="0" lang="en-US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mail</a:t>
            </a:r>
            <a:r>
              <a:rPr b="0" lang="uk-UA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 на стрічки новин тощ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CA2B-50BA-47B5-8449-C20EB262DB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Назва функції “Розсилки” – варіант зрозумілого та скороченого перекладу англійського терміну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DI (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lective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</a:rPr>
              <a:t>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ssemination of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formation) – </a:t>
            </a: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“вибіркове розповсюдження інформації ”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Пошуковий запит - це дані, що виражають суть окремого пошуку у е-каталозі (слова, за якими ведеться пошук; оператори “так”, “ні” тощо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606E-A282-4BE5-B1A1-FD7E6AB472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лово “Профайл” (англ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ile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) – має багато значень. У даному випадку - це набір налаштувань, параметри користувача для даної розсилки. Кожна розсилка базується на конкретному профайлі, який можна редагува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6173-6E72-4966-B386-CFE0277A8C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70C0-07B0-4338-B186-C34BA56EEB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DF42-A877-4ADC-BD0B-F4E1BC5552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00"/>
                </a:solidFill>
                <a:latin typeface="Times New Roman"/>
              </a:rPr>
              <a:t>До каталогу не включена інформація про фонди наукового архіву, та лише частково представлені електронні ресур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F90F-E173-4A4B-91B2-8FAA24DDDC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пції редагування даних розсилки “Змінити” та “Дублювати” дозволяють змінити всі дані розсилки, за виключенням її основи - пошукового запи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3929-BFD6-4C32-9BD6-8B74BEA223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тистика використан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Щось про пош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62E9-27B6-484F-83E2-E150B04346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оступ із верхнього мен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58C3-0C9D-4231-856B-C51F78A9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9854-21C7-4175-92BD-1B36BA86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BBA4-11C9-4589-8C01-5839C206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CDB4-727D-48D9-8583-940FACAB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0BD6-5354-4E8A-BFB0-8B3206AE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5B4A-7830-4287-8A36-10DBEDBB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3455-7E44-4D13-9642-54D1CED5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6EB6-196F-4C20-9656-FC5D9074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A16F-9A2B-4724-98C7-3D94F1DA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DFA9-8334-4D1B-B16B-CD5FAAE1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2CB5-A739-49BF-8AD2-807DE10A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57D8-7B55-476E-B921-788FA82C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2BB2-54A9-45E1-9EBF-81058EB3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1E8C-AB1B-477A-AA1F-5B550700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0EC7-A1C4-4DB0-A481-95EFCD4D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5550-9205-4332-9900-C6A0DED7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E831-E1DB-4162-AA59-510890D2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4F4F-8919-4046-83F8-883E6FED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90F-EABF-4BA8-93D7-6464C175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DD5D-68BF-40B7-9E67-7CC14296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50AC-1F51-41E3-81EC-30896E6F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7D11-5E5A-479E-942B-18371A21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AF41-4BEF-4B30-85A4-EAD9946B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2A6-8E9C-410F-A09F-E913E9A5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543800" y="0"/>
              <a:ext cx="1600200" cy="22096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3733920" y="5715000"/>
              <a:ext cx="5029200" cy="761760"/>
            </a:xfrm>
            <a:custGeom>
              <a:avLst/>
              <a:gdLst>
                <a:gd name="textAreaLeft" fmla="*/ 0 w 5029200"/>
                <a:gd name="textAreaRight" fmla="*/ 5029560 w 50292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9cb084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CF22-1AE5-4AEC-97BF-BB384B4D65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0" y="2854440"/>
            <a:ext cx="3581280" cy="4003560"/>
            <a:chOff x="0" y="2854440"/>
            <a:chExt cx="3581280" cy="4003560"/>
          </a:xfrm>
        </p:grpSpPr>
        <p:sp>
          <p:nvSpPr>
            <p:cNvPr id="10" name="Freeform 7"/>
            <p:cNvSpPr/>
            <p:nvPr/>
          </p:nvSpPr>
          <p:spPr>
            <a:xfrm>
              <a:off x="0" y="2854440"/>
              <a:ext cx="1843200" cy="1122120"/>
            </a:xfrm>
            <a:custGeom>
              <a:avLst/>
              <a:gdLst>
                <a:gd name="textAreaLeft" fmla="*/ 0 w 1843200"/>
                <a:gd name="textAreaRight" fmla="*/ 1843560 w 1843200"/>
                <a:gd name="textAreaTop" fmla="*/ 0 h 1122120"/>
                <a:gd name="textAreaBottom" fmla="*/ 1122480 h 1122120"/>
              </a:gdLst>
              <a:ahLst/>
              <a:rect l="textAreaLeft" t="textAreaTop" r="textAreaRight" b="textAreaBottom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8"/>
            <p:cNvSpPr/>
            <p:nvPr/>
          </p:nvSpPr>
          <p:spPr>
            <a:xfrm>
              <a:off x="0" y="3946680"/>
              <a:ext cx="1420560" cy="2911320"/>
            </a:xfrm>
            <a:custGeom>
              <a:avLst/>
              <a:gdLst>
                <a:gd name="textAreaLeft" fmla="*/ 0 w 1420560"/>
                <a:gd name="textAreaRight" fmla="*/ 1420560 w 1420560"/>
                <a:gd name="textAreaTop" fmla="*/ 0 h 2911320"/>
                <a:gd name="textAreaBottom" fmla="*/ 2911680 h 2911320"/>
              </a:gdLst>
              <a:ahLst/>
              <a:rect l="textAreaLeft" t="textAreaTop" r="textAreaRight" b="textAreaBottom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9"/>
            <p:cNvSpPr/>
            <p:nvPr/>
          </p:nvSpPr>
          <p:spPr>
            <a:xfrm>
              <a:off x="0" y="3228840"/>
              <a:ext cx="1292040" cy="96192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0"/>
            <p:cNvSpPr/>
            <p:nvPr/>
          </p:nvSpPr>
          <p:spPr>
            <a:xfrm>
              <a:off x="671400" y="4218120"/>
              <a:ext cx="2909880" cy="2639880"/>
            </a:xfrm>
            <a:custGeom>
              <a:avLst/>
              <a:gdLst>
                <a:gd name="textAreaLeft" fmla="*/ 0 w 2909880"/>
                <a:gd name="textAreaRight" fmla="*/ 2909880 w 2909880"/>
                <a:gd name="textAreaTop" fmla="*/ 0 h 2639880"/>
                <a:gd name="textAreaBottom" fmla="*/ 2640240 h 2639880"/>
              </a:gdLst>
              <a:ahLst/>
              <a:rect l="textAreaLeft" t="textAreaTop" r="textAreaRight" b="textAreaBottom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1"/>
            <p:cNvSpPr/>
            <p:nvPr/>
          </p:nvSpPr>
          <p:spPr>
            <a:xfrm>
              <a:off x="515880" y="4313160"/>
              <a:ext cx="1527120" cy="2544840"/>
            </a:xfrm>
            <a:custGeom>
              <a:avLst/>
              <a:gdLst>
                <a:gd name="textAreaLeft" fmla="*/ 0 w 1527120"/>
                <a:gd name="textAreaRight" fmla="*/ 1527480 w 1527120"/>
                <a:gd name="textAreaTop" fmla="*/ 0 h 2544840"/>
                <a:gd name="textAreaBottom" fmla="*/ 2545200 h 2544840"/>
              </a:gdLst>
              <a:ahLst/>
              <a:rect l="textAreaLeft" t="textAreaTop" r="textAreaRight" b="textAreaBottom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7543800" y="0"/>
              <a:ext cx="1600200" cy="22096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3733920" y="5715000"/>
              <a:ext cx="5029200" cy="761760"/>
            </a:xfrm>
            <a:custGeom>
              <a:avLst/>
              <a:gdLst>
                <a:gd name="textAreaLeft" fmla="*/ 0 w 5029200"/>
                <a:gd name="textAreaRight" fmla="*/ 5029560 w 50292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9cb084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1"/>
          <p:cNvGrpSpPr/>
          <p:nvPr/>
        </p:nvGrpSpPr>
        <p:grpSpPr>
          <a:xfrm>
            <a:off x="0" y="2854440"/>
            <a:ext cx="3581280" cy="4003560"/>
            <a:chOff x="0" y="2854440"/>
            <a:chExt cx="3581280" cy="4003560"/>
          </a:xfrm>
        </p:grpSpPr>
        <p:sp>
          <p:nvSpPr>
            <p:cNvPr id="56" name="Freeform 7"/>
            <p:cNvSpPr/>
            <p:nvPr/>
          </p:nvSpPr>
          <p:spPr>
            <a:xfrm>
              <a:off x="0" y="2854440"/>
              <a:ext cx="1843200" cy="1122120"/>
            </a:xfrm>
            <a:custGeom>
              <a:avLst/>
              <a:gdLst>
                <a:gd name="textAreaLeft" fmla="*/ 0 w 1843200"/>
                <a:gd name="textAreaRight" fmla="*/ 1843560 w 1843200"/>
                <a:gd name="textAreaTop" fmla="*/ 0 h 1122120"/>
                <a:gd name="textAreaBottom" fmla="*/ 1122480 h 1122120"/>
              </a:gdLst>
              <a:ahLst/>
              <a:rect l="textAreaLeft" t="textAreaTop" r="textAreaRight" b="textAreaBottom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3946680"/>
              <a:ext cx="1420560" cy="2911320"/>
            </a:xfrm>
            <a:custGeom>
              <a:avLst/>
              <a:gdLst>
                <a:gd name="textAreaLeft" fmla="*/ 0 w 1420560"/>
                <a:gd name="textAreaRight" fmla="*/ 1420560 w 1420560"/>
                <a:gd name="textAreaTop" fmla="*/ 0 h 2911320"/>
                <a:gd name="textAreaBottom" fmla="*/ 2911680 h 2911320"/>
              </a:gdLst>
              <a:ahLst/>
              <a:rect l="textAreaLeft" t="textAreaTop" r="textAreaRight" b="textAreaBottom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3228840"/>
              <a:ext cx="1292040" cy="96192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671400" y="4218120"/>
              <a:ext cx="2909880" cy="2639880"/>
            </a:xfrm>
            <a:custGeom>
              <a:avLst/>
              <a:gdLst>
                <a:gd name="textAreaLeft" fmla="*/ 0 w 2909880"/>
                <a:gd name="textAreaRight" fmla="*/ 2909880 w 2909880"/>
                <a:gd name="textAreaTop" fmla="*/ 0 h 2639880"/>
                <a:gd name="textAreaBottom" fmla="*/ 2640240 h 2639880"/>
              </a:gdLst>
              <a:ahLst/>
              <a:rect l="textAreaLeft" t="textAreaTop" r="textAreaRight" b="textAreaBottom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515880" y="4313160"/>
              <a:ext cx="1527120" cy="2544840"/>
            </a:xfrm>
            <a:custGeom>
              <a:avLst/>
              <a:gdLst>
                <a:gd name="textAreaLeft" fmla="*/ 0 w 1527120"/>
                <a:gd name="textAreaRight" fmla="*/ 1527480 w 1527120"/>
                <a:gd name="textAreaTop" fmla="*/ 0 h 2544840"/>
                <a:gd name="textAreaBottom" fmla="*/ 2545200 h 2544840"/>
              </a:gdLst>
              <a:ahLst/>
              <a:rect l="textAreaLeft" t="textAreaTop" r="textAreaRight" b="textAreaBottom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3"/>
          <p:cNvGrpSpPr/>
          <p:nvPr/>
        </p:nvGrpSpPr>
        <p:grpSpPr>
          <a:xfrm>
            <a:off x="0" y="2268360"/>
            <a:ext cx="4191120" cy="4589640"/>
            <a:chOff x="0" y="2268360"/>
            <a:chExt cx="4191120" cy="4589640"/>
          </a:xfrm>
        </p:grpSpPr>
        <p:sp>
          <p:nvSpPr>
            <p:cNvPr id="63" name="Freeform 7"/>
            <p:cNvSpPr/>
            <p:nvPr/>
          </p:nvSpPr>
          <p:spPr>
            <a:xfrm>
              <a:off x="0" y="2268360"/>
              <a:ext cx="3843720" cy="2195640"/>
            </a:xfrm>
            <a:custGeom>
              <a:avLst/>
              <a:gdLst>
                <a:gd name="textAreaLeft" fmla="*/ 0 w 3843720"/>
                <a:gd name="textAreaRight" fmla="*/ 3844080 w 3843720"/>
                <a:gd name="textAreaTop" fmla="*/ 0 h 2195640"/>
                <a:gd name="textAreaBottom" fmla="*/ 2196000 h 2195640"/>
              </a:gdLst>
              <a:ahLst/>
              <a:rect l="textAreaLeft" t="textAreaTop" r="textAreaRight" b="textAreaBottom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0" y="3997080"/>
              <a:ext cx="1490760" cy="2860920"/>
            </a:xfrm>
            <a:custGeom>
              <a:avLst/>
              <a:gdLst>
                <a:gd name="textAreaLeft" fmla="*/ 0 w 1490760"/>
                <a:gd name="textAreaRight" fmla="*/ 1491120 w 1490760"/>
                <a:gd name="textAreaTop" fmla="*/ 0 h 2860920"/>
                <a:gd name="textAreaBottom" fmla="*/ 2861280 h 2860920"/>
              </a:gdLst>
              <a:ahLst/>
              <a:rect l="textAreaLeft" t="textAreaTop" r="textAreaRight" b="textAreaBottom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0" y="3000240"/>
              <a:ext cx="2695680" cy="1879560"/>
            </a:xfrm>
            <a:custGeom>
              <a:avLst/>
              <a:gdLst>
                <a:gd name="textAreaLeft" fmla="*/ 0 w 2695680"/>
                <a:gd name="textAreaRight" fmla="*/ 2696040 w 269568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1139760" y="4263840"/>
              <a:ext cx="3051360" cy="2594160"/>
            </a:xfrm>
            <a:custGeom>
              <a:avLst/>
              <a:gdLst>
                <a:gd name="textAreaLeft" fmla="*/ 0 w 3051360"/>
                <a:gd name="textAreaRight" fmla="*/ 3051720 w 3051360"/>
                <a:gd name="textAreaTop" fmla="*/ 0 h 2594160"/>
                <a:gd name="textAreaBottom" fmla="*/ 2594520 h 2594160"/>
              </a:gdLst>
              <a:ahLst/>
              <a:rect l="textAreaLeft" t="textAreaTop" r="textAreaRight" b="textAreaBottom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815760" y="4357440"/>
              <a:ext cx="1601640" cy="2500560"/>
            </a:xfrm>
            <a:custGeom>
              <a:avLst/>
              <a:gdLst>
                <a:gd name="textAreaLeft" fmla="*/ 0 w 1601640"/>
                <a:gd name="textAreaRight" fmla="*/ 1602000 w 1601640"/>
                <a:gd name="textAreaTop" fmla="*/ 0 h 2500560"/>
                <a:gd name="textAreaBottom" fmla="*/ 2500920 h 2500560"/>
              </a:gdLst>
              <a:ahLst/>
              <a:rect l="textAreaLeft" t="textAreaTop" r="textAreaRight" b="textAreaBottom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Freeform 46"/>
          <p:cNvSpPr/>
          <p:nvPr/>
        </p:nvSpPr>
        <p:spPr>
          <a:xfrm>
            <a:off x="7543800" y="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1432" h="3492">
                <a:moveTo>
                  <a:pt x="0" y="0"/>
                </a:moveTo>
                <a:lnTo>
                  <a:pt x="1432" y="0"/>
                </a:lnTo>
                <a:lnTo>
                  <a:pt x="1432" y="3492"/>
                </a:lnTo>
                <a:lnTo>
                  <a:pt x="1419" y="3252"/>
                </a:lnTo>
                <a:lnTo>
                  <a:pt x="1406" y="3024"/>
                </a:lnTo>
                <a:lnTo>
                  <a:pt x="1393" y="2807"/>
                </a:lnTo>
                <a:lnTo>
                  <a:pt x="1379" y="2601"/>
                </a:lnTo>
                <a:lnTo>
                  <a:pt x="1364" y="2407"/>
                </a:lnTo>
                <a:lnTo>
                  <a:pt x="1348" y="2222"/>
                </a:lnTo>
                <a:lnTo>
                  <a:pt x="1330" y="2047"/>
                </a:lnTo>
                <a:lnTo>
                  <a:pt x="1311" y="1881"/>
                </a:lnTo>
                <a:lnTo>
                  <a:pt x="1291" y="1726"/>
                </a:lnTo>
                <a:lnTo>
                  <a:pt x="1268" y="1580"/>
                </a:lnTo>
                <a:lnTo>
                  <a:pt x="1245" y="1442"/>
                </a:lnTo>
                <a:lnTo>
                  <a:pt x="1218" y="1313"/>
                </a:lnTo>
                <a:lnTo>
                  <a:pt x="1190" y="1192"/>
                </a:lnTo>
                <a:lnTo>
                  <a:pt x="1158" y="1078"/>
                </a:lnTo>
                <a:lnTo>
                  <a:pt x="1125" y="973"/>
                </a:lnTo>
                <a:lnTo>
                  <a:pt x="1089" y="873"/>
                </a:lnTo>
                <a:lnTo>
                  <a:pt x="1049" y="781"/>
                </a:lnTo>
                <a:lnTo>
                  <a:pt x="1007" y="696"/>
                </a:lnTo>
                <a:lnTo>
                  <a:pt x="962" y="617"/>
                </a:lnTo>
                <a:lnTo>
                  <a:pt x="913" y="544"/>
                </a:lnTo>
                <a:lnTo>
                  <a:pt x="860" y="475"/>
                </a:lnTo>
                <a:lnTo>
                  <a:pt x="804" y="413"/>
                </a:lnTo>
                <a:lnTo>
                  <a:pt x="744" y="354"/>
                </a:lnTo>
                <a:lnTo>
                  <a:pt x="680" y="301"/>
                </a:lnTo>
                <a:lnTo>
                  <a:pt x="611" y="252"/>
                </a:lnTo>
                <a:lnTo>
                  <a:pt x="539" y="206"/>
                </a:lnTo>
                <a:lnTo>
                  <a:pt x="461" y="165"/>
                </a:lnTo>
                <a:lnTo>
                  <a:pt x="379" y="128"/>
                </a:lnTo>
                <a:lnTo>
                  <a:pt x="292" y="92"/>
                </a:lnTo>
                <a:lnTo>
                  <a:pt x="200" y="59"/>
                </a:lnTo>
                <a:lnTo>
                  <a:pt x="103" y="28"/>
                </a:lnTo>
                <a:lnTo>
                  <a:pt x="0" y="0"/>
                </a:lnTo>
                <a:close/>
              </a:path>
            </a:pathLst>
          </a:cu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7"/>
          <p:cNvSpPr/>
          <p:nvPr/>
        </p:nvSpPr>
        <p:spPr>
          <a:xfrm>
            <a:off x="3733920" y="5715000"/>
            <a:ext cx="5029200" cy="762120"/>
          </a:xfrm>
          <a:custGeom>
            <a:avLst/>
            <a:gdLst>
              <a:gd name="textAreaLeft" fmla="*/ 0 w 5029200"/>
              <a:gd name="textAreaRight" fmla="*/ 5029560 w 5029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7264" h="2710">
                <a:moveTo>
                  <a:pt x="17264" y="0"/>
                </a:moveTo>
                <a:lnTo>
                  <a:pt x="17264" y="180"/>
                </a:lnTo>
                <a:lnTo>
                  <a:pt x="17010" y="442"/>
                </a:lnTo>
                <a:lnTo>
                  <a:pt x="16706" y="689"/>
                </a:lnTo>
                <a:lnTo>
                  <a:pt x="16354" y="923"/>
                </a:lnTo>
                <a:lnTo>
                  <a:pt x="15959" y="1141"/>
                </a:lnTo>
                <a:lnTo>
                  <a:pt x="15524" y="1345"/>
                </a:lnTo>
                <a:lnTo>
                  <a:pt x="15050" y="1535"/>
                </a:lnTo>
                <a:lnTo>
                  <a:pt x="14543" y="1710"/>
                </a:lnTo>
                <a:lnTo>
                  <a:pt x="14003" y="1871"/>
                </a:lnTo>
                <a:lnTo>
                  <a:pt x="13437" y="2018"/>
                </a:lnTo>
                <a:lnTo>
                  <a:pt x="12844" y="2151"/>
                </a:lnTo>
                <a:lnTo>
                  <a:pt x="12232" y="2269"/>
                </a:lnTo>
                <a:lnTo>
                  <a:pt x="11599" y="2374"/>
                </a:lnTo>
                <a:lnTo>
                  <a:pt x="10952" y="2464"/>
                </a:lnTo>
                <a:lnTo>
                  <a:pt x="10294" y="2540"/>
                </a:lnTo>
                <a:lnTo>
                  <a:pt x="9625" y="2602"/>
                </a:lnTo>
                <a:lnTo>
                  <a:pt x="8951" y="2649"/>
                </a:lnTo>
                <a:lnTo>
                  <a:pt x="8275" y="2684"/>
                </a:lnTo>
                <a:lnTo>
                  <a:pt x="7599" y="2704"/>
                </a:lnTo>
                <a:lnTo>
                  <a:pt x="6928" y="2710"/>
                </a:lnTo>
                <a:lnTo>
                  <a:pt x="6264" y="2702"/>
                </a:lnTo>
                <a:lnTo>
                  <a:pt x="5609" y="2681"/>
                </a:lnTo>
                <a:lnTo>
                  <a:pt x="4968" y="2645"/>
                </a:lnTo>
                <a:lnTo>
                  <a:pt x="4344" y="2597"/>
                </a:lnTo>
                <a:lnTo>
                  <a:pt x="3740" y="2534"/>
                </a:lnTo>
                <a:lnTo>
                  <a:pt x="3158" y="2457"/>
                </a:lnTo>
                <a:lnTo>
                  <a:pt x="2603" y="2367"/>
                </a:lnTo>
                <a:lnTo>
                  <a:pt x="2077" y="2264"/>
                </a:lnTo>
                <a:lnTo>
                  <a:pt x="1584" y="2147"/>
                </a:lnTo>
                <a:lnTo>
                  <a:pt x="1126" y="2016"/>
                </a:lnTo>
                <a:lnTo>
                  <a:pt x="708" y="1871"/>
                </a:lnTo>
                <a:lnTo>
                  <a:pt x="331" y="1714"/>
                </a:lnTo>
                <a:lnTo>
                  <a:pt x="0" y="1543"/>
                </a:lnTo>
                <a:lnTo>
                  <a:pt x="0" y="1474"/>
                </a:lnTo>
                <a:lnTo>
                  <a:pt x="341" y="1635"/>
                </a:lnTo>
                <a:lnTo>
                  <a:pt x="727" y="1784"/>
                </a:lnTo>
                <a:lnTo>
                  <a:pt x="1155" y="1920"/>
                </a:lnTo>
                <a:lnTo>
                  <a:pt x="1621" y="2042"/>
                </a:lnTo>
                <a:lnTo>
                  <a:pt x="2121" y="2151"/>
                </a:lnTo>
                <a:lnTo>
                  <a:pt x="2654" y="2249"/>
                </a:lnTo>
                <a:lnTo>
                  <a:pt x="3215" y="2331"/>
                </a:lnTo>
                <a:lnTo>
                  <a:pt x="3803" y="2401"/>
                </a:lnTo>
                <a:lnTo>
                  <a:pt x="4413" y="2457"/>
                </a:lnTo>
                <a:lnTo>
                  <a:pt x="5041" y="2500"/>
                </a:lnTo>
                <a:lnTo>
                  <a:pt x="5686" y="2531"/>
                </a:lnTo>
                <a:lnTo>
                  <a:pt x="6343" y="2547"/>
                </a:lnTo>
                <a:lnTo>
                  <a:pt x="7011" y="2550"/>
                </a:lnTo>
                <a:lnTo>
                  <a:pt x="7685" y="2539"/>
                </a:lnTo>
                <a:lnTo>
                  <a:pt x="8361" y="2515"/>
                </a:lnTo>
                <a:lnTo>
                  <a:pt x="9039" y="2478"/>
                </a:lnTo>
                <a:lnTo>
                  <a:pt x="9712" y="2426"/>
                </a:lnTo>
                <a:lnTo>
                  <a:pt x="10379" y="2361"/>
                </a:lnTo>
                <a:lnTo>
                  <a:pt x="11037" y="2283"/>
                </a:lnTo>
                <a:lnTo>
                  <a:pt x="11682" y="2190"/>
                </a:lnTo>
                <a:lnTo>
                  <a:pt x="12311" y="2084"/>
                </a:lnTo>
                <a:lnTo>
                  <a:pt x="12921" y="1964"/>
                </a:lnTo>
                <a:lnTo>
                  <a:pt x="13509" y="1831"/>
                </a:lnTo>
                <a:lnTo>
                  <a:pt x="14070" y="1683"/>
                </a:lnTo>
                <a:lnTo>
                  <a:pt x="14604" y="1522"/>
                </a:lnTo>
                <a:lnTo>
                  <a:pt x="15105" y="1347"/>
                </a:lnTo>
                <a:lnTo>
                  <a:pt x="15571" y="1158"/>
                </a:lnTo>
                <a:lnTo>
                  <a:pt x="15999" y="954"/>
                </a:lnTo>
                <a:lnTo>
                  <a:pt x="16386" y="737"/>
                </a:lnTo>
                <a:lnTo>
                  <a:pt x="16728" y="506"/>
                </a:lnTo>
                <a:lnTo>
                  <a:pt x="17021" y="260"/>
                </a:lnTo>
                <a:lnTo>
                  <a:pt x="17264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cb084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7ED8-CAF6-4D2A-B8FB-579222C853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ibrary.ukma.kiev.ua/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bankovskaim@ukma.kiev.u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1989000"/>
            <a:ext cx="6858000" cy="25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Нові сервіси</a:t>
            </a:r>
            <a:br>
              <a:rPr sz="3200"/>
            </a:b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електронного каталогу НаУКМА </a:t>
            </a:r>
            <a:br>
              <a:rPr sz="3200"/>
            </a:b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із доставки інформації </a:t>
            </a:r>
            <a:br>
              <a:rPr sz="3200"/>
            </a:b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ро нові надходження </a:t>
            </a:r>
            <a:br>
              <a:rPr sz="3200"/>
            </a:b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19" name="Подзаголовок 2"/>
          <p:cNvSpPr/>
          <p:nvPr/>
        </p:nvSpPr>
        <p:spPr>
          <a:xfrm>
            <a:off x="5003640" y="5157720"/>
            <a:ext cx="324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Баньковська Ір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системний бібліотекар НБ НаУК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одзаголовок 2"/>
          <p:cNvSpPr/>
          <p:nvPr/>
        </p:nvSpPr>
        <p:spPr>
          <a:xfrm>
            <a:off x="4356000" y="404640"/>
            <a:ext cx="424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XV Щорічний науково-практичний семіна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«Інформаційні ресурси для науки та освіти» </a:t>
            </a:r>
            <a:br>
              <a:rPr sz="1600"/>
            </a:br>
            <a:r>
              <a:rPr b="0" lang="uk-UA" sz="16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Київ, 31січня -1 лютого 2012 ро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ошук по колекції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Пошук за ключовими словами можна обмежити у різні способи: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1080">
              <a:lnSpc>
                <a:spcPct val="8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за типом матеріалу (книги, періодика тощо),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1080">
              <a:lnSpc>
                <a:spcPct val="8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за місцем розміщення примірника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1080">
              <a:lnSpc>
                <a:spcPct val="8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за кількістю днів, у межах яких документ був доданий до каталогу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Є можливість просто переглянути списки видань, що надійшли у бібліотеку за останні 7, 14, 21, 30, 60, 90, 120, 150 та 180 днів. Ці списки можна сортувати за різними ознаками (авторами, назвами, роками видання) і виконувати інші уточнення у межах таких списків. Можливий пошук за датою чи датами надходження видання у бібліотеку. Таке поєднання різних видів та параметрів пошуку дозволяє отримати точні результати при відборі практично будь-яких даних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Calibri"/>
              </a:rPr>
              <a:t>Пошук по колекції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pic>
        <p:nvPicPr>
          <p:cNvPr id="142" name="Picture 5" descr="new_acq"/>
          <p:cNvPicPr/>
          <p:nvPr/>
        </p:nvPicPr>
        <p:blipFill>
          <a:blip r:embed="rId1"/>
          <a:stretch/>
        </p:blipFill>
        <p:spPr>
          <a:xfrm>
            <a:off x="1042920" y="1268280"/>
            <a:ext cx="6553440" cy="54594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"/>
          <p:cNvPicPr/>
          <p:nvPr/>
        </p:nvPicPr>
        <p:blipFill>
          <a:blip r:embed="rId2"/>
          <a:srcRect l="7635" t="50741" r="83008" b="21912"/>
          <a:stretch/>
        </p:blipFill>
        <p:spPr>
          <a:xfrm>
            <a:off x="2124000" y="189000"/>
            <a:ext cx="1455840" cy="233208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"/>
          <p:cNvPicPr/>
          <p:nvPr/>
        </p:nvPicPr>
        <p:blipFill>
          <a:blip r:embed="rId3"/>
          <a:srcRect l="9186" t="60173" r="85420" b="23223"/>
          <a:stretch/>
        </p:blipFill>
        <p:spPr>
          <a:xfrm>
            <a:off x="5580000" y="2060640"/>
            <a:ext cx="1152720" cy="22194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5" descr=""/>
          <p:cNvPicPr/>
          <p:nvPr/>
        </p:nvPicPr>
        <p:blipFill>
          <a:blip r:embed="rId4"/>
          <a:srcRect l="8234" t="64062" r="84528" b="24617"/>
          <a:stretch/>
        </p:blipFill>
        <p:spPr>
          <a:xfrm>
            <a:off x="3851280" y="2852640"/>
            <a:ext cx="1512720" cy="15843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6" descr=""/>
          <p:cNvPicPr/>
          <p:nvPr/>
        </p:nvPicPr>
        <p:blipFill>
          <a:blip r:embed="rId5"/>
          <a:srcRect l="7344" t="28174" r="80081" b="33847"/>
          <a:stretch/>
        </p:blipFill>
        <p:spPr>
          <a:xfrm>
            <a:off x="7020000" y="3789360"/>
            <a:ext cx="1431720" cy="2705040"/>
          </a:xfrm>
          <a:prstGeom prst="rect">
            <a:avLst/>
          </a:prstGeom>
          <a:ln w="0">
            <a:noFill/>
          </a:ln>
        </p:spPr>
      </p:pic>
      <p:sp>
        <p:nvSpPr>
          <p:cNvPr id="147" name="Овал 7"/>
          <p:cNvSpPr/>
          <p:nvPr/>
        </p:nvSpPr>
        <p:spPr>
          <a:xfrm>
            <a:off x="1042920" y="3933720"/>
            <a:ext cx="2808360" cy="574920"/>
          </a:xfrm>
          <a:prstGeom prst="ellipse">
            <a:avLst/>
          </a:prstGeom>
          <a:noFill/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8"/>
          <p:cNvSpPr/>
          <p:nvPr/>
        </p:nvSpPr>
        <p:spPr>
          <a:xfrm>
            <a:off x="900000" y="4869000"/>
            <a:ext cx="1440000" cy="1081080"/>
          </a:xfrm>
          <a:prstGeom prst="ellipse">
            <a:avLst/>
          </a:prstGeom>
          <a:noFill/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Доставка інформації про нові надходження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Для оперативної доставки інформації про нові документи до користувача в зручний для нього час та спосіб призначені: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524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RSS-підписка або підписка по електронній пошті на доставку інформації про нові надходження бібліотеки за окремими галузями знань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524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Функція “Розсилки”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맑은 고딕"/>
              </a:rPr>
              <a:t>Підписка на доставку інформації про нові надходження до бібліотеки за окремими галузями знань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Доступ: із віртуальної колекції каталогу «Нові надходження».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Спектр галузей знань орієнтований на кафедри університету, але є достатньо широким і охоплює основні ділення таблиць УДК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Інформація включає нові надходження бібліотеки за останній місяць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4f5e3c"/>
                </a:solidFill>
                <a:latin typeface="Times New Roman"/>
                <a:ea typeface="맑은 고딕"/>
              </a:rPr>
              <a:t>Підписка на доставку інформації про нові надходження до бібліотеки за окремими галузями знань</a:t>
            </a:r>
            <a:endParaRPr b="0" lang="en-US" sz="29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Підписку може оформити, навіть, не зареєстрований у бібліотеці користувач. Вона доступна для всіх. Для цього достатньо лише вибрати потрібну галузь знань і отримати посилання, яке може читатися будь-якою програмою для читання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RSS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- від браузерів, які мають влаштований механізм читання таких даних, до спеціальних програм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Читання </a:t>
            </a:r>
            <a:r>
              <a:rPr b="1" lang="en-US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RSS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Браузери (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Internet Explorer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Opera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RSS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–рідери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 (FeedDemon, RssReader)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онлайнові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RSS </a:t>
            </a: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рідери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 (GoogleReader)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Поштові клієнти (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Outlook Express)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11" descr=""/>
          <p:cNvPicPr/>
          <p:nvPr/>
        </p:nvPicPr>
        <p:blipFill>
          <a:blip r:embed="rId1"/>
          <a:srcRect l="18601" t="21795" r="19829" b="5127"/>
          <a:stretch/>
        </p:blipFill>
        <p:spPr>
          <a:xfrm>
            <a:off x="2556000" y="1197000"/>
            <a:ext cx="6070320" cy="4505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RSS-</a:t>
            </a: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ідписка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pic>
        <p:nvPicPr>
          <p:cNvPr id="159" name="Рисунок 3" descr=""/>
          <p:cNvPicPr/>
          <p:nvPr/>
        </p:nvPicPr>
        <p:blipFill>
          <a:blip r:embed="rId2"/>
          <a:srcRect l="78339" t="21555" r="2352" b="6152"/>
          <a:stretch/>
        </p:blipFill>
        <p:spPr>
          <a:xfrm>
            <a:off x="163440" y="1268280"/>
            <a:ext cx="2247840" cy="5257800"/>
          </a:xfrm>
          <a:prstGeom prst="rect">
            <a:avLst/>
          </a:prstGeom>
          <a:ln w="0">
            <a:noFill/>
          </a:ln>
        </p:spPr>
      </p:pic>
      <p:cxnSp>
        <p:nvCxnSpPr>
          <p:cNvPr id="160" name="Прямая со стрелкой 7"/>
          <p:cNvCxnSpPr/>
          <p:nvPr/>
        </p:nvCxnSpPr>
        <p:spPr>
          <a:xfrm>
            <a:off x="250920" y="1699920"/>
            <a:ext cx="2666160" cy="649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1" name="Выноска 1 10"/>
          <p:cNvSpPr/>
          <p:nvPr/>
        </p:nvSpPr>
        <p:spPr>
          <a:xfrm>
            <a:off x="7596360" y="836640"/>
            <a:ext cx="1439640" cy="1152360"/>
          </a:xfrm>
          <a:prstGeom prst="borderCallout1">
            <a:avLst>
              <a:gd name="adj1" fmla="val 18750"/>
              <a:gd name="adj2" fmla="val -8333"/>
              <a:gd name="adj3" fmla="val 159250"/>
              <a:gd name="adj4" fmla="val -60078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f9738"/>
                </a:solidFill>
                <a:latin typeface="Calibri"/>
              </a:rPr>
              <a:t>Онлайн клієнти для читання </a:t>
            </a:r>
            <a:r>
              <a:rPr b="0" lang="en-US" sz="1800" spc="-1" strike="noStrike">
                <a:solidFill>
                  <a:srgbClr val="af9738"/>
                </a:solidFill>
                <a:latin typeface="Calibri"/>
              </a:rPr>
              <a:t>R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14" descr=""/>
          <p:cNvPicPr/>
          <p:nvPr/>
        </p:nvPicPr>
        <p:blipFill>
          <a:blip r:embed="rId3"/>
          <a:srcRect l="47782" t="34359" r="24906" b="32054"/>
          <a:stretch/>
        </p:blipFill>
        <p:spPr>
          <a:xfrm>
            <a:off x="5305320" y="3500280"/>
            <a:ext cx="3838680" cy="2953080"/>
          </a:xfrm>
          <a:prstGeom prst="rect">
            <a:avLst/>
          </a:prstGeom>
          <a:ln w="0">
            <a:noFill/>
          </a:ln>
        </p:spPr>
      </p:pic>
      <p:sp>
        <p:nvSpPr>
          <p:cNvPr id="163" name="Выноска 2 12"/>
          <p:cNvSpPr/>
          <p:nvPr/>
        </p:nvSpPr>
        <p:spPr>
          <a:xfrm>
            <a:off x="3924360" y="6138720"/>
            <a:ext cx="1584360" cy="719280"/>
          </a:xfrm>
          <a:prstGeom prst="borderCallout2">
            <a:avLst>
              <a:gd name="adj1" fmla="val 18750"/>
              <a:gd name="adj2" fmla="val -8333"/>
              <a:gd name="adj3" fmla="val -68226"/>
              <a:gd name="adj4" fmla="val 66356"/>
              <a:gd name="adj5" fmla="val -68412"/>
              <a:gd name="adj6" fmla="val 90125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f9738"/>
                </a:solidFill>
                <a:latin typeface="Calibri"/>
              </a:rPr>
              <a:t>Інші кліє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Прямая со стрелкой 9"/>
          <p:cNvCxnSpPr/>
          <p:nvPr/>
        </p:nvCxnSpPr>
        <p:spPr>
          <a:xfrm>
            <a:off x="7667280" y="3429000"/>
            <a:ext cx="1080" cy="937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5" name="Прямоугольник 15"/>
          <p:cNvSpPr/>
          <p:nvPr/>
        </p:nvSpPr>
        <p:spPr>
          <a:xfrm>
            <a:off x="5257440" y="623412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ідписка е-поштою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Альтернативний спосіб отримання інформації про нові надходження - традиційна підписка електронною поштою. Таку можливість дає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FeedBurner -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один із сервісів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Google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ідписка е-поштою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pic>
        <p:nvPicPr>
          <p:cNvPr id="169" name="Рисунок 3" descr=""/>
          <p:cNvPicPr/>
          <p:nvPr/>
        </p:nvPicPr>
        <p:blipFill>
          <a:blip r:embed="rId1"/>
          <a:srcRect l="78339" t="21555" r="2352" b="6152"/>
          <a:stretch/>
        </p:blipFill>
        <p:spPr>
          <a:xfrm>
            <a:off x="1963800" y="1268280"/>
            <a:ext cx="2247840" cy="5257800"/>
          </a:xfrm>
          <a:prstGeom prst="rect">
            <a:avLst/>
          </a:prstGeom>
          <a:ln w="0">
            <a:noFill/>
          </a:ln>
        </p:spPr>
      </p:pic>
      <p:cxnSp>
        <p:nvCxnSpPr>
          <p:cNvPr id="170" name="Прямая со стрелкой 6"/>
          <p:cNvCxnSpPr/>
          <p:nvPr/>
        </p:nvCxnSpPr>
        <p:spPr>
          <a:xfrm>
            <a:off x="2340000" y="1699920"/>
            <a:ext cx="2737080" cy="1297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71" name="Рисунок 5" descr=""/>
          <p:cNvPicPr/>
          <p:nvPr/>
        </p:nvPicPr>
        <p:blipFill>
          <a:blip r:embed="rId2"/>
          <a:srcRect l="46341" t="23080" r="9879" b="28463"/>
          <a:stretch/>
        </p:blipFill>
        <p:spPr>
          <a:xfrm>
            <a:off x="5148360" y="2205000"/>
            <a:ext cx="3384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Функція “Розсилки”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Якщо потрібні дані про документи із набагато вужчої теми, ніж визначені бібліотекою галузі знань - існує інший спосіб отримати інформацію. Для цього призначений ще один сервіс е-каталогу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-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«Розсилки»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Зміст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Загальна інформація про електронний каталог бібліотеки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Віртуальна колекція “Нові надходження”. Пошук по колекції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Нові надходження за галузями знань. Підписка на розсилки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Функція “Розсилки”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Функція “Розсилки” - призначення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Функція “Розсилки” призначена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для поширення інформації про нові надходження Бібліотеки із будь-якої теми або галузі знань. Тема може бути настільки вузькою, наскільки це дозволяє пошук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Кожна розсилка базується на конкретному пошуковому запиті в електронному каталозі. Це означає, що на будь-який можливий пошуковий запит у простому чи розширеному вигляді пошуку можна сформувати розсилку.  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Інформацію можна отримувати не лише на окрему тему, а й про нові номери журналів, які надходять у бібліотеку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76" name="Рисунок 5"/>
          <p:cNvSpPr/>
          <p:nvPr/>
        </p:nvSpPr>
        <p:spPr>
          <a:xfrm>
            <a:off x="3635280" y="4657680"/>
            <a:ext cx="1219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ризначення функції “Розсилки”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Розсилка може відповідати інтересам окремої особи або інтересам групи осіб (у випадку, коли розсилка призначена для кафедри)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Інформація розсилки може надходити як повідомлення е-пошти та як стрічка новин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RSS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. Кожен із згаданих способів доставки інформації може використовуватися як окремо, так і разом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pic>
        <p:nvPicPr>
          <p:cNvPr id="179" name="Рисунок 4" descr="mail3.gif"/>
          <p:cNvPicPr/>
          <p:nvPr/>
        </p:nvPicPr>
        <p:blipFill>
          <a:blip r:embed="rId1"/>
          <a:stretch/>
        </p:blipFill>
        <p:spPr>
          <a:xfrm>
            <a:off x="3851280" y="4653000"/>
            <a:ext cx="14414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ризначення функції “Розсилки”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Інтервал між окремими повідомленнями розсилки визначається її одержувачем. Інформацію про нові надходження Бібліотеки можна отримувати через будь-який інтервал часу: щодня, через певну кількість днів, тижнів чи місяців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Існує можливість налаштувати перерву у розсилці на визначений період (наприклад, на літні канікули)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Розсилки дуже гнучкі та легкі у налаштуванні. Дані розсилки можна доповнити або змінити у будь-який час на інші. Крім того, дані окремої розсилки можна скопіювати і створити на їх основі нову розсилку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Створення розсилки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83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Процес створення власної розсилки достатньо простий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Для створення розсилки потрібно: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27600">
              <a:lnSpc>
                <a:spcPct val="11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Авторизуватися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27600">
              <a:lnSpc>
                <a:spcPct val="11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Здійснити пошук на задану тему (простий або розширений)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27600">
              <a:lnSpc>
                <a:spcPct val="11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за отриманим пошуковим запитом зареєструвати розсилку: заповнити форму, яка містить налаштування, що стосуються її даних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Усі налаштування конкретної розсилки зберігаються в окремому профайлі. Доступ до профайлу – із формуляра користувача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27600">
              <a:lnSpc>
                <a:spcPct val="11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2760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Форма для даних розсилки</a:t>
            </a:r>
            <a:br>
              <a:rPr sz="2900"/>
            </a:br>
            <a:endParaRPr b="0" lang="en-US" sz="2900" spc="-1" strike="noStrike">
              <a:solidFill>
                <a:srgbClr val="768d5a"/>
              </a:solidFill>
              <a:latin typeface="Calibri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rcRect l="0" t="23202" r="28341" b="11280"/>
          <a:stretch/>
        </p:blipFill>
        <p:spPr>
          <a:xfrm>
            <a:off x="106200" y="907920"/>
            <a:ext cx="8929800" cy="55818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673200" y="-10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Форма для даних розсилки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За допомогою форми визначаються: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Назва розсилки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;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Формат документів у повідомленні розсилки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(можливі варіанти: посилання,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MARC-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назви, каталожна картка,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MARC-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коди чи стандартний вигляд запису);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Інтервал, з яким будуть надходити результати розсилки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(фактично, це інтервал, з яким буде перевірятися наявність нових записів у е-каталозі Бібліотеки);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Повідомлення розсилки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- текст, що буде внесено до листа;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Бібліотека</a:t>
            </a:r>
            <a:r>
              <a:rPr b="1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(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доступна лише одна опція</a:t>
            </a: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–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Всі бібліотеки);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Список баз для пошуку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– потрібна база позначається галочкою;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Форма для даних розсилки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Альтернативний е-мейл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, на який також будуть надходити повідомлення (якщо адреса е-пошти вже вказана у формулярі). Якщо ж адреса е-пошти вказана лише у налаштуваннях розсилки, то, відповідно, і повідомлення будуть надходити лише на цю адресу;</a:t>
            </a: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Тема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для листа </a:t>
            </a: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е-мейл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; </a:t>
            </a: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Термін дії розсилки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. Перед закінченням терміну дії розсилки системою автоматично буде надісланий лист-попередження на адресу е-пошти, вказану у формулярі чи у профайлі розсилки. Якщо розсилка більше непотрібна і термін її дії не буде продовжений одержувачем – розсилка буде видалена автоматично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Форма для даних розсилки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Тимчасова перерва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у розсилці: визначаються дати </a:t>
            </a: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Від – До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. У межах цих дат розсилка здійснюватися не буде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Кодування для листа розсилки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(рекомендованим є завжди кодування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UTF-8)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Метод доставки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(е-мейл,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RSS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чи обидва)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Повідомлення про відсутність результатів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– якщо обрана опція “Так” і результати розсилки будуть відсутні, системою буде надіслане повідомлення про відсутність нових надходжень. Якщо обрана опція “Ні” – повідомлення розсилки будуть надходити лише тоді, коли з'являться нові надходження у Бібліотеці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Форма для даних розсилки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pic>
        <p:nvPicPr>
          <p:cNvPr id="195" name="Рисунок 8" descr=""/>
          <p:cNvPicPr/>
          <p:nvPr/>
        </p:nvPicPr>
        <p:blipFill>
          <a:blip r:embed="rId1"/>
          <a:srcRect l="612" t="23080" r="26404" b="5640"/>
          <a:stretch/>
        </p:blipFill>
        <p:spPr>
          <a:xfrm>
            <a:off x="250920" y="1557360"/>
            <a:ext cx="8605800" cy="4967280"/>
          </a:xfrm>
          <a:prstGeom prst="rect">
            <a:avLst/>
          </a:prstGeom>
          <a:ln w="0">
            <a:noFill/>
          </a:ln>
        </p:spPr>
      </p:pic>
      <p:sp>
        <p:nvSpPr>
          <p:cNvPr id="196" name="Выноска 2 10"/>
          <p:cNvSpPr/>
          <p:nvPr/>
        </p:nvSpPr>
        <p:spPr>
          <a:xfrm>
            <a:off x="2771640" y="1052640"/>
            <a:ext cx="172728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8546"/>
              <a:gd name="adj5" fmla="val 313412"/>
              <a:gd name="adj6" fmla="val -9398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af9738"/>
                </a:solidFill>
                <a:latin typeface="Arial"/>
              </a:rPr>
              <a:t>Назва розсил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Выноска 2 11"/>
          <p:cNvSpPr/>
          <p:nvPr/>
        </p:nvSpPr>
        <p:spPr>
          <a:xfrm>
            <a:off x="5616720" y="1052640"/>
            <a:ext cx="3348000" cy="431640"/>
          </a:xfrm>
          <a:prstGeom prst="borderCallout2">
            <a:avLst>
              <a:gd name="adj1" fmla="val 18750"/>
              <a:gd name="adj2" fmla="val -8333"/>
              <a:gd name="adj3" fmla="val 26472"/>
              <a:gd name="adj4" fmla="val -17462"/>
              <a:gd name="adj5" fmla="val 308782"/>
              <a:gd name="adj6" fmla="val -63712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af9738"/>
                </a:solidFill>
                <a:latin typeface="Arial"/>
              </a:rPr>
              <a:t>Формат записів  для повідомлення розсил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Выноска 2 12"/>
          <p:cNvSpPr/>
          <p:nvPr/>
        </p:nvSpPr>
        <p:spPr>
          <a:xfrm>
            <a:off x="5003640" y="1916280"/>
            <a:ext cx="367200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17162"/>
              <a:gd name="adj5" fmla="val 198138"/>
              <a:gd name="adj6" fmla="val -41421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af9738"/>
                </a:solidFill>
                <a:latin typeface="Arial"/>
              </a:rPr>
              <a:t>Інтервал між повідомленнями  розсил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Выноска 2 14"/>
          <p:cNvSpPr/>
          <p:nvPr/>
        </p:nvSpPr>
        <p:spPr>
          <a:xfrm>
            <a:off x="4933800" y="2421000"/>
            <a:ext cx="403416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18537"/>
              <a:gd name="adj5" fmla="val 111601"/>
              <a:gd name="adj6" fmla="val -43425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af9738"/>
                </a:solidFill>
                <a:latin typeface="Arial"/>
              </a:rPr>
              <a:t>Текст, що буде включений у повідомлення розсил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Выноска 2 9"/>
          <p:cNvSpPr/>
          <p:nvPr/>
        </p:nvSpPr>
        <p:spPr>
          <a:xfrm>
            <a:off x="4427640" y="2924280"/>
            <a:ext cx="1584360" cy="433440"/>
          </a:xfrm>
          <a:prstGeom prst="borderCallout2">
            <a:avLst>
              <a:gd name="adj1" fmla="val 18750"/>
              <a:gd name="adj2" fmla="val -8333"/>
              <a:gd name="adj3" fmla="val 25805"/>
              <a:gd name="adj4" fmla="val -14629"/>
              <a:gd name="adj5" fmla="val 118398"/>
              <a:gd name="adj6" fmla="val -11493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af9738"/>
                </a:solidFill>
                <a:latin typeface="Arial"/>
              </a:rPr>
              <a:t>Бази для пошук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17"/>
          <p:cNvSpPr/>
          <p:nvPr/>
        </p:nvSpPr>
        <p:spPr>
          <a:xfrm flipH="1" flipV="1">
            <a:off x="6012000" y="314172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18"/>
          <p:cNvSpPr/>
          <p:nvPr/>
        </p:nvSpPr>
        <p:spPr>
          <a:xfrm flipH="1" flipV="1">
            <a:off x="5796000" y="3357720"/>
            <a:ext cx="720720" cy="287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20"/>
          <p:cNvSpPr/>
          <p:nvPr/>
        </p:nvSpPr>
        <p:spPr>
          <a:xfrm flipH="1">
            <a:off x="2626920" y="3283920"/>
            <a:ext cx="1800360" cy="360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Выноска 2 23"/>
          <p:cNvSpPr/>
          <p:nvPr/>
        </p:nvSpPr>
        <p:spPr>
          <a:xfrm>
            <a:off x="4433760" y="3716280"/>
            <a:ext cx="4716720" cy="300240"/>
          </a:xfrm>
          <a:prstGeom prst="borderCallout2">
            <a:avLst>
              <a:gd name="adj1" fmla="val 18750"/>
              <a:gd name="adj2" fmla="val -8333"/>
              <a:gd name="adj3" fmla="val 25805"/>
              <a:gd name="adj4" fmla="val -4912"/>
              <a:gd name="adj5" fmla="val 48657"/>
              <a:gd name="adj6" fmla="val -19254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af9738"/>
                </a:solidFill>
                <a:latin typeface="Arial"/>
              </a:rPr>
              <a:t>Додаткова адреса е-пошти, на яку буде надходити розсил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Выноска 2 25"/>
          <p:cNvSpPr/>
          <p:nvPr/>
        </p:nvSpPr>
        <p:spPr>
          <a:xfrm>
            <a:off x="5867280" y="4076640"/>
            <a:ext cx="2952720" cy="432000"/>
          </a:xfrm>
          <a:prstGeom prst="borderCallout2">
            <a:avLst>
              <a:gd name="adj1" fmla="val 18750"/>
              <a:gd name="adj2" fmla="val -8333"/>
              <a:gd name="adj3" fmla="val 26472"/>
              <a:gd name="adj4" fmla="val -10370"/>
              <a:gd name="adj5" fmla="val 83050"/>
              <a:gd name="adj6" fmla="val -33185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af9738"/>
                </a:solidFill>
                <a:latin typeface="Arial"/>
              </a:rPr>
              <a:t>Інтервал, у межах якого розсилка здійснюватися не буд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26"/>
          <p:cNvSpPr/>
          <p:nvPr/>
        </p:nvSpPr>
        <p:spPr>
          <a:xfrm flipH="1">
            <a:off x="3059280" y="4221000"/>
            <a:ext cx="2449440" cy="21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Выноска 2 31"/>
          <p:cNvSpPr/>
          <p:nvPr/>
        </p:nvSpPr>
        <p:spPr>
          <a:xfrm>
            <a:off x="7093080" y="5084640"/>
            <a:ext cx="2050920" cy="792360"/>
          </a:xfrm>
          <a:prstGeom prst="borderCallout2">
            <a:avLst>
              <a:gd name="adj1" fmla="val 18750"/>
              <a:gd name="adj2" fmla="val -8333"/>
              <a:gd name="adj3" fmla="val 20773"/>
              <a:gd name="adj4" fmla="val -5226"/>
              <a:gd name="adj5" fmla="val -33407"/>
              <a:gd name="adj6" fmla="val -24365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af9738"/>
                </a:solidFill>
                <a:latin typeface="Arial"/>
              </a:rPr>
              <a:t>Для правильного відображення кирилиці</a:t>
            </a:r>
            <a:r>
              <a:rPr b="1" lang="en-US" sz="1100" spc="-1" strike="noStrike">
                <a:solidFill>
                  <a:srgbClr val="af9738"/>
                </a:solidFill>
                <a:latin typeface="Arial"/>
              </a:rPr>
              <a:t> </a:t>
            </a:r>
            <a:r>
              <a:rPr b="1" lang="uk-UA" sz="1100" spc="-1" strike="noStrike">
                <a:solidFill>
                  <a:srgbClr val="af9738"/>
                </a:solidFill>
                <a:latin typeface="Arial"/>
              </a:rPr>
              <a:t>у повідомленнях рекомендується </a:t>
            </a:r>
            <a:r>
              <a:rPr b="1" lang="en-US" sz="1100" spc="-1" strike="noStrike">
                <a:solidFill>
                  <a:srgbClr val="af9738"/>
                </a:solidFill>
                <a:latin typeface="Arial"/>
              </a:rPr>
              <a:t>UTF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Прямая со стрелкой 33"/>
          <p:cNvCxnSpPr/>
          <p:nvPr/>
        </p:nvCxnSpPr>
        <p:spPr>
          <a:xfrm flipV="1">
            <a:off x="4858920" y="4507920"/>
            <a:ext cx="793080" cy="433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9" name="Прямоугольник 38"/>
          <p:cNvSpPr/>
          <p:nvPr/>
        </p:nvSpPr>
        <p:spPr>
          <a:xfrm>
            <a:off x="4716360" y="4797360"/>
            <a:ext cx="136836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af9738"/>
                </a:solidFill>
                <a:latin typeface="Arial"/>
                <a:ea typeface="Arial"/>
              </a:rPr>
              <a:t>Календа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Прямая со стрелкой 39"/>
          <p:cNvCxnSpPr/>
          <p:nvPr/>
        </p:nvCxnSpPr>
        <p:spPr>
          <a:xfrm flipH="1" flipV="1">
            <a:off x="3924000" y="4508280"/>
            <a:ext cx="1224720" cy="289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1" name="Прямая со стрелкой 43"/>
          <p:cNvCxnSpPr/>
          <p:nvPr/>
        </p:nvCxnSpPr>
        <p:spPr>
          <a:xfrm flipH="1" flipV="1">
            <a:off x="3924000" y="4292280"/>
            <a:ext cx="1224720" cy="505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Створення профайлу розсилки </a:t>
            </a:r>
            <a:endParaRPr b="0" lang="en-US" sz="29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Після того, як усі обов’язкові поля будуть заповнені – розсилка готова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180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pic>
        <p:nvPicPr>
          <p:cNvPr id="214" name="Рисунок 7" descr=""/>
          <p:cNvPicPr/>
          <p:nvPr/>
        </p:nvPicPr>
        <p:blipFill>
          <a:blip r:embed="rId1"/>
          <a:srcRect l="23060" t="17629" r="20727" b="43657"/>
          <a:stretch/>
        </p:blipFill>
        <p:spPr>
          <a:xfrm>
            <a:off x="395280" y="2492280"/>
            <a:ext cx="8010360" cy="344808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2987640" y="3213000"/>
            <a:ext cx="2592360" cy="43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Електронний каталог - загальна інформація 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Відображає та розкриває повний склад та зміст традиційних фондів НБ НаУКМА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Рік заснування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- 1997 р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Програмне забезпечення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- інтегрована бібліотечна система ALEPH 500 (Ex Libris Ltd.)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Доступ до каталогу – за посиланням: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ea typeface="Times New Roman"/>
                <a:hlinkClick r:id="rId1"/>
              </a:rPr>
              <a:t>http://library.ukma.kiev.ua/F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рофайл розсилки</a:t>
            </a:r>
            <a:endParaRPr b="0" lang="en-US" sz="29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Доступ до даних усіх власних розсилок здійснюється через е-формуляр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pic>
        <p:nvPicPr>
          <p:cNvPr id="218" name="Рисунок 10" descr=""/>
          <p:cNvPicPr/>
          <p:nvPr/>
        </p:nvPicPr>
        <p:blipFill>
          <a:blip r:embed="rId1"/>
          <a:srcRect l="764" t="18780" r="20606" b="30601"/>
          <a:stretch/>
        </p:blipFill>
        <p:spPr>
          <a:xfrm>
            <a:off x="142920" y="2781360"/>
            <a:ext cx="8893080" cy="3584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5"/>
          <p:cNvSpPr/>
          <p:nvPr/>
        </p:nvSpPr>
        <p:spPr>
          <a:xfrm>
            <a:off x="6443640" y="3500280"/>
            <a:ext cx="115272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рофайл розсилки</a:t>
            </a:r>
            <a:endParaRPr b="0" lang="en-US" sz="29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Тут відображаються дані про кожну розсилку у вигляді таблиці. Якщо метод доставки окремої розсилки - "RSS" або  "Обидва", то колонка «Лінк  RSS»  містить лінк, на який можна оформити RSS-підписку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Тут можна керувати власними розсилками – редагувати їх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pic>
        <p:nvPicPr>
          <p:cNvPr id="222" name="Рисунок 1" descr=""/>
          <p:cNvPicPr/>
          <p:nvPr/>
        </p:nvPicPr>
        <p:blipFill>
          <a:blip r:embed="rId1"/>
          <a:srcRect l="824" t="18452" r="2507" b="41725"/>
          <a:stretch/>
        </p:blipFill>
        <p:spPr>
          <a:xfrm>
            <a:off x="142920" y="3645000"/>
            <a:ext cx="8893080" cy="22939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8"/>
          <p:cNvSpPr/>
          <p:nvPr/>
        </p:nvSpPr>
        <p:spPr>
          <a:xfrm>
            <a:off x="5364000" y="5516640"/>
            <a:ext cx="3780000" cy="217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7"/>
          <p:cNvSpPr/>
          <p:nvPr/>
        </p:nvSpPr>
        <p:spPr>
          <a:xfrm>
            <a:off x="3635280" y="4797360"/>
            <a:ext cx="30974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Редагування даних розсилки </a:t>
            </a:r>
            <a:endParaRPr b="0" lang="en-US" sz="29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Для редагування доступні опції: 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Змінити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 - є можливість відредагувати старі дані або додати нові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1800">
              <a:lnSpc>
                <a:spcPct val="8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Дублювати -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робить копію профайлу окремої розсилки та відкриває її форму. Якщо дані відредагувати, то на їх основі можна створити нову розсилку. 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180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</a:t>
            </a: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Видалити -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Якщо розсилка більше непотрібна – її можна видалити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Редагування даних розсилки</a:t>
            </a:r>
            <a:endParaRPr b="0" lang="en-US" sz="29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Онлайн пошук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Через посилання “Онлайн пошук” можна отримати результати розсилки у реальному часі (тобто, за період від останнього листа розсилки і до моменту натискання на посилання). При цьому, лист із знайденими записами надсилатися на е-пошту одержувача розсилки не буде.  Наступний автоматичний лист із результатами буде містити записи, що з'явилися у е-каталозі уже після цього останнього пошуку онлайн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pic>
        <p:nvPicPr>
          <p:cNvPr id="229" name="Рисунок 1" descr=""/>
          <p:cNvPicPr/>
          <p:nvPr/>
        </p:nvPicPr>
        <p:blipFill>
          <a:blip r:embed="rId1"/>
          <a:srcRect l="824" t="18452" r="2507" b="41725"/>
          <a:stretch/>
        </p:blipFill>
        <p:spPr>
          <a:xfrm>
            <a:off x="0" y="4149720"/>
            <a:ext cx="9136080" cy="235584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6"/>
          <p:cNvSpPr/>
          <p:nvPr/>
        </p:nvSpPr>
        <p:spPr>
          <a:xfrm>
            <a:off x="5651640" y="5013360"/>
            <a:ext cx="7207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Редагування даних розсилки</a:t>
            </a:r>
            <a:endParaRPr b="0" lang="en-US" sz="2900" spc="-1" strike="noStrike">
              <a:solidFill>
                <a:srgbClr val="768d5a"/>
              </a:solidFill>
              <a:latin typeface="Calibri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rcRect l="0" t="36913" r="10084" b="31995"/>
          <a:stretch/>
        </p:blipFill>
        <p:spPr>
          <a:xfrm>
            <a:off x="324000" y="2852640"/>
            <a:ext cx="8661240" cy="187164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468360" y="134136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Звузи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Дана опція дозволяє звузити вже існуючий пошук розсил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8"/>
          <p:cNvSpPr/>
          <p:nvPr/>
        </p:nvSpPr>
        <p:spPr>
          <a:xfrm>
            <a:off x="7380360" y="2852640"/>
            <a:ext cx="64764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9"/>
          <p:cNvSpPr/>
          <p:nvPr/>
        </p:nvSpPr>
        <p:spPr>
          <a:xfrm>
            <a:off x="395280" y="4292640"/>
            <a:ext cx="144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Лист розсилки</a:t>
            </a:r>
            <a:r>
              <a:rPr b="0" lang="uk-UA" sz="4000" spc="-1" strike="noStrike">
                <a:solidFill>
                  <a:srgbClr val="768d5a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pic>
        <p:nvPicPr>
          <p:cNvPr id="237" name="Рисунок 3" descr="new_rss.jpg"/>
          <p:cNvPicPr/>
          <p:nvPr/>
        </p:nvPicPr>
        <p:blipFill>
          <a:blip r:embed="rId1"/>
          <a:srcRect l="0" t="0" r="9563" b="0"/>
          <a:stretch/>
        </p:blipFill>
        <p:spPr>
          <a:xfrm>
            <a:off x="108000" y="981000"/>
            <a:ext cx="901836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Висновок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Сервіси легкі та гнучкі у налаштуванні для користувача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Доступні у будь-який час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Можуть охоплювати будь-яку тему і відповідати будь-яким інтересам як окремої особи так і групи осіб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Способи пошуку та доставки інформації про нові надходження можна використовувати як окремо, так і разом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Способи та час доставки інформації користувач обирає сам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Із зауваженнями та пропозиціями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прохання звертатися</a:t>
            </a:r>
            <a:br>
              <a:rPr sz="2400"/>
            </a:b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ea typeface="맑은 고딕"/>
                <a:hlinkClick r:id="rId1"/>
              </a:rPr>
              <a:t>bankovskaim@ukma.kiev.ua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Е-каталог. Загальна інформація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Електронний каталог Бібліотеки поєднує у собі: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Окремі бази для різних видів пошуку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Загальний каталог та 11 віртуальних колекцій </a:t>
            </a: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умовно відокремлених колекцій (тобто, віртуально, а не фізично), в яких матеріали об'єднані за певною</a:t>
            </a:r>
            <a:r>
              <a:rPr b="1" lang="ru-RU" sz="2400" spc="-1" strike="noStrike">
                <a:solidFill>
                  <a:srgbClr val="af973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ознакою)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Спеціальні сервіси: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Формуляр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Моя е-полиця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Замовлення комплектування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Матеріали до курсів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Розсилки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Е-каталог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Е-каталог бібліотеки є джерелом інформації про бібліотечну колекцію та нові надходження до неї і є важливим інструментом розповсюдження такої інформації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Головна передумова для цього: саме у електронному каталозі дані про надходження документів у бібліотеку з’являються  найпершими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Спеціальні засоби для інформування про нові надходження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Віртуальна колекція “Нові надходження”</a:t>
            </a:r>
            <a:r>
              <a:rPr b="1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всі нові надходження у каталозі відділені в окрему колекцію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Інші способи призначені для доставки інформації про нові надходження користувачам без відвідування е-каталогу: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RSS </a:t>
            </a: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підписка та підписка е-поштою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на нові надходження на окрему тему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Функція “Розсилки”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– для підписки на інформацію про нові надходження до бібліотеки на будь-яку тему (для зареєстрованих користувачів бібліотеки)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Віртуальна колекція “Нові надходження”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Віртуальна колекція містить нові надходження за останні пів-року (інформація оновлюється щоденно і включає лише ті документи, що надійшли за останні 180 днів)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Віртуальна колекція “Нові надходження” у </a:t>
            </a:r>
            <a:br>
              <a:rPr sz="3200"/>
            </a:b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е-каталозі Бібліотеки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pic>
        <p:nvPicPr>
          <p:cNvPr id="134" name="Рисунок 3" descr=""/>
          <p:cNvPicPr/>
          <p:nvPr/>
        </p:nvPicPr>
        <p:blipFill>
          <a:blip r:embed="rId1"/>
          <a:srcRect l="803" t="21539" r="1391" b="6412"/>
          <a:stretch/>
        </p:blipFill>
        <p:spPr>
          <a:xfrm>
            <a:off x="108000" y="1773360"/>
            <a:ext cx="8856720" cy="4103640"/>
          </a:xfrm>
          <a:prstGeom prst="rect">
            <a:avLst/>
          </a:prstGeom>
          <a:ln w="0">
            <a:noFill/>
          </a:ln>
        </p:spPr>
      </p:pic>
      <p:sp>
        <p:nvSpPr>
          <p:cNvPr id="135" name="Овал 3"/>
          <p:cNvSpPr/>
          <p:nvPr/>
        </p:nvSpPr>
        <p:spPr>
          <a:xfrm>
            <a:off x="5435640" y="1700280"/>
            <a:ext cx="108108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ошук по колекції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Доступні 2 види пошуку: </a:t>
            </a: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перегляд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 та </a:t>
            </a: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пошук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 за ключовими словами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pic>
        <p:nvPicPr>
          <p:cNvPr id="138" name="Рисунок 4" descr=""/>
          <p:cNvPicPr/>
          <p:nvPr/>
        </p:nvPicPr>
        <p:blipFill>
          <a:blip r:embed="rId1"/>
          <a:srcRect l="840" t="21795" r="12774" b="24361"/>
          <a:stretch/>
        </p:blipFill>
        <p:spPr>
          <a:xfrm>
            <a:off x="900000" y="2708280"/>
            <a:ext cx="78440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1:11:38Z</dcterms:created>
  <dc:creator>User</dc:creator>
  <dc:description/>
  <dc:language>en-US</dc:language>
  <cp:lastModifiedBy>User</cp:lastModifiedBy>
  <dcterms:modified xsi:type="dcterms:W3CDTF">2012-02-01T12:02:03Z</dcterms:modified>
  <cp:revision>426</cp:revision>
  <dc:subject/>
  <dc:title>Слайд 1</dc:title>
</cp:coreProperties>
</file>