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C68F-BFA0-497B-93CE-A5E8AE4D40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6D7C-00F4-4E34-A2F7-9D42F4C10A7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72D2-03A9-4F78-B7E4-7403D4751E7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729-EA82-41CF-AAFD-F37D337BCD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22C-B844-4336-9AEF-974381CBF0D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CF0-7C68-4CA0-A0C9-E1104634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718-6A7E-4F01-BA32-7C71A661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243-CBE0-45E9-980D-806FA589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33B-E241-4375-81A7-C1D8474A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0B8-A96B-4B2F-A664-2682E65A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F053-2E17-478E-B0E5-99CD63F6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068-5413-44F6-BF5A-CB63F6D8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25CE-8802-4A7F-946C-CED72D03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0EA-3174-4FB5-8966-EB0AA6CA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4950-4CCC-407E-B4F3-B8F311D6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5540-F890-45F7-B589-DA455127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C72-AA55-4D6F-9790-B3BFA59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3A2-D8D8-4FAE-ABAB-396D7FF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863F-DE04-48F7-9FE0-6473ABA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3B8-CB60-405C-A719-C7BE309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8F77-8545-41E0-BF1A-AF4C8497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17F8-7B70-472D-A24D-5E470378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3F4E-D7F3-44C0-BA5D-C6E6BE9F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91F9-C1B9-4077-B526-E636317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36DF-F66B-4FCA-8928-8E10F8E7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23F8-619A-49B4-A891-420C30C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FD72-4AEB-4743-826E-D62330C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431-4E38-4436-8EBB-18D0D8E0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7886-55F9-4BB0-B05B-2E0C1C45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97145-8ACB-412F-A57B-0A2600B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E1B1-4D27-4EC3-9749-A1B4A3F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D635-F15E-4F30-8E3F-60AA5AE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94CA-87CB-4270-928A-D796A205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53B8-3937-4DFA-A556-6B023E4E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1B5C-2669-4C8F-B9CF-04DE89CA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24F8-7855-4EA3-8A22-6628FC24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B587F-DB0B-4823-B01A-946016B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5F7A-31B8-4B0B-B796-B3E9DF05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397-C592-4DD9-BA37-E2E33E77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F9A98-9242-4EEC-AEFC-3C7845EE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CB2E-5C96-463F-8630-07DC966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DA620-214B-404C-99E6-ED2A9431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BA3E5-127A-4A09-B1CF-38EA7AEA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1C7A-8D49-436F-A17A-9426296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410E-0682-4502-ABF0-22ED4A5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A6DB-59EB-480E-9D4F-6249387E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6EB6-E25F-4018-96A2-170E88EB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FA1E-0A25-45C5-A1D4-2AE609F2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4F7-57CA-4B9F-BEF3-2A03F4B0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933-B616-4E68-AF27-0809D10E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1C2-E238-4A7B-A6D2-83EA072C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96D-A9C3-4CA5-92D0-EDB9137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FA8-3C52-48E0-8F6D-77ECDC1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9842-315A-4C1A-BA73-79AD6D3F7611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04B-85A7-435F-A371-DE196FC7AA23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FF3D-4E07-4C2F-9391-CFF38B5E9EC4}" type="slidenum">
              <a:rPr b="0" lang="uk-U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з одним вирізаним округленим кут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й трикут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іліні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іліні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909C-09F6-491E-BC57-1D2AED33B187}" type="slidenum">
              <a:rPr b="0" lang="uk-U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321760" cy="2414880"/>
          </a:xfrm>
          <a:prstGeom prst="rect">
            <a:avLst/>
          </a:prstGeom>
          <a:ln w="0">
            <a:noFill/>
          </a:ln>
        </p:spPr>
      </p:pic>
      <p:pic>
        <p:nvPicPr>
          <p:cNvPr id="203" name="Підзаголовок 2" descr=""/>
          <p:cNvPicPr/>
          <p:nvPr/>
        </p:nvPicPr>
        <p:blipFill>
          <a:blip r:embed="rId2"/>
          <a:stretch/>
        </p:blipFill>
        <p:spPr>
          <a:xfrm>
            <a:off x="450720" y="3597120"/>
            <a:ext cx="8455320" cy="183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оради   користувачеві :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Як знайти і  скористатися “Матеріалами до курсів”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1"/>
          <a:srcRect l="0" t="13767" r="20840" b="30447"/>
          <a:stretch/>
        </p:blipFill>
        <p:spPr>
          <a:xfrm>
            <a:off x="928800" y="1285920"/>
            <a:ext cx="7468920" cy="47228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0" t="2196" r="24416" b="31152"/>
          <a:stretch/>
        </p:blipFill>
        <p:spPr>
          <a:xfrm>
            <a:off x="1000080" y="920880"/>
            <a:ext cx="7143840" cy="50385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rcRect l="0" t="2196" r="0" b="4784"/>
          <a:stretch/>
        </p:blipFill>
        <p:spPr>
          <a:xfrm>
            <a:off x="928800" y="857160"/>
            <a:ext cx="7072200" cy="52624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38" name="Овал 5"/>
          <p:cNvSpPr/>
          <p:nvPr/>
        </p:nvSpPr>
        <p:spPr>
          <a:xfrm>
            <a:off x="6000840" y="3571920"/>
            <a:ext cx="1428840" cy="714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 сполучна лінія 7"/>
          <p:cNvSpPr/>
          <p:nvPr/>
        </p:nvSpPr>
        <p:spPr>
          <a:xfrm>
            <a:off x="2428920" y="2786040"/>
            <a:ext cx="8571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0" t="5127" r="0" b="4784"/>
          <a:stretch/>
        </p:blipFill>
        <p:spPr>
          <a:xfrm>
            <a:off x="1214280" y="928800"/>
            <a:ext cx="7226280" cy="5208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241" name="Овал 2"/>
          <p:cNvSpPr/>
          <p:nvPr/>
        </p:nvSpPr>
        <p:spPr>
          <a:xfrm>
            <a:off x="1285920" y="5000760"/>
            <a:ext cx="2571840" cy="1000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 сполучна лінія 4"/>
          <p:cNvSpPr/>
          <p:nvPr/>
        </p:nvSpPr>
        <p:spPr>
          <a:xfrm>
            <a:off x="1285920" y="4786200"/>
            <a:ext cx="7000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rcRect l="0" t="13671" r="9180" b="3322"/>
          <a:stretch/>
        </p:blipFill>
        <p:spPr>
          <a:xfrm>
            <a:off x="642960" y="928800"/>
            <a:ext cx="7786800" cy="56926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0717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1768320" y="1298520"/>
            <a:ext cx="5669280" cy="779400"/>
          </a:xfrm>
          <a:prstGeom prst="rect">
            <a:avLst/>
          </a:prstGeom>
          <a:ln w="0">
            <a:noFill/>
          </a:ln>
        </p:spPr>
      </p:pic>
      <p:sp>
        <p:nvSpPr>
          <p:cNvPr id="247" name="Oval 12"/>
          <p:cNvSpPr/>
          <p:nvPr/>
        </p:nvSpPr>
        <p:spPr>
          <a:xfrm>
            <a:off x="6429240" y="2071800"/>
            <a:ext cx="844560" cy="2379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3"/>
          <a:srcRect l="0" t="0" r="0" b="30558"/>
          <a:stretch/>
        </p:blipFill>
        <p:spPr>
          <a:xfrm>
            <a:off x="928800" y="2143080"/>
            <a:ext cx="7329240" cy="40719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49" name="Oval 12"/>
          <p:cNvSpPr/>
          <p:nvPr/>
        </p:nvSpPr>
        <p:spPr>
          <a:xfrm>
            <a:off x="2286000" y="4643280"/>
            <a:ext cx="1782720" cy="8575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1000080" y="5500800"/>
            <a:ext cx="581040" cy="207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6572160" y="2928960"/>
            <a:ext cx="785880" cy="2858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685800" y="1295280"/>
            <a:ext cx="7601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ідібрати в електронному каталозі потрібні матері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928800" y="2143080"/>
            <a:ext cx="7065720" cy="445788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55" name="Прямокутна виноска 6"/>
          <p:cNvSpPr/>
          <p:nvPr/>
        </p:nvSpPr>
        <p:spPr>
          <a:xfrm>
            <a:off x="1571760" y="2428920"/>
            <a:ext cx="1214280" cy="612720"/>
          </a:xfrm>
          <a:prstGeom prst="wedgeRectCallout">
            <a:avLst>
              <a:gd name="adj1" fmla="val -20833"/>
              <a:gd name="adj2" fmla="val 625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100" spc="-1" strike="noStrike">
                <a:solidFill>
                  <a:srgbClr val="ff0000"/>
                </a:solidFill>
                <a:latin typeface="Constantia"/>
              </a:rPr>
              <a:t>Вибрати і покласти на “Моя е-полиця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ашивка 7"/>
          <p:cNvSpPr/>
          <p:nvPr/>
        </p:nvSpPr>
        <p:spPr>
          <a:xfrm flipV="1" rot="5230800">
            <a:off x="1137960" y="308736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ашивка 8"/>
          <p:cNvSpPr/>
          <p:nvPr/>
        </p:nvSpPr>
        <p:spPr>
          <a:xfrm flipV="1" rot="5230800">
            <a:off x="1137960" y="3516120"/>
            <a:ext cx="233280" cy="210960"/>
          </a:xfrm>
          <a:custGeom>
            <a:avLst/>
            <a:gdLst>
              <a:gd name="textAreaLeft" fmla="*/ 0 w 233280"/>
              <a:gd name="textAreaRight" fmla="*/ 233640 w 23328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829" y="0"/>
                </a:lnTo>
                <a:lnTo>
                  <a:pt x="21600" y="10800"/>
                </a:lnTo>
                <a:lnTo>
                  <a:pt x="11829" y="21600"/>
                </a:lnTo>
                <a:lnTo>
                  <a:pt x="0" y="21600"/>
                </a:lnTo>
                <a:lnTo>
                  <a:pt x="9771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93560" y="19512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Надіслати файл відповідальному бібліотекар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(вказавши своє ПІП, назву курсу, тремест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rcRect l="0" t="10254" r="11524" b="9914"/>
          <a:stretch/>
        </p:blipFill>
        <p:spPr>
          <a:xfrm>
            <a:off x="928800" y="2075040"/>
            <a:ext cx="6626160" cy="4782960"/>
          </a:xfrm>
          <a:prstGeom prst="rect">
            <a:avLst/>
          </a:prstGeom>
          <a:ln w="28440">
            <a:solidFill>
              <a:srgbClr val="0f6fc6"/>
            </a:solidFill>
            <a:miter/>
          </a:ln>
        </p:spPr>
      </p:pic>
      <p:sp>
        <p:nvSpPr>
          <p:cNvPr id="261" name="Овал 8"/>
          <p:cNvSpPr/>
          <p:nvPr/>
        </p:nvSpPr>
        <p:spPr>
          <a:xfrm>
            <a:off x="2071800" y="6072120"/>
            <a:ext cx="300024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 сполучна лінія 11"/>
          <p:cNvSpPr/>
          <p:nvPr/>
        </p:nvSpPr>
        <p:spPr>
          <a:xfrm>
            <a:off x="1785960" y="3000240"/>
            <a:ext cx="1192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ашивка 12"/>
          <p:cNvSpPr/>
          <p:nvPr/>
        </p:nvSpPr>
        <p:spPr>
          <a:xfrm flipV="1" rot="5230800">
            <a:off x="1050840" y="6525720"/>
            <a:ext cx="262080" cy="220680"/>
          </a:xfrm>
          <a:custGeom>
            <a:avLst/>
            <a:gdLst>
              <a:gd name="textAreaLeft" fmla="*/ 0 w 262080"/>
              <a:gd name="textAreaRight" fmla="*/ 262440 w 262080"/>
              <a:gd name="textAreaTop" fmla="*/ -360 h 220680"/>
              <a:gd name="textAreaBottom" fmla="*/ 22068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502" y="0"/>
                </a:lnTo>
                <a:lnTo>
                  <a:pt x="21600" y="10800"/>
                </a:lnTo>
                <a:lnTo>
                  <a:pt x="12502" y="21600"/>
                </a:lnTo>
                <a:lnTo>
                  <a:pt x="0" y="21600"/>
                </a:lnTo>
                <a:lnTo>
                  <a:pt x="9098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13"/>
          <p:cNvSpPr/>
          <p:nvPr/>
        </p:nvSpPr>
        <p:spPr>
          <a:xfrm>
            <a:off x="3214800" y="2857680"/>
            <a:ext cx="21420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14"/>
          <p:cNvSpPr/>
          <p:nvPr/>
        </p:nvSpPr>
        <p:spPr>
          <a:xfrm>
            <a:off x="1214280" y="3286080"/>
            <a:ext cx="28584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68580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Отримавши лист від викл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rcRect l="0" t="49806" r="51744" b="20168"/>
          <a:stretch/>
        </p:blipFill>
        <p:spPr>
          <a:xfrm>
            <a:off x="785880" y="1908000"/>
            <a:ext cx="7215120" cy="359280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1867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Місце для вмісту 1" descr=""/>
          <p:cNvPicPr/>
          <p:nvPr/>
        </p:nvPicPr>
        <p:blipFill>
          <a:blip r:embed="rId1"/>
          <a:stretch/>
        </p:blipFill>
        <p:spPr>
          <a:xfrm>
            <a:off x="360360" y="1341360"/>
            <a:ext cx="836280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"/>
          <p:cNvPicPr/>
          <p:nvPr/>
        </p:nvPicPr>
        <p:blipFill>
          <a:blip r:embed="rId1"/>
          <a:srcRect l="0" t="2344" r="56810" b="62488"/>
          <a:stretch/>
        </p:blipFill>
        <p:spPr>
          <a:xfrm>
            <a:off x="1071720" y="2000160"/>
            <a:ext cx="7235640" cy="471348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0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2"/>
          <a:stretch/>
        </p:blipFill>
        <p:spPr>
          <a:xfrm>
            <a:off x="420840" y="665280"/>
            <a:ext cx="817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85800" y="1785960"/>
            <a:ext cx="84582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712800" y="506520"/>
            <a:ext cx="8211960" cy="1011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rcRect l="1757" t="2196" r="31447" b="33381"/>
          <a:stretch/>
        </p:blipFill>
        <p:spPr>
          <a:xfrm>
            <a:off x="1428840" y="1928880"/>
            <a:ext cx="6500880" cy="4779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277" name="Прямокутник 7"/>
          <p:cNvSpPr/>
          <p:nvPr/>
        </p:nvSpPr>
        <p:spPr>
          <a:xfrm>
            <a:off x="1500120" y="150012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йти в електронний каталог НБ НаУК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8"/>
          <p:cNvSpPr/>
          <p:nvPr/>
        </p:nvSpPr>
        <p:spPr>
          <a:xfrm>
            <a:off x="1857240" y="1928880"/>
            <a:ext cx="18576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кутник 1"/>
          <p:cNvSpPr/>
          <p:nvPr/>
        </p:nvSpPr>
        <p:spPr>
          <a:xfrm>
            <a:off x="500040" y="228600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Викладач приносить до бібліотеки власні матеріали 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(паперові чи електрон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кутник 2"/>
          <p:cNvSpPr/>
          <p:nvPr/>
        </p:nvSpPr>
        <p:spPr>
          <a:xfrm>
            <a:off x="357120" y="35712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ії викладача </a:t>
            </a:r>
            <a:br>
              <a:rPr sz="3200"/>
            </a:b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 зі стрілкою 4"/>
          <p:cNvCxnSpPr>
            <a:endCxn id="282" idx="0"/>
          </p:cNvCxnSpPr>
          <p:nvPr/>
        </p:nvCxnSpPr>
        <p:spPr>
          <a:xfrm flipH="1">
            <a:off x="1749240" y="3357720"/>
            <a:ext cx="1108800" cy="1429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" name="Пряма зі стрілкою 6"/>
          <p:cNvCxnSpPr>
            <a:endCxn id="284" idx="1"/>
          </p:cNvCxnSpPr>
          <p:nvPr/>
        </p:nvCxnSpPr>
        <p:spPr>
          <a:xfrm>
            <a:off x="3357720" y="5500800"/>
            <a:ext cx="20718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2" name="Прямокутник 7"/>
          <p:cNvSpPr/>
          <p:nvPr/>
        </p:nvSpPr>
        <p:spPr>
          <a:xfrm>
            <a:off x="214200" y="4786200"/>
            <a:ext cx="3071880" cy="13575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Бібліотекар сканує чи долучає  до заг.  фонду  примірни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(за бажанням викладач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кутник 8"/>
          <p:cNvSpPr/>
          <p:nvPr/>
        </p:nvSpPr>
        <p:spPr>
          <a:xfrm>
            <a:off x="5429160" y="4857840"/>
            <a:ext cx="2500560" cy="128592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002060"/>
                </a:solidFill>
                <a:latin typeface="Constantia"/>
              </a:rPr>
              <a:t>Див. да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 зі стрілкою 20"/>
          <p:cNvCxnSpPr>
            <a:endCxn id="284" idx="0"/>
          </p:cNvCxnSpPr>
          <p:nvPr/>
        </p:nvCxnSpPr>
        <p:spPr>
          <a:xfrm>
            <a:off x="5713920" y="3357360"/>
            <a:ext cx="96588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кутник 1"/>
          <p:cNvSpPr/>
          <p:nvPr/>
        </p:nvSpPr>
        <p:spPr>
          <a:xfrm>
            <a:off x="1071720" y="928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кутник 3"/>
          <p:cNvSpPr/>
          <p:nvPr/>
        </p:nvSpPr>
        <p:spPr>
          <a:xfrm>
            <a:off x="428760" y="42876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Створення навчального курсу – дії бібліотек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(власні матеріали викладач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кутник 2"/>
          <p:cNvSpPr/>
          <p:nvPr/>
        </p:nvSpPr>
        <p:spPr>
          <a:xfrm>
            <a:off x="500040" y="2071800"/>
            <a:ext cx="7858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Створити запис про навчальний курс в базі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Закаталогізувати матері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- Загальний каталог біблі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База “Матеріали до курсів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  <a:ea typeface="Arial"/>
              </a:rPr>
              <a:t>Приєднати записи до відповідного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401320" cy="11588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ворити запис про навчальний курс в базі   “Матеріали до      курсів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rcRect l="0" t="0" r="47267" b="61916"/>
          <a:stretch/>
        </p:blipFill>
        <p:spPr>
          <a:xfrm>
            <a:off x="857160" y="2357280"/>
            <a:ext cx="7448760" cy="43038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292" name="Овал 5"/>
          <p:cNvSpPr/>
          <p:nvPr/>
        </p:nvSpPr>
        <p:spPr>
          <a:xfrm>
            <a:off x="2357280" y="3429000"/>
            <a:ext cx="35748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6"/>
          <p:cNvSpPr/>
          <p:nvPr/>
        </p:nvSpPr>
        <p:spPr>
          <a:xfrm>
            <a:off x="928800" y="5000760"/>
            <a:ext cx="1714320" cy="285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3680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357120" y="1362240"/>
            <a:ext cx="8358120" cy="54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rcRect l="0" t="0" r="0" b="22622"/>
          <a:stretch/>
        </p:blipFill>
        <p:spPr>
          <a:xfrm>
            <a:off x="714240" y="1857240"/>
            <a:ext cx="7732800" cy="478656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297" name="Прямокутник 7" descr=""/>
          <p:cNvPicPr/>
          <p:nvPr/>
        </p:nvPicPr>
        <p:blipFill>
          <a:blip r:embed="rId3"/>
          <a:stretch/>
        </p:blipFill>
        <p:spPr>
          <a:xfrm>
            <a:off x="469800" y="798480"/>
            <a:ext cx="7967880" cy="1170000"/>
          </a:xfrm>
          <a:prstGeom prst="rect">
            <a:avLst/>
          </a:prstGeom>
          <a:ln w="0">
            <a:noFill/>
          </a:ln>
        </p:spPr>
      </p:pic>
      <p:sp>
        <p:nvSpPr>
          <p:cNvPr id="298" name="Стрілка вправо з вирізом 12"/>
          <p:cNvSpPr/>
          <p:nvPr/>
        </p:nvSpPr>
        <p:spPr>
          <a:xfrm>
            <a:off x="4714920" y="1071720"/>
            <a:ext cx="357120" cy="14256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ілка вправо з вирізом 15"/>
          <p:cNvSpPr/>
          <p:nvPr/>
        </p:nvSpPr>
        <p:spPr>
          <a:xfrm>
            <a:off x="3000240" y="1428840"/>
            <a:ext cx="285840" cy="142920"/>
          </a:xfrm>
          <a:custGeom>
            <a:avLst/>
            <a:gdLst>
              <a:gd name="textAreaLeft" fmla="*/ 35640 w 285840"/>
              <a:gd name="textAreaRight" fmla="*/ 250200 w 28584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трілка вправо з вирізом 16"/>
          <p:cNvSpPr/>
          <p:nvPr/>
        </p:nvSpPr>
        <p:spPr>
          <a:xfrm>
            <a:off x="1643040" y="1428840"/>
            <a:ext cx="357120" cy="142920"/>
          </a:xfrm>
          <a:custGeom>
            <a:avLst/>
            <a:gdLst>
              <a:gd name="textAreaLeft" fmla="*/ 35640 w 357120"/>
              <a:gd name="textAreaRight" fmla="*/ 321480 w 35712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7"/>
          <p:cNvSpPr/>
          <p:nvPr/>
        </p:nvSpPr>
        <p:spPr>
          <a:xfrm>
            <a:off x="642960" y="3286080"/>
            <a:ext cx="85716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8"/>
          <p:cNvSpPr/>
          <p:nvPr/>
        </p:nvSpPr>
        <p:spPr>
          <a:xfrm>
            <a:off x="7786800" y="3286080"/>
            <a:ext cx="71424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9"/>
          <p:cNvSpPr/>
          <p:nvPr/>
        </p:nvSpPr>
        <p:spPr>
          <a:xfrm>
            <a:off x="2143080" y="5072040"/>
            <a:ext cx="10000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кутник 1"/>
          <p:cNvSpPr/>
          <p:nvPr/>
        </p:nvSpPr>
        <p:spPr>
          <a:xfrm>
            <a:off x="500040" y="1785960"/>
            <a:ext cx="81439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Надіслати повідомлення викл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2060"/>
                </a:solidFill>
                <a:latin typeface="Calibri"/>
              </a:rPr>
              <a:t>Активізувати навчальни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кутник 2"/>
          <p:cNvSpPr/>
          <p:nvPr/>
        </p:nvSpPr>
        <p:spPr>
          <a:xfrm>
            <a:off x="357120" y="9288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Наступні дії бібліотекаря 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кутник 2"/>
          <p:cNvSpPr/>
          <p:nvPr/>
        </p:nvSpPr>
        <p:spPr>
          <a:xfrm>
            <a:off x="357120" y="152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Термін створення нового курсу: </a:t>
            </a:r>
            <a:r>
              <a:rPr b="1" lang="uk-UA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3"/>
          <p:cNvSpPr/>
          <p:nvPr/>
        </p:nvSpPr>
        <p:spPr>
          <a:xfrm>
            <a:off x="785880" y="22860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5 робочих днів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 умови виникнення особливих обставин (велика кількість одночасних замовлень на створення курсів), що можуть спричинити затримку у термінах створення курсу, викладачі будуть повідомлені про це електронною поштою чи телефоном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кутник 2"/>
          <p:cNvSpPr/>
          <p:nvPr/>
        </p:nvSpPr>
        <p:spPr>
          <a:xfrm>
            <a:off x="357120" y="5716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Інформація для викла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rcRect l="8398" t="15642" r="9570" b="5271"/>
          <a:stretch/>
        </p:blipFill>
        <p:spPr>
          <a:xfrm>
            <a:off x="1285920" y="1494000"/>
            <a:ext cx="7072200" cy="536400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sp>
        <p:nvSpPr>
          <p:cNvPr id="310" name="Стрілка вгору 7"/>
          <p:cNvSpPr/>
          <p:nvPr/>
        </p:nvSpPr>
        <p:spPr>
          <a:xfrm>
            <a:off x="1571760" y="2357280"/>
            <a:ext cx="71280" cy="28584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0f6fc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8"/>
          <p:cNvSpPr/>
          <p:nvPr/>
        </p:nvSpPr>
        <p:spPr>
          <a:xfrm>
            <a:off x="6715080" y="6143760"/>
            <a:ext cx="1357200" cy="214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кутник 1"/>
          <p:cNvSpPr/>
          <p:nvPr/>
        </p:nvSpPr>
        <p:spPr>
          <a:xfrm>
            <a:off x="500040" y="178596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кутник 2"/>
          <p:cNvSpPr/>
          <p:nvPr/>
        </p:nvSpPr>
        <p:spPr>
          <a:xfrm>
            <a:off x="1714680" y="6429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99"/>
                </a:solidFill>
                <a:latin typeface="Calibri"/>
              </a:rPr>
              <a:t>2011 навчальний рік: </a:t>
            </a:r>
            <a:r>
              <a:rPr b="1" lang="uk-UA" sz="36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кутник 4"/>
          <p:cNvSpPr/>
          <p:nvPr/>
        </p:nvSpPr>
        <p:spPr>
          <a:xfrm>
            <a:off x="0" y="1285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22 викладачів – 28 навчальних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сняний триместр-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/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499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Літ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63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сінній триместр –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7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викладачі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1" lang="uk-UA" sz="2800" spc="-1" strike="noStrike">
                <a:solidFill>
                  <a:srgbClr val="cc0000"/>
                </a:solidFill>
                <a:latin typeface="Calibri"/>
              </a:rPr>
              <a:t>10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 (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9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чний –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38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2060"/>
                </a:solidFill>
                <a:uFillTx/>
                <a:latin typeface="Calibri"/>
              </a:rPr>
              <a:t>Загалом створено курсів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1721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. S. :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Це можуть бути курси, в яких викладач н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інює весь вміст (н.д. змінює лише роб. програму), і вони є активними, оскільки термін дії курсу залежить від встановленого адміністратором активного тримест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це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2600" y="2285640"/>
            <a:ext cx="8072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cервіс, що поєднує в собі інформацію про конкретний навчальний курс (викладач, назва курсу, триместр викладання, кафедра) та рекомендовані до навчальних курсів матеріали (з колекції бібліотеки, віддалені, Ваші власні, в т.ч. у вигляді презентацій, повнотекстових файлів, документи, передані в тимчасове користування до бібліотеки на час прочитання курсу тощо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633240" y="1109520"/>
            <a:ext cx="7785360" cy="927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3028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Якщо Ви потребуєте детальнішого інформування / навчання із питань, щодо послуги «Матеріали до курсів»,  звертайтесь за контактом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Курганська Анна</a:t>
            </a: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(kurganskaap[at]ukma.kiev[dot]ua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Constantia"/>
              </a:rPr>
              <a:t>120 кімната, 1-й корпус НаУК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92844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Призначення МК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Організація навчального проц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Constantia"/>
              </a:rPr>
              <a:t>на новому якісному рів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обов’язкові умов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7120" y="228564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7d9e8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АІБС, що використовується бібліотекою повинна підтримувати таку функці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БАЖАННЯ та ІНІЦІАТИВА викладач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Кваліфікований персонал бібліоте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студентів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Місце для вмісту 1"/>
          <p:cNvGrpSpPr/>
          <p:nvPr/>
        </p:nvGrpSpPr>
        <p:grpSpPr>
          <a:xfrm>
            <a:off x="341280" y="2693880"/>
            <a:ext cx="8358120" cy="2816280"/>
            <a:chOff x="341280" y="2693880"/>
            <a:chExt cx="8358120" cy="2816280"/>
          </a:xfrm>
        </p:grpSpPr>
        <p:pic>
          <p:nvPicPr>
            <p:cNvPr id="214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693880"/>
              <a:ext cx="835812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57120" y="2714760"/>
              <a:ext cx="832968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dbf5f9"/>
                  </a:solidFill>
                  <a:latin typeface="Constanti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214280" y="2428920"/>
          <a:ext cx="6572520" cy="2498760"/>
        </p:xfrm>
        <a:graphic>
          <a:graphicData uri="http://schemas.openxmlformats.org/drawingml/2006/table">
            <a:tbl>
              <a:tblPr/>
              <a:tblGrid>
                <a:gridCol w="65725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кономія часу та зуси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(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дозволяє легко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знаходити, замовляти, користуватися матеріалами</a:t>
                      </a: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Constantia"/>
                        </a:rPr>
                        <a:t>, які викладач рекомендує до опрацюванн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для викладачі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8" name="Місце для вмісту 2"/>
          <p:cNvGrpSpPr/>
          <p:nvPr/>
        </p:nvGrpSpPr>
        <p:grpSpPr>
          <a:xfrm>
            <a:off x="450720" y="1420920"/>
            <a:ext cx="2700360" cy="4443480"/>
            <a:chOff x="450720" y="1420920"/>
            <a:chExt cx="2700360" cy="4443480"/>
          </a:xfrm>
        </p:grpSpPr>
        <p:pic>
          <p:nvPicPr>
            <p:cNvPr id="219" name="Місце для вмісту 2" descr=""/>
            <p:cNvPicPr/>
            <p:nvPr/>
          </p:nvPicPr>
          <p:blipFill>
            <a:blip r:embed="rId1"/>
            <a:stretch/>
          </p:blipFill>
          <p:spPr>
            <a:xfrm>
              <a:off x="450720" y="1420920"/>
              <a:ext cx="2700360" cy="44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457200" y="1428840"/>
              <a:ext cx="2685960" cy="44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dbf5f9"/>
                  </a:solidFill>
                  <a:latin typeface="Calibri"/>
                </a:rPr>
                <a:t>   </a:t>
              </a:r>
              <a:r>
                <a:rPr b="1" lang="uk-UA" sz="2800" spc="-1" strike="noStrike">
                  <a:solidFill>
                    <a:srgbClr val="002060"/>
                  </a:solidFill>
                  <a:latin typeface="Calibri"/>
                </a:rPr>
                <a:t>Розміщення матеріалів до свого навчального курсу (поширення та надання швидкого і зручного доступу до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Місце для вмісту 3" descr=""/>
          <p:cNvPicPr/>
          <p:nvPr/>
        </p:nvPicPr>
        <p:blipFill>
          <a:blip r:embed="rId2"/>
          <a:stretch/>
        </p:blipFill>
        <p:spPr>
          <a:xfrm>
            <a:off x="4486320" y="-42840"/>
            <a:ext cx="4803840" cy="7486560"/>
          </a:xfrm>
          <a:prstGeom prst="rect">
            <a:avLst/>
          </a:prstGeom>
          <a:ln w="0">
            <a:noFill/>
          </a:ln>
        </p:spPr>
      </p:pic>
      <p:cxnSp>
        <p:nvCxnSpPr>
          <p:cNvPr id="222" name="Пряма зі стрілкою 6"/>
          <p:cNvCxnSpPr/>
          <p:nvPr/>
        </p:nvCxnSpPr>
        <p:spPr>
          <a:xfrm flipV="1">
            <a:off x="3071880" y="1999440"/>
            <a:ext cx="1643760" cy="13582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3" name="Пряма зі стрілкою 14"/>
          <p:cNvCxnSpPr/>
          <p:nvPr/>
        </p:nvCxnSpPr>
        <p:spPr>
          <a:xfrm>
            <a:off x="3071880" y="3357720"/>
            <a:ext cx="1929600" cy="1072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24" name="Пряма зі стрілкою 16"/>
          <p:cNvCxnSpPr/>
          <p:nvPr/>
        </p:nvCxnSpPr>
        <p:spPr>
          <a:xfrm>
            <a:off x="4285800" y="3249720"/>
            <a:ext cx="25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Пряма зі стрілкою 21"/>
          <p:cNvCxnSpPr/>
          <p:nvPr/>
        </p:nvCxnSpPr>
        <p:spPr>
          <a:xfrm flipV="1">
            <a:off x="3071520" y="3214080"/>
            <a:ext cx="1857960" cy="1436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14240"/>
            <a:ext cx="81867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Матеріали до курсів – </a:t>
            </a:r>
            <a:br>
              <a:rPr sz="3200"/>
            </a:b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ля університет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27" name="Місце для вмісту 1"/>
          <p:cNvGrpSpPr/>
          <p:nvPr/>
        </p:nvGrpSpPr>
        <p:grpSpPr>
          <a:xfrm>
            <a:off x="341280" y="2341440"/>
            <a:ext cx="8358120" cy="1602000"/>
            <a:chOff x="341280" y="2341440"/>
            <a:chExt cx="8358120" cy="1602000"/>
          </a:xfrm>
        </p:grpSpPr>
        <p:pic>
          <p:nvPicPr>
            <p:cNvPr id="228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341440"/>
              <a:ext cx="835812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7120" y="2357280"/>
              <a:ext cx="832968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Реальні дані “книгозабезпеченості” навчальних курсів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Calibri"/>
              </a:rPr>
              <a:t>Доступ  до М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1" name="Місце для вмісту 1"/>
          <p:cNvGrpSpPr/>
          <p:nvPr/>
        </p:nvGrpSpPr>
        <p:grpSpPr>
          <a:xfrm>
            <a:off x="341280" y="2127240"/>
            <a:ext cx="8358120" cy="2457360"/>
            <a:chOff x="341280" y="2127240"/>
            <a:chExt cx="8358120" cy="2457360"/>
          </a:xfrm>
        </p:grpSpPr>
        <p:pic>
          <p:nvPicPr>
            <p:cNvPr id="232" name="Місце для вмісту 1" descr=""/>
            <p:cNvPicPr/>
            <p:nvPr/>
          </p:nvPicPr>
          <p:blipFill>
            <a:blip r:embed="rId1"/>
            <a:stretch/>
          </p:blipFill>
          <p:spPr>
            <a:xfrm>
              <a:off x="341280" y="2127240"/>
              <a:ext cx="83581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57120" y="2143080"/>
              <a:ext cx="832968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Constantia"/>
                </a:rPr>
                <a:t> 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електронний каталог бібліотеки </a:t>
              </a:r>
              <a:r>
                <a:rPr b="1" lang="en-GB" sz="2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http://194.44.142.55/F/?func=find-b-0&amp;local_base=cour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Через головну сторінку бібліотеки (</a:t>
              </a:r>
              <a:r>
                <a:rPr b="1" lang="uk-UA" sz="2800" spc="-1" strike="noStrike">
                  <a:solidFill>
                    <a:srgbClr val="c00000"/>
                  </a:solidFill>
                  <a:latin typeface="Constantia"/>
                </a:rPr>
                <a:t>вікно пошуку, закладка ”Матеріали до курсів”</a:t>
              </a:r>
              <a:r>
                <a:rPr b="1" lang="uk-UA" sz="2800" spc="-1" strike="noStrike">
                  <a:solidFill>
                    <a:srgbClr val="002060"/>
                  </a:solidFill>
                  <a:latin typeface="Constantia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90000"/>
                </a:lnSpc>
                <a:spcBef>
                  <a:spcPts val="7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9:21:06Z</dcterms:created>
  <dc:creator>lib</dc:creator>
  <dc:description/>
  <dc:language>en-US</dc:language>
  <cp:lastModifiedBy>lib</cp:lastModifiedBy>
  <dcterms:modified xsi:type="dcterms:W3CDTF">2011-09-21T08:17:00Z</dcterms:modified>
  <cp:revision>124</cp:revision>
  <dc:subject/>
  <dc:title>Матеріали до курсів –  на допомогу навчальному процесу</dc:title>
</cp:coreProperties>
</file>