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C809-B2CC-4396-A4C7-A2200B12DFD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98B8-2A93-40B3-A111-DB6F3BA1898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696B-F27B-4121-8746-5E8823402A9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D3F-A30D-4A5D-98DC-A1AEA45E3C2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ABA-3492-4E16-9B2D-9D1CE01BD2C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5C5-50DA-4FB5-92D6-7E74F694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5CA-A741-4BD4-BF72-2C47CC44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3D5-7044-4653-8D52-23C99FDD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029-A91B-40C3-A227-47D52201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FAF-E940-4A78-A4C5-FAB19EDB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310-09F7-480C-87F9-9462929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4B8-B630-434D-8DE5-6AE67430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ADDA-227C-470D-A933-50160F5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F2F0-4413-48B2-BF41-FE63C25C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D29C-8BF6-4452-B455-DFF72FAC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3780-1908-46B7-9B88-B79817F6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A14-30C5-4B0D-BF88-7898E756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8A9-D927-4478-A679-8781D96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879-CD33-45D8-93B1-028F283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790-3E0D-470C-BEA0-EAB4C1E2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2F4-A21F-4626-8DB3-C9554D25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053E-6ADB-43A7-A60D-918B963B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02FA-536C-4EBE-8CA5-74710116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9492-92E0-4CAB-8BAF-B607110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9B5D-F0C6-4B23-9FF9-566317D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1AA5-36C2-4DAD-8377-EAC97FD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92B6-6BBC-46A1-ACC8-51E7928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505-0D08-4874-A5CE-61C97E1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EAD2-0E1D-4BF8-9F76-0BBF2BB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1E95-91F8-44A1-9DCD-68CCD39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3DCA-5AC0-48E7-95E5-F89C3A3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8910-37F6-4C85-BF3D-FF5D6BE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0075-970E-4566-9B28-3311ECA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7C3A-0D73-4C81-9217-AA594113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D6D2-FAD5-4F6C-9DF6-9D5531A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7F3E-273B-48AC-984C-A6BFE01C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66B3-1770-41E7-B29E-7B6E0F1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592E-3BBC-47FE-A82C-772AF801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733-A792-49AF-8CF8-B42246CB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86FDE-C4AE-404C-849E-A3206699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3BA0-3C1B-43BA-B144-28FF81D0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6E9B-A773-455E-A909-718A1FA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CF81-30CC-4F94-BBF2-4207250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F6E4-E58B-4184-BB24-D151A3F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2912-1C71-4FFA-A67F-58AA4FC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4F2F-FC64-4DFB-999E-CC2C40A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3B48-6CE1-4EF9-A1E9-8F6845F3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9156-F03A-4634-A369-CCA4FAEC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875-5D51-41ED-BAEB-26D11DA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B4C-6B25-411F-B879-E49DC51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491-C032-4492-B4B6-DBED4B02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C10-00D8-4ED1-A7DF-6D56607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367-445A-4073-A511-23192634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84C-1B8E-482E-A928-DDBD3820C5E6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69D1-0C59-4E6D-9786-943872FDE97F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A2A-E830-4A1E-9688-DF076D97CDC6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з одним вирізаним округленим кут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й трикут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іліні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іліні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299-792B-4887-AE93-6D3BD8327D77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321760" cy="2414880"/>
          </a:xfrm>
          <a:prstGeom prst="rect">
            <a:avLst/>
          </a:prstGeom>
          <a:ln w="0">
            <a:noFill/>
          </a:ln>
        </p:spPr>
      </p:pic>
      <p:pic>
        <p:nvPicPr>
          <p:cNvPr id="203" name="Підзаголовок 2" descr=""/>
          <p:cNvPicPr/>
          <p:nvPr/>
        </p:nvPicPr>
        <p:blipFill>
          <a:blip r:embed="rId2"/>
          <a:stretch/>
        </p:blipFill>
        <p:spPr>
          <a:xfrm>
            <a:off x="450720" y="3597120"/>
            <a:ext cx="8455320" cy="18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оради   користувачеві :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 Як знайти і  скористатися “Матеріалами до курсів”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"/>
          <p:cNvPicPr/>
          <p:nvPr/>
        </p:nvPicPr>
        <p:blipFill>
          <a:blip r:embed="rId1"/>
          <a:srcRect l="0" t="13767" r="20840" b="30447"/>
          <a:stretch/>
        </p:blipFill>
        <p:spPr>
          <a:xfrm>
            <a:off x="928800" y="1285920"/>
            <a:ext cx="7468920" cy="47228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rcRect l="0" t="2196" r="24416" b="31152"/>
          <a:stretch/>
        </p:blipFill>
        <p:spPr>
          <a:xfrm>
            <a:off x="1000080" y="920880"/>
            <a:ext cx="7143840" cy="5038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rcRect l="0" t="2196" r="0" b="4784"/>
          <a:stretch/>
        </p:blipFill>
        <p:spPr>
          <a:xfrm>
            <a:off x="928800" y="857160"/>
            <a:ext cx="7072200" cy="52624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38" name="Овал 5"/>
          <p:cNvSpPr/>
          <p:nvPr/>
        </p:nvSpPr>
        <p:spPr>
          <a:xfrm>
            <a:off x="6000840" y="3571920"/>
            <a:ext cx="1428840" cy="714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 сполучна лінія 7"/>
          <p:cNvSpPr/>
          <p:nvPr/>
        </p:nvSpPr>
        <p:spPr>
          <a:xfrm>
            <a:off x="2428920" y="2786040"/>
            <a:ext cx="8571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rcRect l="0" t="5127" r="0" b="4784"/>
          <a:stretch/>
        </p:blipFill>
        <p:spPr>
          <a:xfrm>
            <a:off x="1214280" y="928800"/>
            <a:ext cx="7226280" cy="5208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241" name="Овал 2"/>
          <p:cNvSpPr/>
          <p:nvPr/>
        </p:nvSpPr>
        <p:spPr>
          <a:xfrm>
            <a:off x="1285920" y="5000760"/>
            <a:ext cx="257184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 сполучна лінія 4"/>
          <p:cNvSpPr/>
          <p:nvPr/>
        </p:nvSpPr>
        <p:spPr>
          <a:xfrm>
            <a:off x="1285920" y="4786200"/>
            <a:ext cx="7000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rcRect l="0" t="13671" r="9180" b="3322"/>
          <a:stretch/>
        </p:blipFill>
        <p:spPr>
          <a:xfrm>
            <a:off x="642960" y="928800"/>
            <a:ext cx="7786800" cy="56926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0717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1768320" y="1298520"/>
            <a:ext cx="5669280" cy="779400"/>
          </a:xfrm>
          <a:prstGeom prst="rect">
            <a:avLst/>
          </a:prstGeom>
          <a:ln w="0">
            <a:noFill/>
          </a:ln>
        </p:spPr>
      </p:pic>
      <p:sp>
        <p:nvSpPr>
          <p:cNvPr id="247" name="Oval 12"/>
          <p:cNvSpPr/>
          <p:nvPr/>
        </p:nvSpPr>
        <p:spPr>
          <a:xfrm>
            <a:off x="6429240" y="2071800"/>
            <a:ext cx="844560" cy="2379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3"/>
          <a:srcRect l="0" t="0" r="0" b="30558"/>
          <a:stretch/>
        </p:blipFill>
        <p:spPr>
          <a:xfrm>
            <a:off x="928800" y="2143080"/>
            <a:ext cx="7329240" cy="407196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49" name="Oval 12"/>
          <p:cNvSpPr/>
          <p:nvPr/>
        </p:nvSpPr>
        <p:spPr>
          <a:xfrm>
            <a:off x="2286000" y="4643280"/>
            <a:ext cx="1782720" cy="8575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1000080" y="5500800"/>
            <a:ext cx="581040" cy="207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6572160" y="2928960"/>
            <a:ext cx="785880" cy="2858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685800" y="1295280"/>
            <a:ext cx="7601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ідібрати в електронному каталозі потрібні матері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928800" y="2143080"/>
            <a:ext cx="7065720" cy="44578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55" name="Прямокутна виноска 6"/>
          <p:cNvSpPr/>
          <p:nvPr/>
        </p:nvSpPr>
        <p:spPr>
          <a:xfrm>
            <a:off x="1571760" y="2428920"/>
            <a:ext cx="1214280" cy="61272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ff0000"/>
                </a:solidFill>
                <a:latin typeface="Constantia"/>
              </a:rPr>
              <a:t>Вибрати і покласти на “Моя е-полиця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ашивка 7"/>
          <p:cNvSpPr/>
          <p:nvPr/>
        </p:nvSpPr>
        <p:spPr>
          <a:xfrm flipV="1" rot="5230800">
            <a:off x="1137960" y="3087360"/>
            <a:ext cx="233280" cy="210960"/>
          </a:xfrm>
          <a:custGeom>
            <a:avLst/>
            <a:gdLst>
              <a:gd name="textAreaLeft" fmla="*/ 0 w 233280"/>
              <a:gd name="textAreaRight" fmla="*/ 233640 w 23328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29" y="0"/>
                </a:lnTo>
                <a:lnTo>
                  <a:pt x="21600" y="10800"/>
                </a:lnTo>
                <a:lnTo>
                  <a:pt x="11829" y="21600"/>
                </a:lnTo>
                <a:lnTo>
                  <a:pt x="0" y="21600"/>
                </a:lnTo>
                <a:lnTo>
                  <a:pt x="9771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ашивка 8"/>
          <p:cNvSpPr/>
          <p:nvPr/>
        </p:nvSpPr>
        <p:spPr>
          <a:xfrm flipV="1" rot="5230800">
            <a:off x="1137960" y="3516120"/>
            <a:ext cx="233280" cy="210960"/>
          </a:xfrm>
          <a:custGeom>
            <a:avLst/>
            <a:gdLst>
              <a:gd name="textAreaLeft" fmla="*/ 0 w 233280"/>
              <a:gd name="textAreaRight" fmla="*/ 233640 w 23328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29" y="0"/>
                </a:lnTo>
                <a:lnTo>
                  <a:pt x="21600" y="10800"/>
                </a:lnTo>
                <a:lnTo>
                  <a:pt x="11829" y="21600"/>
                </a:lnTo>
                <a:lnTo>
                  <a:pt x="0" y="21600"/>
                </a:lnTo>
                <a:lnTo>
                  <a:pt x="9771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93560" y="19512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68580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Надіслати файл відповідальному бібліотекар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(вказавши своє ПІП, назву курсу, тр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rcRect l="0" t="10254" r="11524" b="9914"/>
          <a:stretch/>
        </p:blipFill>
        <p:spPr>
          <a:xfrm>
            <a:off x="928800" y="2075040"/>
            <a:ext cx="6626160" cy="4782960"/>
          </a:xfrm>
          <a:prstGeom prst="rect">
            <a:avLst/>
          </a:prstGeom>
          <a:ln w="28440">
            <a:solidFill>
              <a:srgbClr val="0f6fc6"/>
            </a:solidFill>
            <a:miter/>
          </a:ln>
        </p:spPr>
      </p:pic>
      <p:sp>
        <p:nvSpPr>
          <p:cNvPr id="261" name="Овал 8"/>
          <p:cNvSpPr/>
          <p:nvPr/>
        </p:nvSpPr>
        <p:spPr>
          <a:xfrm>
            <a:off x="2071800" y="6072120"/>
            <a:ext cx="30002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 сполучна лінія 11"/>
          <p:cNvSpPr/>
          <p:nvPr/>
        </p:nvSpPr>
        <p:spPr>
          <a:xfrm>
            <a:off x="1785960" y="3000240"/>
            <a:ext cx="1192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ашивка 12"/>
          <p:cNvSpPr/>
          <p:nvPr/>
        </p:nvSpPr>
        <p:spPr>
          <a:xfrm flipV="1" rot="5230800">
            <a:off x="1050840" y="6525720"/>
            <a:ext cx="262080" cy="220680"/>
          </a:xfrm>
          <a:custGeom>
            <a:avLst/>
            <a:gdLst>
              <a:gd name="textAreaLeft" fmla="*/ 0 w 262080"/>
              <a:gd name="textAreaRight" fmla="*/ 262440 w 26208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502" y="0"/>
                </a:lnTo>
                <a:lnTo>
                  <a:pt x="21600" y="10800"/>
                </a:lnTo>
                <a:lnTo>
                  <a:pt x="12502" y="21600"/>
                </a:lnTo>
                <a:lnTo>
                  <a:pt x="0" y="21600"/>
                </a:lnTo>
                <a:lnTo>
                  <a:pt x="9098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13"/>
          <p:cNvSpPr/>
          <p:nvPr/>
        </p:nvSpPr>
        <p:spPr>
          <a:xfrm>
            <a:off x="3214800" y="2857680"/>
            <a:ext cx="21420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4"/>
          <p:cNvSpPr/>
          <p:nvPr/>
        </p:nvSpPr>
        <p:spPr>
          <a:xfrm>
            <a:off x="1214280" y="328608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68580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Отримавши лист від викл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rcRect l="0" t="49806" r="51744" b="20168"/>
          <a:stretch/>
        </p:blipFill>
        <p:spPr>
          <a:xfrm>
            <a:off x="785880" y="1908000"/>
            <a:ext cx="7215120" cy="35928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1867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Місце для вмісту 1" descr=""/>
          <p:cNvPicPr/>
          <p:nvPr/>
        </p:nvPicPr>
        <p:blipFill>
          <a:blip r:embed="rId1"/>
          <a:stretch/>
        </p:blipFill>
        <p:spPr>
          <a:xfrm>
            <a:off x="360360" y="1341360"/>
            <a:ext cx="83628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"/>
          <p:cNvPicPr/>
          <p:nvPr/>
        </p:nvPicPr>
        <p:blipFill>
          <a:blip r:embed="rId1"/>
          <a:srcRect l="0" t="2344" r="56810" b="62488"/>
          <a:stretch/>
        </p:blipFill>
        <p:spPr>
          <a:xfrm>
            <a:off x="1071720" y="2000160"/>
            <a:ext cx="7235640" cy="47134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270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685800" y="178596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2"/>
          <a:stretch/>
        </p:blipFill>
        <p:spPr>
          <a:xfrm>
            <a:off x="420840" y="665280"/>
            <a:ext cx="817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85800" y="178596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712800" y="506520"/>
            <a:ext cx="8211960" cy="1011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rcRect l="1757" t="2196" r="31447" b="33381"/>
          <a:stretch/>
        </p:blipFill>
        <p:spPr>
          <a:xfrm>
            <a:off x="1428840" y="1928880"/>
            <a:ext cx="6500880" cy="47797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277" name="Прямокутник 7"/>
          <p:cNvSpPr/>
          <p:nvPr/>
        </p:nvSpPr>
        <p:spPr>
          <a:xfrm>
            <a:off x="1500120" y="15001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йти в електронний каталог НБ НаУК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8"/>
          <p:cNvSpPr/>
          <p:nvPr/>
        </p:nvSpPr>
        <p:spPr>
          <a:xfrm>
            <a:off x="1857240" y="1928880"/>
            <a:ext cx="18576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кутник 1"/>
          <p:cNvSpPr/>
          <p:nvPr/>
        </p:nvSpPr>
        <p:spPr>
          <a:xfrm>
            <a:off x="500040" y="2286000"/>
            <a:ext cx="8143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Викладач приносить до бібліотеки власні матеріали 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(паперові чи електрон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кутник 2"/>
          <p:cNvSpPr/>
          <p:nvPr/>
        </p:nvSpPr>
        <p:spPr>
          <a:xfrm>
            <a:off x="357120" y="3571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Створення навчального курсу – 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ії викладача </a:t>
            </a:r>
            <a:br>
              <a:rPr sz="3200"/>
            </a:b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(власні матеріали викл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Пряма зі стрілкою 4"/>
          <p:cNvCxnSpPr>
            <a:endCxn id="282" idx="0"/>
          </p:cNvCxnSpPr>
          <p:nvPr/>
        </p:nvCxnSpPr>
        <p:spPr>
          <a:xfrm flipH="1">
            <a:off x="1749240" y="3357720"/>
            <a:ext cx="110880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" name="Пряма зі стрілкою 6"/>
          <p:cNvCxnSpPr>
            <a:endCxn id="284" idx="1"/>
          </p:cNvCxnSpPr>
          <p:nvPr/>
        </p:nvCxnSpPr>
        <p:spPr>
          <a:xfrm>
            <a:off x="3357720" y="5500800"/>
            <a:ext cx="20718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" name="Прямокутник 7"/>
          <p:cNvSpPr/>
          <p:nvPr/>
        </p:nvSpPr>
        <p:spPr>
          <a:xfrm>
            <a:off x="214200" y="4786200"/>
            <a:ext cx="3071880" cy="13575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Бібліотекар сканує чи долучає  до заг.  фонду  примірни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(за бажанням виклад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кутник 8"/>
          <p:cNvSpPr/>
          <p:nvPr/>
        </p:nvSpPr>
        <p:spPr>
          <a:xfrm>
            <a:off x="5429160" y="4857840"/>
            <a:ext cx="2500560" cy="12859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Див. 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 зі стрілкою 20"/>
          <p:cNvCxnSpPr>
            <a:endCxn id="284" idx="0"/>
          </p:cNvCxnSpPr>
          <p:nvPr/>
        </p:nvCxnSpPr>
        <p:spPr>
          <a:xfrm>
            <a:off x="5713920" y="3357360"/>
            <a:ext cx="9658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кутник 1"/>
          <p:cNvSpPr/>
          <p:nvPr/>
        </p:nvSpPr>
        <p:spPr>
          <a:xfrm>
            <a:off x="1071720" y="9288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кутник 3"/>
          <p:cNvSpPr/>
          <p:nvPr/>
        </p:nvSpPr>
        <p:spPr>
          <a:xfrm>
            <a:off x="428760" y="42876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Створення навчального курсу – дії бібліотек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(власні матеріали викл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кутник 2"/>
          <p:cNvSpPr/>
          <p:nvPr/>
        </p:nvSpPr>
        <p:spPr>
          <a:xfrm>
            <a:off x="500040" y="2071800"/>
            <a:ext cx="7858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Створити запис про навчальний курс в базі “Матеріали до курсі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Закаталогізувати матері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- Загальний каталог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База “Матеріали до курсі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Приєднати записи до відповідного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401320" cy="1158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357120" y="1362240"/>
            <a:ext cx="83581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ворити запис про навчальний курс в базі   “Матеріали до      курсі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rcRect l="0" t="0" r="47267" b="61916"/>
          <a:stretch/>
        </p:blipFill>
        <p:spPr>
          <a:xfrm>
            <a:off x="857160" y="2357280"/>
            <a:ext cx="7448760" cy="43038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92" name="Овал 5"/>
          <p:cNvSpPr/>
          <p:nvPr/>
        </p:nvSpPr>
        <p:spPr>
          <a:xfrm>
            <a:off x="2357280" y="3429000"/>
            <a:ext cx="35748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6"/>
          <p:cNvSpPr/>
          <p:nvPr/>
        </p:nvSpPr>
        <p:spPr>
          <a:xfrm>
            <a:off x="928800" y="5000760"/>
            <a:ext cx="171432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36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357120" y="1362240"/>
            <a:ext cx="83581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rcRect l="0" t="0" r="0" b="22622"/>
          <a:stretch/>
        </p:blipFill>
        <p:spPr>
          <a:xfrm>
            <a:off x="714240" y="1857240"/>
            <a:ext cx="7732800" cy="478656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297" name="Прямокутник 7" descr=""/>
          <p:cNvPicPr/>
          <p:nvPr/>
        </p:nvPicPr>
        <p:blipFill>
          <a:blip r:embed="rId3"/>
          <a:stretch/>
        </p:blipFill>
        <p:spPr>
          <a:xfrm>
            <a:off x="469800" y="798480"/>
            <a:ext cx="796788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Стрілка вправо з вирізом 12"/>
          <p:cNvSpPr/>
          <p:nvPr/>
        </p:nvSpPr>
        <p:spPr>
          <a:xfrm>
            <a:off x="4714920" y="1071720"/>
            <a:ext cx="357120" cy="142560"/>
          </a:xfrm>
          <a:custGeom>
            <a:avLst/>
            <a:gdLst>
              <a:gd name="textAreaLeft" fmla="*/ 35640 w 357120"/>
              <a:gd name="textAreaRight" fmla="*/ 321480 w 3571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ілка вправо з вирізом 15"/>
          <p:cNvSpPr/>
          <p:nvPr/>
        </p:nvSpPr>
        <p:spPr>
          <a:xfrm>
            <a:off x="3000240" y="1428840"/>
            <a:ext cx="285840" cy="142920"/>
          </a:xfrm>
          <a:custGeom>
            <a:avLst/>
            <a:gdLst>
              <a:gd name="textAreaLeft" fmla="*/ 35640 w 285840"/>
              <a:gd name="textAreaRight" fmla="*/ 250200 w 2858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ілка вправо з вирізом 16"/>
          <p:cNvSpPr/>
          <p:nvPr/>
        </p:nvSpPr>
        <p:spPr>
          <a:xfrm>
            <a:off x="1643040" y="1428840"/>
            <a:ext cx="357120" cy="142920"/>
          </a:xfrm>
          <a:custGeom>
            <a:avLst/>
            <a:gdLst>
              <a:gd name="textAreaLeft" fmla="*/ 35640 w 357120"/>
              <a:gd name="textAreaRight" fmla="*/ 321480 w 3571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7"/>
          <p:cNvSpPr/>
          <p:nvPr/>
        </p:nvSpPr>
        <p:spPr>
          <a:xfrm>
            <a:off x="642960" y="3286080"/>
            <a:ext cx="85716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8"/>
          <p:cNvSpPr/>
          <p:nvPr/>
        </p:nvSpPr>
        <p:spPr>
          <a:xfrm>
            <a:off x="7786800" y="3286080"/>
            <a:ext cx="71424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9"/>
          <p:cNvSpPr/>
          <p:nvPr/>
        </p:nvSpPr>
        <p:spPr>
          <a:xfrm>
            <a:off x="2143080" y="5072040"/>
            <a:ext cx="10000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кутник 1"/>
          <p:cNvSpPr/>
          <p:nvPr/>
        </p:nvSpPr>
        <p:spPr>
          <a:xfrm>
            <a:off x="500040" y="1785960"/>
            <a:ext cx="8143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Надіслати повідомлення викл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ктивізувати навчальни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кутник 2"/>
          <p:cNvSpPr/>
          <p:nvPr/>
        </p:nvSpPr>
        <p:spPr>
          <a:xfrm>
            <a:off x="357120" y="9288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Наступні дії бібліотекаря :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кутник 2"/>
          <p:cNvSpPr/>
          <p:nvPr/>
        </p:nvSpPr>
        <p:spPr>
          <a:xfrm>
            <a:off x="357120" y="152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Термін створення нового курсу: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3"/>
          <p:cNvSpPr/>
          <p:nvPr/>
        </p:nvSpPr>
        <p:spPr>
          <a:xfrm>
            <a:off x="785880" y="22860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5 робочих днів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 умови виникнення особливих обставин (велика кількість одночасних замовлень на створення курсів), що можуть спричинити затримку у термінах створення курсу, викладачі будуть повідомлені про це електронною поштою чи телефоно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кутник 2"/>
          <p:cNvSpPr/>
          <p:nvPr/>
        </p:nvSpPr>
        <p:spPr>
          <a:xfrm>
            <a:off x="357120" y="5716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Інформація для викла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rcRect l="8398" t="15642" r="9570" b="5271"/>
          <a:stretch/>
        </p:blipFill>
        <p:spPr>
          <a:xfrm>
            <a:off x="1285920" y="1494000"/>
            <a:ext cx="7072200" cy="53640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310" name="Стрілка вгору 7"/>
          <p:cNvSpPr/>
          <p:nvPr/>
        </p:nvSpPr>
        <p:spPr>
          <a:xfrm>
            <a:off x="1571760" y="2357280"/>
            <a:ext cx="7128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8"/>
          <p:cNvSpPr/>
          <p:nvPr/>
        </p:nvSpPr>
        <p:spPr>
          <a:xfrm>
            <a:off x="6715080" y="6143760"/>
            <a:ext cx="135720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кутник 1"/>
          <p:cNvSpPr/>
          <p:nvPr/>
        </p:nvSpPr>
        <p:spPr>
          <a:xfrm>
            <a:off x="500040" y="17859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кутник 2"/>
          <p:cNvSpPr/>
          <p:nvPr/>
        </p:nvSpPr>
        <p:spPr>
          <a:xfrm>
            <a:off x="1714680" y="642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alibri"/>
              </a:rPr>
              <a:t>2011 навчальний рік: </a:t>
            </a:r>
            <a:r>
              <a:rPr b="1" lang="uk-UA" sz="36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кутник 4"/>
          <p:cNvSpPr/>
          <p:nvPr/>
        </p:nvSpPr>
        <p:spPr>
          <a:xfrm>
            <a:off x="0" y="1285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22 викладачів – 28 навчальних кур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сняний триместр-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0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в/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3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499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Літній триместр –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5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63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інній триместр –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7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10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921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ічний –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38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</a:rPr>
              <a:t>Загалом створено курсів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721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. S. :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Це можуть бути курси, в яких викладач н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інює весь вміст (н.д. змінює лише роб. програму), і вони є активними, оскільки термін дії курсу залежить від встановленого адміністратором активного тримест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це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2600" y="2285640"/>
            <a:ext cx="80722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cервіс, що поєднує в собі інформацію про конкретний навчальний курс (викладач, назва курсу, триместр викладання, кафедра) та рекомендовані до навчальних курсів матеріали (з колекції бібліотеки, віддалені, Ваші власні, в т.ч. у вигляді презентацій, повнотекстових файлів, документи, передані в тимчасове користування до бібліотеки на час прочитання курсу тощо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633240" y="1109520"/>
            <a:ext cx="7785360" cy="927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3028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Якщо Ви потребуєте детальнішого інформування / навчання із питань, щодо послуги «Матеріали до курсів»,  звертайтесь за контактом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Курганська Анна</a:t>
            </a: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(kurganskaap[at]ukma.kiev[dot]ua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120 кімната, 1-й корпус НаУК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ризначення МК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uk-UA" sz="2800" spc="-1" strike="noStrike">
                <a:solidFill>
                  <a:srgbClr val="002060"/>
                </a:solidFill>
                <a:latin typeface="Constantia"/>
              </a:rPr>
              <a:t>Організація навчального процес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onstantia"/>
              </a:rPr>
              <a:t>на новому якісному рів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обов’язкові умов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7120" y="2285640"/>
            <a:ext cx="8329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7d9e8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АІБС, що використовується бібліотекою повинна підтримувати таку функці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БАЖАННЯ та ІНІЦІАТИВА викладач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Кваліфікований персонал бібліоте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1867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ля студентів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Місце для вмісту 1"/>
          <p:cNvGrpSpPr/>
          <p:nvPr/>
        </p:nvGrpSpPr>
        <p:grpSpPr>
          <a:xfrm>
            <a:off x="341280" y="2693880"/>
            <a:ext cx="8358120" cy="2816280"/>
            <a:chOff x="341280" y="2693880"/>
            <a:chExt cx="8358120" cy="2816280"/>
          </a:xfrm>
        </p:grpSpPr>
        <p:pic>
          <p:nvPicPr>
            <p:cNvPr id="214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693880"/>
              <a:ext cx="835812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57120" y="2714760"/>
              <a:ext cx="832968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dbf5f9"/>
                  </a:solidFill>
                  <a:latin typeface="Constanti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1214280" y="2428920"/>
          <a:ext cx="6572520" cy="249876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ономія часу та зус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(</a:t>
                      </a:r>
                      <a:r>
                        <a:rPr b="1" lang="en-GB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озволяє легко</a:t>
                      </a: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знаходити, замовляти, користуватися матеріалами</a:t>
                      </a: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, які викладач рекомендує до опрацюванн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 для викладачі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8" name="Місце для вмісту 2"/>
          <p:cNvGrpSpPr/>
          <p:nvPr/>
        </p:nvGrpSpPr>
        <p:grpSpPr>
          <a:xfrm>
            <a:off x="450720" y="1420920"/>
            <a:ext cx="2700360" cy="4443480"/>
            <a:chOff x="450720" y="1420920"/>
            <a:chExt cx="2700360" cy="4443480"/>
          </a:xfrm>
        </p:grpSpPr>
        <p:pic>
          <p:nvPicPr>
            <p:cNvPr id="219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450720" y="1420920"/>
              <a:ext cx="270036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1428840"/>
              <a:ext cx="268596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dbf5f9"/>
                  </a:solidFill>
                  <a:latin typeface="Calibri"/>
                </a:rPr>
                <a:t>   </a:t>
              </a:r>
              <a:r>
                <a:rPr b="1" lang="uk-UA" sz="2800" spc="-1" strike="noStrike">
                  <a:solidFill>
                    <a:srgbClr val="002060"/>
                  </a:solidFill>
                  <a:latin typeface="Calibri"/>
                </a:rPr>
                <a:t>Розміщення матеріалів до свого навчального курсу (поширення та надання швидкого і зручного доступу до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Місце для вмісту 3" descr=""/>
          <p:cNvPicPr/>
          <p:nvPr/>
        </p:nvPicPr>
        <p:blipFill>
          <a:blip r:embed="rId2"/>
          <a:stretch/>
        </p:blipFill>
        <p:spPr>
          <a:xfrm>
            <a:off x="4486320" y="-42840"/>
            <a:ext cx="4803840" cy="7486560"/>
          </a:xfrm>
          <a:prstGeom prst="rect">
            <a:avLst/>
          </a:prstGeom>
          <a:ln w="0">
            <a:noFill/>
          </a:ln>
        </p:spPr>
      </p:pic>
      <p:cxnSp>
        <p:nvCxnSpPr>
          <p:cNvPr id="222" name="Пряма зі стрілкою 6"/>
          <p:cNvCxnSpPr/>
          <p:nvPr/>
        </p:nvCxnSpPr>
        <p:spPr>
          <a:xfrm flipV="1">
            <a:off x="3071880" y="1999440"/>
            <a:ext cx="1643760" cy="13582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3" name="Пряма зі стрілкою 14"/>
          <p:cNvCxnSpPr/>
          <p:nvPr/>
        </p:nvCxnSpPr>
        <p:spPr>
          <a:xfrm>
            <a:off x="3071880" y="3357720"/>
            <a:ext cx="1929600" cy="1072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4" name="Пряма зі стрілкою 16"/>
          <p:cNvCxnSpPr/>
          <p:nvPr/>
        </p:nvCxnSpPr>
        <p:spPr>
          <a:xfrm>
            <a:off x="4285800" y="3249720"/>
            <a:ext cx="25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Пряма зі стрілкою 21"/>
          <p:cNvCxnSpPr/>
          <p:nvPr/>
        </p:nvCxnSpPr>
        <p:spPr>
          <a:xfrm flipV="1">
            <a:off x="3071520" y="3214080"/>
            <a:ext cx="1857960" cy="1436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1867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 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ля університет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27" name="Місце для вмісту 1"/>
          <p:cNvGrpSpPr/>
          <p:nvPr/>
        </p:nvGrpSpPr>
        <p:grpSpPr>
          <a:xfrm>
            <a:off x="341280" y="2341440"/>
            <a:ext cx="8358120" cy="1602000"/>
            <a:chOff x="341280" y="2341440"/>
            <a:chExt cx="8358120" cy="1602000"/>
          </a:xfrm>
        </p:grpSpPr>
        <p:pic>
          <p:nvPicPr>
            <p:cNvPr id="228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341440"/>
              <a:ext cx="835812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7120" y="2357280"/>
              <a:ext cx="83296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Реальні дані “книгозабезпеченості” навчальних курсів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оступ  до М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1" name="Місце для вмісту 1"/>
          <p:cNvGrpSpPr/>
          <p:nvPr/>
        </p:nvGrpSpPr>
        <p:grpSpPr>
          <a:xfrm>
            <a:off x="341280" y="2127240"/>
            <a:ext cx="8358120" cy="2457360"/>
            <a:chOff x="341280" y="2127240"/>
            <a:chExt cx="8358120" cy="2457360"/>
          </a:xfrm>
        </p:grpSpPr>
        <p:pic>
          <p:nvPicPr>
            <p:cNvPr id="232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127240"/>
              <a:ext cx="83581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57120" y="2143080"/>
              <a:ext cx="83296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Через електронний каталог бібліотеки </a:t>
              </a:r>
              <a:r>
                <a:rPr b="1" lang="en-GB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http://194.44.142.55/F/?func=find-b-0&amp;local_base=cour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Через головну сторінку бібліотеки (</a:t>
              </a:r>
              <a:r>
                <a:rPr b="1" lang="uk-UA" sz="2800" spc="-1" strike="noStrike">
                  <a:solidFill>
                    <a:srgbClr val="c00000"/>
                  </a:solidFill>
                  <a:latin typeface="Constantia"/>
                </a:rPr>
                <a:t>вікно пошуку, закладка ”Матеріали до курсів”</a:t>
              </a: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9:21:06Z</dcterms:created>
  <dc:creator>lib</dc:creator>
  <dc:description/>
  <dc:language>en-US</dc:language>
  <cp:lastModifiedBy>lib</cp:lastModifiedBy>
  <dcterms:modified xsi:type="dcterms:W3CDTF">2011-09-21T08:17:00Z</dcterms:modified>
  <cp:revision>124</cp:revision>
  <dc:subject/>
  <dc:title>Матеріали до курсів –  на допомогу навчальному процесу</dc:title>
</cp:coreProperties>
</file>